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68D-ED58-4B2F-B2CB-5FF31F15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066-CA61-48E1-AB63-EFB2FB3A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09A-F60C-496E-BFC1-2A061B84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53E-D2CA-44B3-BE29-DA9229EE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4D0C-A6EE-4CD1-B4D1-34F0F378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BC39-63C6-429A-BC7E-CC871DA1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AD3E-3766-4329-9D36-9F22AE0A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51C8-5704-47EF-A320-B31A5EDB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321E-1C03-4CDC-840A-64D9130C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E3C1-3B33-41AB-A99C-0F1F08B6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FDBF-EE15-443B-8482-25F81B2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4FD-AE76-4CE3-A2BA-60BEEDB7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1C3C-1936-4299-BD7B-C38D3088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3709-E6C6-47A2-9BA6-0AFE873B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8DC9-D95E-4BCE-B7F4-6F1E9FCF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D5C9-C35B-45DF-8579-9D7A841A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EEB9-A46F-42A7-BE72-48BB7D27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10A-EBAB-49BB-88E2-BA7B7A3D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151-2B52-4FD7-ADDF-1B81F5A1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3EE-DB89-46C0-B6CA-94E3586F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888-DD21-476F-8EC8-2F1EEFF7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6BD-EDCA-4AFE-9560-81F766DC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43B-74A1-443E-B414-EC711CB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75B-8E4C-4FA8-A980-06B4F5B3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63EC-85D4-4B58-9603-1E10DC6D6F7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DBCE-5FF4-4FC7-8732-86515B1B543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619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«Формирование речевой культуры у детей дошкольного возраста»</a:t>
            </a:r>
            <a:endParaRPr b="1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501300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Из опыта работы воспитателя высшей квалификационной категории Солдаткиной Светланы Ивановны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17967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Конструктивная деятельность  на занятиях и в ходе самостоятельной деятельности детей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Развитие  грамматического строя речи, в процессе использования словесных игр.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«Живые слова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Формирование знаний у детей по обучению грамоте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ормирование словаря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Использование информационно – коммуникационных технологий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Использование информационно – коммуникационных технологий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Приобщение к художественной литературе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847960" cy="3781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24782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76360" y="1309680"/>
            <a:ext cx="575964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Воспитание интереса и любви к чтению;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развитие литературной речи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«По сказкам А.С. Пушкина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464000" cy="2950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64328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Воспитание желания и умения слушать художественные произведения, следить за развитием действия во время праздников, принимать участие в инсценировках сказок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580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НОТА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Речь — убранство души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уций Анней Сенека (младший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Непосредственное наблюдение и его разновидности      (наблюдение в природе, экскурсии); Экскурсии по родному городу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613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835280" y="3141720"/>
            <a:ext cx="633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ведени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. Д. Ушинский говорил, что родное слово является основой всякого умственного развития и сокровищницей всех знаний. Своевременное и правильное овладение ребенком речью является важнейшим условием полноценного психического развития и одним из направлений в педагогической работе дошкольного учреждения. Без хорошо развитой речи нет настоящего общения, нет подлинных успехов в учен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Основная цел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формирование у детей устной речи и навыков речевого общения с окружающими на основе овладения социально – коммуникативными навыками.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Задачи: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Владение речью как средством общения и культуры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богащение активного словар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Развитие связной, грамматически правильной диалогической монологической реч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Развитие речевого творчеств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Формирование звуковой аналитико-синтетической активности как предпосылки обучения грамоте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Развитие звуковой и интонационной культуры речи, фонематического слух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Знакомство с книжной культурой, детской литературой, понимание на слух текстов различных жанров детской литературы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Формирование звуковой аналитико-синтетической активности как предпосылки обучения грам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Через какую образовательную деятельность формируется культура речи у детей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Речевое развитие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витие свободного общения с взрослыми и детьми, овладение конструктивными способами и средствами взаимодействия с окружающи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витие всех компонентов устной речи детей: грамматического строя речи, связной речи – диалогической и монологической форм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формирование словаря, воспитание звуковой культуры ре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актическое овладение воспитанниками нормами ре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Методы и приемы: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Развитие диалогической и монологической форм речи в процессе театрализованной игры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.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76360" y="1739880"/>
            <a:ext cx="54720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Использование артикуляционной, эмоциональной гимнастики и других оздоровительных гимнастик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549360"/>
            <a:ext cx="87012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Воспитание звуковой культуры речи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в процессе использования игровых приемов, дидактической игры в ходе образовательной деятельности по развитию речи.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0:32:05Z</dcterms:created>
  <dc:creator>User</dc:creator>
  <dc:description/>
  <dc:language>en-US</dc:language>
  <cp:lastModifiedBy>User</cp:lastModifiedBy>
  <dcterms:modified xsi:type="dcterms:W3CDTF">2017-10-31T12:34:19Z</dcterms:modified>
  <cp:revision>10</cp:revision>
  <dc:subject/>
  <dc:title>Слайд 1</dc:title>
</cp:coreProperties>
</file>