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244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2784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326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278240" y="0"/>
            <a:ext cx="326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0155240"/>
            <a:ext cx="326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Num" idx="7"/>
          </p:nvPr>
        </p:nvSpPr>
        <p:spPr>
          <a:xfrm>
            <a:off x="4278240" y="10154880"/>
            <a:ext cx="326088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5BF133-28D2-4DDB-8B0F-BE7EC5B7833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278240" y="10155240"/>
            <a:ext cx="3265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51E8A4-6D88-4E87-9A0C-0564E8EA894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78240" y="10155240"/>
            <a:ext cx="326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ED46CD-C44A-43D6-9C4C-503329676FE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278240" y="10155240"/>
            <a:ext cx="3265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7EC0C4-756E-4962-B160-C288F61CEBA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9520" y="812880"/>
            <a:ext cx="5324760" cy="39942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396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278240" y="10155240"/>
            <a:ext cx="3265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AFC6B0-5D41-4C3A-B88F-AB99F17B46C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09520" y="812880"/>
            <a:ext cx="5324760" cy="39942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396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278240" y="10155240"/>
            <a:ext cx="3265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DE74CF-1ED6-4FB1-856D-9D53A22F21C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278240" y="10155240"/>
            <a:ext cx="326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41BECA-52B2-47BE-ACDE-0186A959FF9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EC3F8-443D-4D91-A7D2-B432F2C488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9080" cy="11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90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3160"/>
            <a:ext cx="82090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997B8-BE05-4AA3-A3B3-D07BBD61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9080" cy="11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316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3080" y="395316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A9B35-90D9-4777-A56D-250F5A6A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9080" cy="11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2440" y="159984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8040" y="159984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316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2440" y="395316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8040" y="395316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956E1-6A08-44D3-8B10-127D035940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C100CC-F870-4DD5-98F2-9BEBBF3492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9080" cy="11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0908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4B813D-81AA-4985-BA9B-D6C56E2E6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9080" cy="11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908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8AC754-D2E3-47A5-A231-3CF65F16D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9080" cy="11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57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40057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FA1CF2-409D-4F8F-9B68-6DB2D9A2A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9080" cy="11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7F2CD1-0597-42C4-A476-9657775A3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09080" cy="520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75F7D4-B91B-42B7-861A-706FED911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9080" cy="11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40057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95316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91C3F3-4595-482B-B963-FDEDC3AF1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9080" cy="11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0908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3F0FF-1361-4F2E-A913-55FBD2FB2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9080" cy="11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57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3080" y="395316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F50620-DD99-4CFB-B132-1EA2E1C7C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9080" cy="11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53160"/>
            <a:ext cx="82090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EF4A5E-C93E-42D3-BA04-421CA1926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9080" cy="11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90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953160"/>
            <a:ext cx="82090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20ADA8-2DDE-4358-906B-5860F9691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9080" cy="11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5316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3080" y="395316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76D6DA-05B2-4C39-B3A1-5F575D70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9080" cy="11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2440" y="159984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8040" y="159984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95316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2440" y="395316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8040" y="395316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BB6E2F-A3C4-423E-8E0C-C930DEBF89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AF329-E7AE-4477-A631-359E4FC3B3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9080" cy="11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0908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63B90-608E-454E-A221-8A61AEB82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9080" cy="11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908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D986A-B981-4270-8653-D8C2A9A8D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9080" cy="11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57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40057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70971-B7D3-466C-8DE5-DF24BDA8C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9080" cy="11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46DD4-220D-4A8E-95EA-A9183F4C3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9080" cy="11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908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E2B76-B547-4D3D-91DB-06878AB07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09080" cy="520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9E8C2-A00A-4350-862D-E3F165A6C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9080" cy="11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40057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6840" y="395316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16939-394B-427B-AA97-E678C6164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9080" cy="11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57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3080" y="395316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8DB9C-808F-4591-9009-1BB84380A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9080" cy="11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6840" y="3953160"/>
            <a:ext cx="82090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DF26B-6252-4140-828C-8536979E9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9080" cy="11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90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6840" y="3953160"/>
            <a:ext cx="82090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5A1CE-F125-4585-8248-A848DF9EA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9080" cy="11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6840" y="395316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3080" y="395316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06548-270C-41A4-BB84-430CE4C3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9080" cy="11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2440" y="159984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8040" y="159984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6840" y="395316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2440" y="395316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8040" y="395316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1F203-C40E-4B52-90BE-C2B80094CD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9080" cy="11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57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40057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06064-C928-4ED3-AFA0-3B36F11D8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9080" cy="11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C68A9-C65A-4FDF-A08F-A8F006ED7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09080" cy="520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D9BB4-AFE3-4E48-AABB-05D890BDF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9080" cy="11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40057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316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42EE6-632F-4B12-B753-74E923CCA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9080" cy="11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57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3080" y="395316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C2FDB-0458-4799-81F6-714088052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9080" cy="11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3160"/>
            <a:ext cx="82090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E82C9-C48E-4ABD-B460-A247A6986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9080" cy="11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0908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6000"/>
          </a:bodyPr>
          <a:p>
            <a:pPr marL="32904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12840" cy="3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8.10.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520"/>
            <a:ext cx="2113200" cy="3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4E5C57-83B9-4030-A1A5-036F14AE1395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130480"/>
            <a:ext cx="775188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456840" y="6356160"/>
            <a:ext cx="211284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24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18.10.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132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24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1762E4A-05F5-4229-A097-0EE1815CA89C}" type="slidenum">
              <a:rPr b="0" lang="ru-RU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0908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5880" indent="-3358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5880" indent="-3358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5880" indent="-3358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5880" indent="-3358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5880" indent="-3358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9080" cy="11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4017960" cy="360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12920" indent="-30816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12920"/>
                <a:tab algn="l" pos="860400"/>
                <a:tab algn="l" pos="1309680"/>
                <a:tab algn="l" pos="1758960"/>
                <a:tab algn="l" pos="2208240"/>
                <a:tab algn="l" pos="2657520"/>
                <a:tab algn="l" pos="3106800"/>
                <a:tab algn="l" pos="3556080"/>
                <a:tab algn="l" pos="4005360"/>
                <a:tab algn="l" pos="4454640"/>
                <a:tab algn="l" pos="4903920"/>
                <a:tab algn="l" pos="5353200"/>
                <a:tab algn="l" pos="5802480"/>
                <a:tab algn="l" pos="6251400"/>
                <a:tab algn="l" pos="6700680"/>
                <a:tab algn="l" pos="7149960"/>
                <a:tab algn="l" pos="7599240"/>
                <a:tab algn="l" pos="8048520"/>
                <a:tab algn="l" pos="8497800"/>
                <a:tab algn="l" pos="8947080"/>
                <a:tab algn="l" pos="9396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я правки структуры щелкните мышь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44560" indent="-31752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Font typeface="Symbol" charset="2"/>
              <a:buChar char=""/>
              <a:tabLst>
                <a:tab algn="l" pos="412920"/>
                <a:tab algn="l" pos="860400"/>
                <a:tab algn="l" pos="1309680"/>
                <a:tab algn="l" pos="1758960"/>
                <a:tab algn="l" pos="2208240"/>
                <a:tab algn="l" pos="2657520"/>
                <a:tab algn="l" pos="3106800"/>
                <a:tab algn="l" pos="3556080"/>
                <a:tab algn="l" pos="4005360"/>
                <a:tab algn="l" pos="4454640"/>
                <a:tab algn="l" pos="4903920"/>
                <a:tab algn="l" pos="5353200"/>
                <a:tab algn="l" pos="5802480"/>
                <a:tab algn="l" pos="6251400"/>
                <a:tab algn="l" pos="6700680"/>
                <a:tab algn="l" pos="7149960"/>
                <a:tab algn="l" pos="7599240"/>
                <a:tab algn="l" pos="8048520"/>
                <a:tab algn="l" pos="8497800"/>
                <a:tab algn="l" pos="8947080"/>
                <a:tab algn="l" pos="9396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Второй уровень структу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76200" indent="-28260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12920"/>
                <a:tab algn="l" pos="860400"/>
                <a:tab algn="l" pos="1309680"/>
                <a:tab algn="l" pos="1758960"/>
                <a:tab algn="l" pos="2208240"/>
                <a:tab algn="l" pos="2657520"/>
                <a:tab algn="l" pos="3106800"/>
                <a:tab algn="l" pos="3556080"/>
                <a:tab algn="l" pos="4005360"/>
                <a:tab algn="l" pos="4454640"/>
                <a:tab algn="l" pos="4903920"/>
                <a:tab algn="l" pos="5353200"/>
                <a:tab algn="l" pos="5802480"/>
                <a:tab algn="l" pos="6251400"/>
                <a:tab algn="l" pos="6700680"/>
                <a:tab algn="l" pos="7149960"/>
                <a:tab algn="l" pos="7599240"/>
                <a:tab algn="l" pos="8048520"/>
                <a:tab algn="l" pos="8497800"/>
                <a:tab algn="l" pos="8947080"/>
                <a:tab algn="l" pos="9396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Третий уровень структу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708200" indent="-19692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Font typeface="Symbol" charset="2"/>
              <a:buChar char=""/>
              <a:tabLst>
                <a:tab algn="l" pos="412920"/>
                <a:tab algn="l" pos="860400"/>
                <a:tab algn="l" pos="1309680"/>
                <a:tab algn="l" pos="1758960"/>
                <a:tab algn="l" pos="2208240"/>
                <a:tab algn="l" pos="2657520"/>
                <a:tab algn="l" pos="3106800"/>
                <a:tab algn="l" pos="3556080"/>
                <a:tab algn="l" pos="4005360"/>
                <a:tab algn="l" pos="4454640"/>
                <a:tab algn="l" pos="4903920"/>
                <a:tab algn="l" pos="5353200"/>
                <a:tab algn="l" pos="5802480"/>
                <a:tab algn="l" pos="6251400"/>
                <a:tab algn="l" pos="6700680"/>
                <a:tab algn="l" pos="7149960"/>
                <a:tab algn="l" pos="7599240"/>
                <a:tab algn="l" pos="8048520"/>
                <a:tab algn="l" pos="8497800"/>
                <a:tab algn="l" pos="8947080"/>
                <a:tab algn="l" pos="9396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Четвёртый уровень структу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39840" indent="-19836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12920"/>
                <a:tab algn="l" pos="860400"/>
                <a:tab algn="l" pos="1309680"/>
                <a:tab algn="l" pos="1758960"/>
                <a:tab algn="l" pos="2208240"/>
                <a:tab algn="l" pos="2657520"/>
                <a:tab algn="l" pos="3106800"/>
                <a:tab algn="l" pos="3556080"/>
                <a:tab algn="l" pos="4005360"/>
                <a:tab algn="l" pos="4454640"/>
                <a:tab algn="l" pos="4903920"/>
                <a:tab algn="l" pos="5353200"/>
                <a:tab algn="l" pos="5802480"/>
                <a:tab algn="l" pos="6251400"/>
                <a:tab algn="l" pos="6700680"/>
                <a:tab algn="l" pos="7149960"/>
                <a:tab algn="l" pos="7599240"/>
                <a:tab algn="l" pos="8048520"/>
                <a:tab algn="l" pos="8497800"/>
                <a:tab algn="l" pos="8947080"/>
                <a:tab algn="l" pos="9396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Пятый уровень структу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39840" indent="-19836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12920"/>
                <a:tab algn="l" pos="860400"/>
                <a:tab algn="l" pos="1309680"/>
                <a:tab algn="l" pos="1758960"/>
                <a:tab algn="l" pos="2208240"/>
                <a:tab algn="l" pos="2657520"/>
                <a:tab algn="l" pos="3106800"/>
                <a:tab algn="l" pos="3556080"/>
                <a:tab algn="l" pos="4005360"/>
                <a:tab algn="l" pos="4454640"/>
                <a:tab algn="l" pos="4903920"/>
                <a:tab algn="l" pos="5353200"/>
                <a:tab algn="l" pos="5802480"/>
                <a:tab algn="l" pos="6251400"/>
                <a:tab algn="l" pos="6700680"/>
                <a:tab algn="l" pos="7149960"/>
                <a:tab algn="l" pos="7599240"/>
                <a:tab algn="l" pos="8048520"/>
                <a:tab algn="l" pos="8497800"/>
                <a:tab algn="l" pos="8947080"/>
                <a:tab algn="l" pos="9396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Шестой уровень структу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39840" indent="-19836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12920"/>
                <a:tab algn="l" pos="860400"/>
                <a:tab algn="l" pos="1309680"/>
                <a:tab algn="l" pos="1758960"/>
                <a:tab algn="l" pos="2208240"/>
                <a:tab algn="l" pos="2657520"/>
                <a:tab algn="l" pos="3106800"/>
                <a:tab algn="l" pos="3556080"/>
                <a:tab algn="l" pos="4005360"/>
                <a:tab algn="l" pos="4454640"/>
                <a:tab algn="l" pos="4903920"/>
                <a:tab algn="l" pos="5353200"/>
                <a:tab algn="l" pos="5802480"/>
                <a:tab algn="l" pos="6251400"/>
                <a:tab algn="l" pos="6700680"/>
                <a:tab algn="l" pos="7149960"/>
                <a:tab algn="l" pos="7599240"/>
                <a:tab algn="l" pos="8048520"/>
                <a:tab algn="l" pos="8497800"/>
                <a:tab algn="l" pos="8947080"/>
                <a:tab algn="l" pos="9396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Седьмой уровень структу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39840" indent="-19836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12920"/>
                <a:tab algn="l" pos="860400"/>
                <a:tab algn="l" pos="1309680"/>
                <a:tab algn="l" pos="1758960"/>
                <a:tab algn="l" pos="2208240"/>
                <a:tab algn="l" pos="2657520"/>
                <a:tab algn="l" pos="3106800"/>
                <a:tab algn="l" pos="3556080"/>
                <a:tab algn="l" pos="4005360"/>
                <a:tab algn="l" pos="4454640"/>
                <a:tab algn="l" pos="4903920"/>
                <a:tab algn="l" pos="5353200"/>
                <a:tab algn="l" pos="5802480"/>
                <a:tab algn="l" pos="6251400"/>
                <a:tab algn="l" pos="6700680"/>
                <a:tab algn="l" pos="7149960"/>
                <a:tab algn="l" pos="7599240"/>
                <a:tab algn="l" pos="8048520"/>
                <a:tab algn="l" pos="8497800"/>
                <a:tab algn="l" pos="8947080"/>
                <a:tab algn="l" pos="9396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Восьмой уровень структу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2920" indent="-30816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12920"/>
                <a:tab algn="l" pos="860400"/>
                <a:tab algn="l" pos="1309680"/>
                <a:tab algn="l" pos="1758960"/>
                <a:tab algn="l" pos="2208240"/>
                <a:tab algn="l" pos="2657520"/>
                <a:tab algn="l" pos="3106800"/>
                <a:tab algn="l" pos="3556080"/>
                <a:tab algn="l" pos="4005360"/>
                <a:tab algn="l" pos="4454640"/>
                <a:tab algn="l" pos="4903920"/>
                <a:tab algn="l" pos="5353200"/>
                <a:tab algn="l" pos="5802480"/>
                <a:tab algn="l" pos="6251400"/>
                <a:tab algn="l" pos="6700680"/>
                <a:tab algn="l" pos="7149960"/>
                <a:tab algn="l" pos="7599240"/>
                <a:tab algn="l" pos="8048520"/>
                <a:tab algn="l" pos="8497800"/>
                <a:tab algn="l" pos="8947080"/>
                <a:tab algn="l" pos="9396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евятый уровень структурыОбразец текс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44560" indent="-31752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–"/>
              <a:tabLst>
                <a:tab algn="l" pos="412920"/>
                <a:tab algn="l" pos="860400"/>
                <a:tab algn="l" pos="1309680"/>
                <a:tab algn="l" pos="1758960"/>
                <a:tab algn="l" pos="2208240"/>
                <a:tab algn="l" pos="2657520"/>
                <a:tab algn="l" pos="3106800"/>
                <a:tab algn="l" pos="3556080"/>
                <a:tab algn="l" pos="4005360"/>
                <a:tab algn="l" pos="4454640"/>
                <a:tab algn="l" pos="4903920"/>
                <a:tab algn="l" pos="5353200"/>
                <a:tab algn="l" pos="5802480"/>
                <a:tab algn="l" pos="6251400"/>
                <a:tab algn="l" pos="6700680"/>
                <a:tab algn="l" pos="7149960"/>
                <a:tab algn="l" pos="7599240"/>
                <a:tab algn="l" pos="8048520"/>
                <a:tab algn="l" pos="8497800"/>
                <a:tab algn="l" pos="8947080"/>
                <a:tab algn="l" pos="9396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Второй уров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76200" indent="-282600">
              <a:lnSpc>
                <a:spcPct val="100000"/>
              </a:lnSpc>
              <a:spcBef>
                <a:spcPts val="400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12920"/>
                <a:tab algn="l" pos="860400"/>
                <a:tab algn="l" pos="1309680"/>
                <a:tab algn="l" pos="1758960"/>
                <a:tab algn="l" pos="2208240"/>
                <a:tab algn="l" pos="2657520"/>
                <a:tab algn="l" pos="3106800"/>
                <a:tab algn="l" pos="3556080"/>
                <a:tab algn="l" pos="4005360"/>
                <a:tab algn="l" pos="4454640"/>
                <a:tab algn="l" pos="4903920"/>
                <a:tab algn="l" pos="5353200"/>
                <a:tab algn="l" pos="5802480"/>
                <a:tab algn="l" pos="6251400"/>
                <a:tab algn="l" pos="6700680"/>
                <a:tab algn="l" pos="7149960"/>
                <a:tab algn="l" pos="7599240"/>
                <a:tab algn="l" pos="8048520"/>
                <a:tab algn="l" pos="8497800"/>
                <a:tab algn="l" pos="8947080"/>
                <a:tab algn="l" pos="9396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Третий уровен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08200" indent="-196920">
              <a:lnSpc>
                <a:spcPct val="100000"/>
              </a:lnSpc>
              <a:spcBef>
                <a:spcPts val="363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–"/>
              <a:tabLst>
                <a:tab algn="l" pos="412920"/>
                <a:tab algn="l" pos="860400"/>
                <a:tab algn="l" pos="1309680"/>
                <a:tab algn="l" pos="1758960"/>
                <a:tab algn="l" pos="2208240"/>
                <a:tab algn="l" pos="2657520"/>
                <a:tab algn="l" pos="3106800"/>
                <a:tab algn="l" pos="3556080"/>
                <a:tab algn="l" pos="4005360"/>
                <a:tab algn="l" pos="4454640"/>
                <a:tab algn="l" pos="4903920"/>
                <a:tab algn="l" pos="5353200"/>
                <a:tab algn="l" pos="5802480"/>
                <a:tab algn="l" pos="6251400"/>
                <a:tab algn="l" pos="6700680"/>
                <a:tab algn="l" pos="7149960"/>
                <a:tab algn="l" pos="7599240"/>
                <a:tab algn="l" pos="8048520"/>
                <a:tab algn="l" pos="8497800"/>
                <a:tab algn="l" pos="8947080"/>
                <a:tab algn="l" pos="9396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Microsoft YaHei"/>
              </a:rPr>
              <a:t>Четвертый уров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139840" indent="-198360">
              <a:lnSpc>
                <a:spcPct val="100000"/>
              </a:lnSpc>
              <a:spcBef>
                <a:spcPts val="363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»"/>
              <a:tabLst>
                <a:tab algn="l" pos="412920"/>
                <a:tab algn="l" pos="860400"/>
                <a:tab algn="l" pos="1309680"/>
                <a:tab algn="l" pos="1758960"/>
                <a:tab algn="l" pos="2208240"/>
                <a:tab algn="l" pos="2657520"/>
                <a:tab algn="l" pos="3106800"/>
                <a:tab algn="l" pos="3556080"/>
                <a:tab algn="l" pos="4005360"/>
                <a:tab algn="l" pos="4454640"/>
                <a:tab algn="l" pos="4903920"/>
                <a:tab algn="l" pos="5353200"/>
                <a:tab algn="l" pos="5802480"/>
                <a:tab algn="l" pos="6251400"/>
                <a:tab algn="l" pos="6700680"/>
                <a:tab algn="l" pos="7149960"/>
                <a:tab algn="l" pos="7599240"/>
                <a:tab algn="l" pos="8048520"/>
                <a:tab algn="l" pos="8497800"/>
                <a:tab algn="l" pos="8947080"/>
                <a:tab algn="l" pos="9396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Microsoft YaHei"/>
              </a:rPr>
              <a:t>Пятый уров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5"/>
          </p:nvPr>
        </p:nvSpPr>
        <p:spPr>
          <a:xfrm>
            <a:off x="456840" y="6356160"/>
            <a:ext cx="211284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24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18.10.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132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24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770ACAC-8DB9-4DAB-8B53-3B7B99228D74}" type="slidenum">
              <a:rPr b="0" lang="ru-RU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85800" y="1557360"/>
            <a:ext cx="777240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Today is the 9th 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of September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2400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e46c0a"/>
                </a:solidFill>
                <a:latin typeface="Times New Roman"/>
              </a:rPr>
              <a:t>It’s Satursday.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24000" y="2376360"/>
            <a:ext cx="2124000" cy="2087640"/>
          </a:xfrm>
          <a:prstGeom prst="roundRect">
            <a:avLst>
              <a:gd name="adj" fmla="val 315"/>
            </a:avLst>
          </a:prstGeom>
          <a:solidFill>
            <a:srgbClr val="cfe7f5"/>
          </a:solidFill>
          <a:ln cap="sq"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000080"/>
                </a:solidFill>
                <a:latin typeface="Arial"/>
              </a:rPr>
              <a:t>-s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95640" y="2016000"/>
            <a:ext cx="1297080" cy="1008360"/>
          </a:xfrm>
          <a:prstGeom prst="roundRect">
            <a:avLst>
              <a:gd name="adj" fmla="val 315"/>
            </a:avLst>
          </a:prstGeom>
          <a:solidFill>
            <a:srgbClr val="cfe7f5"/>
          </a:solidFill>
          <a:ln cap="sq"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80"/>
                </a:solidFill>
                <a:latin typeface="Arial"/>
                <a:ea typeface="Arial"/>
              </a:rPr>
              <a:t>[</a:t>
            </a:r>
            <a:r>
              <a:rPr b="1" lang="ru-RU" sz="4800" spc="-1" strike="noStrike">
                <a:solidFill>
                  <a:srgbClr val="000080"/>
                </a:solidFill>
                <a:latin typeface="Arial"/>
              </a:rPr>
              <a:t>s</a:t>
            </a:r>
            <a:r>
              <a:rPr b="1" lang="ru-RU" sz="4800" spc="-1" strike="noStrike">
                <a:solidFill>
                  <a:srgbClr val="000080"/>
                </a:solidFill>
                <a:latin typeface="Arial"/>
                <a:ea typeface="Arial"/>
              </a:rPr>
              <a:t>]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2448000" y="3019320"/>
            <a:ext cx="647640" cy="44136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67280" y="2268360"/>
            <a:ext cx="3529080" cy="432000"/>
          </a:xfrm>
          <a:prstGeom prst="roundRect">
            <a:avLst>
              <a:gd name="adj" fmla="val 366"/>
            </a:avLst>
          </a:prstGeom>
          <a:solidFill>
            <a:srgbClr val="ffffff"/>
          </a:solidFill>
          <a:ln cap="sq"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s, boo</a:t>
            </a: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s, des</a:t>
            </a: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3492360"/>
            <a:ext cx="3529080" cy="432000"/>
          </a:xfrm>
          <a:prstGeom prst="roundRect">
            <a:avLst>
              <a:gd name="adj" fmla="val 366"/>
            </a:avLst>
          </a:prstGeom>
          <a:solidFill>
            <a:srgbClr val="ffffff"/>
          </a:solidFill>
          <a:ln cap="sq"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Pe</a:t>
            </a: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s, do</a:t>
            </a: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s, rul</a:t>
            </a: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er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824360" y="4753080"/>
            <a:ext cx="4032360" cy="431640"/>
          </a:xfrm>
          <a:prstGeom prst="roundRect">
            <a:avLst>
              <a:gd name="adj" fmla="val 366"/>
            </a:avLst>
          </a:prstGeom>
          <a:solidFill>
            <a:srgbClr val="ffffff"/>
          </a:solidFill>
          <a:ln cap="sq"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Fo</a:t>
            </a: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es, bo</a:t>
            </a: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es, bru</a:t>
            </a: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sh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24000" y="576360"/>
            <a:ext cx="6696000" cy="1008000"/>
          </a:xfrm>
          <a:prstGeom prst="roundRect">
            <a:avLst>
              <a:gd name="adj" fmla="val 157"/>
            </a:avLst>
          </a:prstGeom>
          <a:noFill/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How we read  </a:t>
            </a: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-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095640" y="3240000"/>
            <a:ext cx="1297080" cy="1008000"/>
          </a:xfrm>
          <a:prstGeom prst="roundRect">
            <a:avLst>
              <a:gd name="adj" fmla="val 315"/>
            </a:avLst>
          </a:prstGeom>
          <a:solidFill>
            <a:srgbClr val="cfe7f5"/>
          </a:solidFill>
          <a:ln cap="sq"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80"/>
                </a:solidFill>
                <a:latin typeface="Arial"/>
                <a:ea typeface="Arial"/>
              </a:rPr>
              <a:t>[z]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95640" y="4464000"/>
            <a:ext cx="1297080" cy="1008000"/>
          </a:xfrm>
          <a:prstGeom prst="roundRect">
            <a:avLst>
              <a:gd name="adj" fmla="val 315"/>
            </a:avLst>
          </a:prstGeom>
          <a:solidFill>
            <a:srgbClr val="cfe7f5"/>
          </a:solidFill>
          <a:ln cap="sq"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80"/>
                </a:solidFill>
                <a:latin typeface="Arial"/>
                <a:ea typeface="Arial"/>
              </a:rPr>
              <a:t>[iz]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48000" y="3743280"/>
            <a:ext cx="72072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41520" y="3995640"/>
            <a:ext cx="654120" cy="46836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688000" y="792000"/>
            <a:ext cx="720720" cy="648000"/>
          </a:xfrm>
          <a:prstGeom prst="roundRect">
            <a:avLst>
              <a:gd name="adj" fmla="val 241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163440" y="596880"/>
          <a:ext cx="8836200" cy="5748480"/>
        </p:xfrm>
        <a:graphic>
          <a:graphicData uri="http://schemas.openxmlformats.org/drawingml/2006/table">
            <a:tbl>
              <a:tblPr/>
              <a:tblGrid>
                <a:gridCol w="2583720"/>
                <a:gridCol w="3063600"/>
                <a:gridCol w="3188880"/>
              </a:tblGrid>
              <a:tr h="766800">
                <a:tc>
                  <a:txBody>
                    <a:bodyPr lIns="90000" rIns="90000" tIns="20124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magazin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0124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'mægəzin]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131400" bIns="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журнал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7160">
                <a:tc>
                  <a:txBody>
                    <a:bodyPr lIns="90000" rIns="90000" tIns="20124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sharpene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0124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'ʃa:pənə]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131400" bIns="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точилка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6800">
                <a:tc>
                  <a:txBody>
                    <a:bodyPr lIns="90000" rIns="90000" tIns="20124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hairbrush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06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'hɛəbra:ʃ]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131400" bIns="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расчёска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03520">
                <a:tc>
                  <a:txBody>
                    <a:bodyPr lIns="90000" rIns="90000" tIns="22068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swee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06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'swi:t]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131400" bIns="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конфета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6800">
                <a:tc>
                  <a:txBody>
                    <a:bodyPr lIns="90000" rIns="90000" tIns="20124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rubbe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0124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'r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Ʌ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ə]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131400" bIns="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ластик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03520">
                <a:tc>
                  <a:txBody>
                    <a:bodyPr lIns="90000" rIns="90000" tIns="22068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poste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1744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'pəustə]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131400" bIns="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плакат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74960">
                <a:tc>
                  <a:txBody>
                    <a:bodyPr lIns="90000" rIns="90000" tIns="20124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homework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06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'həumwə:k]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131400" bIns="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домашнее задание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156360" y="4076640"/>
            <a:ext cx="2743200" cy="26211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5760" y="2421000"/>
            <a:ext cx="655164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2256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2256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Т с.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2256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.8 у.2 cлова учить и в словарь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2256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. 17 знать правила (1 столбик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309600" y="168120"/>
            <a:ext cx="4495680" cy="2847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7T14:50:34Z</dcterms:created>
  <dc:creator/>
  <dc:description/>
  <dc:language>en-US</dc:language>
  <cp:lastModifiedBy>Гость</cp:lastModifiedBy>
  <dcterms:modified xsi:type="dcterms:W3CDTF">2016-11-23T10:13:48Z</dcterms:modified>
  <cp:revision>6</cp:revision>
  <dc:subject/>
  <dc:title>Today is the 21st   of November.</dc:title>
</cp:coreProperties>
</file>