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9DF-D040-4069-B3D1-ED24FB25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ECC-B84F-4442-8F23-B1F47429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47D-5CE8-48ED-85CB-EBCA218B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0CB-0C7A-49D4-B642-C670052E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203-9201-4930-A7FE-DAB5BEAB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D72-A0FF-4370-893D-4F58D0E3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0DC-AC7F-4F5B-8CA6-61F5EE1B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66D-5C58-4F34-BDD4-47B8FAD7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D3E-B3BB-4C96-A3EC-A04C54E5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680-7477-408B-8B04-D7D59FEB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34E-EB83-4FF3-9990-C4A03ECF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926-B3C6-4C49-BCC3-9F31936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53748-BD9F-4A95-986F-672575528C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79280"/>
            <a:ext cx="10077480" cy="717840"/>
            <a:chOff x="0" y="179280"/>
            <a:chExt cx="10077480" cy="717840"/>
          </a:xfrm>
        </p:grpSpPr>
        <p:sp>
          <p:nvSpPr>
            <p:cNvPr id="42" name=""/>
            <p:cNvSpPr/>
            <p:nvPr/>
          </p:nvSpPr>
          <p:spPr>
            <a:xfrm>
              <a:off x="0" y="17928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5964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537120"/>
              <a:ext cx="10075680" cy="360"/>
              <a:chOff x="0" y="537120"/>
              <a:chExt cx="10075680" cy="360"/>
            </a:xfrm>
          </p:grpSpPr>
          <p:sp>
            <p:nvSpPr>
              <p:cNvPr id="45" name=""/>
              <p:cNvSpPr/>
              <p:nvPr/>
            </p:nvSpPr>
            <p:spPr>
              <a:xfrm>
                <a:off x="5434560" y="53712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53712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0" y="717840"/>
              <a:ext cx="10075680" cy="360"/>
              <a:chOff x="0" y="717840"/>
              <a:chExt cx="10075680" cy="360"/>
            </a:xfrm>
          </p:grpSpPr>
          <p:sp>
            <p:nvSpPr>
              <p:cNvPr id="48" name=""/>
              <p:cNvSpPr/>
              <p:nvPr/>
            </p:nvSpPr>
            <p:spPr>
              <a:xfrm>
                <a:off x="5434560" y="71784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71784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0" y="896760"/>
              <a:ext cx="10075680" cy="360"/>
              <a:chOff x="0" y="896760"/>
              <a:chExt cx="10075680" cy="360"/>
            </a:xfrm>
          </p:grpSpPr>
          <p:sp>
            <p:nvSpPr>
              <p:cNvPr id="51" name=""/>
              <p:cNvSpPr/>
              <p:nvPr/>
            </p:nvSpPr>
            <p:spPr>
              <a:xfrm>
                <a:off x="5434560" y="89676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89676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0" y="1079640"/>
            <a:ext cx="10077480" cy="717840"/>
            <a:chOff x="0" y="1079640"/>
            <a:chExt cx="10077480" cy="717840"/>
          </a:xfrm>
        </p:grpSpPr>
        <p:sp>
          <p:nvSpPr>
            <p:cNvPr id="54" name=""/>
            <p:cNvSpPr/>
            <p:nvPr/>
          </p:nvSpPr>
          <p:spPr>
            <a:xfrm>
              <a:off x="0" y="107964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25856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437480"/>
              <a:ext cx="10075680" cy="360"/>
              <a:chOff x="0" y="1437480"/>
              <a:chExt cx="10075680" cy="360"/>
            </a:xfrm>
          </p:grpSpPr>
          <p:sp>
            <p:nvSpPr>
              <p:cNvPr id="57" name=""/>
              <p:cNvSpPr/>
              <p:nvPr/>
            </p:nvSpPr>
            <p:spPr>
              <a:xfrm>
                <a:off x="5434560" y="143748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43748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0" y="1616760"/>
              <a:ext cx="10075680" cy="360"/>
              <a:chOff x="0" y="1616760"/>
              <a:chExt cx="10075680" cy="360"/>
            </a:xfrm>
          </p:grpSpPr>
          <p:sp>
            <p:nvSpPr>
              <p:cNvPr id="60" name=""/>
              <p:cNvSpPr/>
              <p:nvPr/>
            </p:nvSpPr>
            <p:spPr>
              <a:xfrm>
                <a:off x="5434560" y="161676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161676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0" y="1797120"/>
              <a:ext cx="10075680" cy="360"/>
              <a:chOff x="0" y="1797120"/>
              <a:chExt cx="10075680" cy="360"/>
            </a:xfrm>
          </p:grpSpPr>
          <p:sp>
            <p:nvSpPr>
              <p:cNvPr id="63" name=""/>
              <p:cNvSpPr/>
              <p:nvPr/>
            </p:nvSpPr>
            <p:spPr>
              <a:xfrm>
                <a:off x="5434560" y="179712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179712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0" y="1979640"/>
            <a:ext cx="10077480" cy="717840"/>
            <a:chOff x="0" y="1979640"/>
            <a:chExt cx="10077480" cy="717840"/>
          </a:xfrm>
        </p:grpSpPr>
        <p:sp>
          <p:nvSpPr>
            <p:cNvPr id="66" name=""/>
            <p:cNvSpPr/>
            <p:nvPr/>
          </p:nvSpPr>
          <p:spPr>
            <a:xfrm>
              <a:off x="0" y="197964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16000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0" y="2338920"/>
              <a:ext cx="10075680" cy="360"/>
              <a:chOff x="0" y="2338920"/>
              <a:chExt cx="10075680" cy="360"/>
            </a:xfrm>
          </p:grpSpPr>
          <p:sp>
            <p:nvSpPr>
              <p:cNvPr id="69" name=""/>
              <p:cNvSpPr/>
              <p:nvPr/>
            </p:nvSpPr>
            <p:spPr>
              <a:xfrm>
                <a:off x="5434560" y="233892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33892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0" y="2516400"/>
              <a:ext cx="10075680" cy="360"/>
              <a:chOff x="0" y="2516400"/>
              <a:chExt cx="10075680" cy="360"/>
            </a:xfrm>
          </p:grpSpPr>
          <p:sp>
            <p:nvSpPr>
              <p:cNvPr id="72" name=""/>
              <p:cNvSpPr/>
              <p:nvPr/>
            </p:nvSpPr>
            <p:spPr>
              <a:xfrm>
                <a:off x="5434560" y="251640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251640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0" y="2697120"/>
              <a:ext cx="10075680" cy="360"/>
              <a:chOff x="0" y="2697120"/>
              <a:chExt cx="10075680" cy="360"/>
            </a:xfrm>
          </p:grpSpPr>
          <p:sp>
            <p:nvSpPr>
              <p:cNvPr id="75" name=""/>
              <p:cNvSpPr/>
              <p:nvPr/>
            </p:nvSpPr>
            <p:spPr>
              <a:xfrm>
                <a:off x="5434560" y="269712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269712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0" y="2879640"/>
            <a:ext cx="10077480" cy="717840"/>
            <a:chOff x="0" y="2879640"/>
            <a:chExt cx="10077480" cy="717840"/>
          </a:xfrm>
        </p:grpSpPr>
        <p:sp>
          <p:nvSpPr>
            <p:cNvPr id="78" name=""/>
            <p:cNvSpPr/>
            <p:nvPr/>
          </p:nvSpPr>
          <p:spPr>
            <a:xfrm>
              <a:off x="0" y="287964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06000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0" y="3237480"/>
              <a:ext cx="10075680" cy="360"/>
              <a:chOff x="0" y="3237480"/>
              <a:chExt cx="10075680" cy="360"/>
            </a:xfrm>
          </p:grpSpPr>
          <p:sp>
            <p:nvSpPr>
              <p:cNvPr id="81" name=""/>
              <p:cNvSpPr/>
              <p:nvPr/>
            </p:nvSpPr>
            <p:spPr>
              <a:xfrm>
                <a:off x="5434560" y="323748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323748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0" y="3416400"/>
              <a:ext cx="10075680" cy="360"/>
              <a:chOff x="0" y="3416400"/>
              <a:chExt cx="10075680" cy="360"/>
            </a:xfrm>
          </p:grpSpPr>
          <p:sp>
            <p:nvSpPr>
              <p:cNvPr id="84" name=""/>
              <p:cNvSpPr/>
              <p:nvPr/>
            </p:nvSpPr>
            <p:spPr>
              <a:xfrm>
                <a:off x="5434560" y="341640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341640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0" y="3597120"/>
              <a:ext cx="10075680" cy="360"/>
              <a:chOff x="0" y="3597120"/>
              <a:chExt cx="10075680" cy="360"/>
            </a:xfrm>
          </p:grpSpPr>
          <p:sp>
            <p:nvSpPr>
              <p:cNvPr id="87" name=""/>
              <p:cNvSpPr/>
              <p:nvPr/>
            </p:nvSpPr>
            <p:spPr>
              <a:xfrm>
                <a:off x="5434560" y="359712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59712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0" y="3780000"/>
            <a:ext cx="10077480" cy="717840"/>
            <a:chOff x="0" y="3780000"/>
            <a:chExt cx="10077480" cy="717840"/>
          </a:xfrm>
        </p:grpSpPr>
        <p:sp>
          <p:nvSpPr>
            <p:cNvPr id="90" name=""/>
            <p:cNvSpPr/>
            <p:nvPr/>
          </p:nvSpPr>
          <p:spPr>
            <a:xfrm>
              <a:off x="0" y="378000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95892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0" y="4137840"/>
              <a:ext cx="10075680" cy="360"/>
              <a:chOff x="0" y="4137840"/>
              <a:chExt cx="10075680" cy="360"/>
            </a:xfrm>
          </p:grpSpPr>
          <p:sp>
            <p:nvSpPr>
              <p:cNvPr id="93" name=""/>
              <p:cNvSpPr/>
              <p:nvPr/>
            </p:nvSpPr>
            <p:spPr>
              <a:xfrm>
                <a:off x="5434560" y="413784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13784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0" y="4316760"/>
              <a:ext cx="10075680" cy="360"/>
              <a:chOff x="0" y="4316760"/>
              <a:chExt cx="10075680" cy="360"/>
            </a:xfrm>
          </p:grpSpPr>
          <p:sp>
            <p:nvSpPr>
              <p:cNvPr id="96" name=""/>
              <p:cNvSpPr/>
              <p:nvPr/>
            </p:nvSpPr>
            <p:spPr>
              <a:xfrm>
                <a:off x="5434560" y="431676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431676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0" y="4497480"/>
              <a:ext cx="10075680" cy="360"/>
              <a:chOff x="0" y="4497480"/>
              <a:chExt cx="10075680" cy="360"/>
            </a:xfrm>
          </p:grpSpPr>
          <p:sp>
            <p:nvSpPr>
              <p:cNvPr id="99" name=""/>
              <p:cNvSpPr/>
              <p:nvPr/>
            </p:nvSpPr>
            <p:spPr>
              <a:xfrm>
                <a:off x="5434560" y="449748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449748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0" y="4680000"/>
            <a:ext cx="10077480" cy="717840"/>
            <a:chOff x="0" y="4680000"/>
            <a:chExt cx="10077480" cy="717840"/>
          </a:xfrm>
        </p:grpSpPr>
        <p:sp>
          <p:nvSpPr>
            <p:cNvPr id="102" name=""/>
            <p:cNvSpPr/>
            <p:nvPr/>
          </p:nvSpPr>
          <p:spPr>
            <a:xfrm>
              <a:off x="0" y="468000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85892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0" y="5037840"/>
              <a:ext cx="10075680" cy="360"/>
              <a:chOff x="0" y="5037840"/>
              <a:chExt cx="10075680" cy="360"/>
            </a:xfrm>
          </p:grpSpPr>
          <p:sp>
            <p:nvSpPr>
              <p:cNvPr id="105" name=""/>
              <p:cNvSpPr/>
              <p:nvPr/>
            </p:nvSpPr>
            <p:spPr>
              <a:xfrm>
                <a:off x="5434560" y="503784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03784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0" y="5217120"/>
              <a:ext cx="10075680" cy="360"/>
              <a:chOff x="0" y="5217120"/>
              <a:chExt cx="10075680" cy="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434560" y="521712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521712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0" y="5397480"/>
              <a:ext cx="10075680" cy="360"/>
              <a:chOff x="0" y="5397480"/>
              <a:chExt cx="10075680" cy="360"/>
            </a:xfrm>
          </p:grpSpPr>
          <p:sp>
            <p:nvSpPr>
              <p:cNvPr id="111" name=""/>
              <p:cNvSpPr/>
              <p:nvPr/>
            </p:nvSpPr>
            <p:spPr>
              <a:xfrm>
                <a:off x="5434560" y="539748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9748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0" y="5580000"/>
            <a:ext cx="10077480" cy="717840"/>
            <a:chOff x="0" y="5580000"/>
            <a:chExt cx="10077480" cy="717840"/>
          </a:xfrm>
        </p:grpSpPr>
        <p:sp>
          <p:nvSpPr>
            <p:cNvPr id="114" name=""/>
            <p:cNvSpPr/>
            <p:nvPr/>
          </p:nvSpPr>
          <p:spPr>
            <a:xfrm>
              <a:off x="0" y="558000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75856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5939280"/>
              <a:ext cx="10075680" cy="360"/>
              <a:chOff x="0" y="5939280"/>
              <a:chExt cx="10075680" cy="360"/>
            </a:xfrm>
          </p:grpSpPr>
          <p:sp>
            <p:nvSpPr>
              <p:cNvPr id="117" name=""/>
              <p:cNvSpPr/>
              <p:nvPr/>
            </p:nvSpPr>
            <p:spPr>
              <a:xfrm>
                <a:off x="5434560" y="593928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593928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6116760"/>
              <a:ext cx="10075680" cy="360"/>
              <a:chOff x="0" y="6116760"/>
              <a:chExt cx="10075680" cy="360"/>
            </a:xfrm>
          </p:grpSpPr>
          <p:sp>
            <p:nvSpPr>
              <p:cNvPr id="120" name=""/>
              <p:cNvSpPr/>
              <p:nvPr/>
            </p:nvSpPr>
            <p:spPr>
              <a:xfrm>
                <a:off x="5434560" y="611676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611676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6297480"/>
              <a:ext cx="10075680" cy="360"/>
              <a:chOff x="0" y="6297480"/>
              <a:chExt cx="10075680" cy="360"/>
            </a:xfrm>
          </p:grpSpPr>
          <p:sp>
            <p:nvSpPr>
              <p:cNvPr id="123" name=""/>
              <p:cNvSpPr/>
              <p:nvPr/>
            </p:nvSpPr>
            <p:spPr>
              <a:xfrm>
                <a:off x="5434560" y="629748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29748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0" y="6480000"/>
            <a:ext cx="10077480" cy="718200"/>
            <a:chOff x="0" y="6480000"/>
            <a:chExt cx="10077480" cy="718200"/>
          </a:xfrm>
        </p:grpSpPr>
        <p:sp>
          <p:nvSpPr>
            <p:cNvPr id="126" name=""/>
            <p:cNvSpPr/>
            <p:nvPr/>
          </p:nvSpPr>
          <p:spPr>
            <a:xfrm>
              <a:off x="0" y="648000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6659280"/>
              <a:ext cx="100774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0" y="6839280"/>
              <a:ext cx="10075680" cy="360"/>
              <a:chOff x="0" y="6839280"/>
              <a:chExt cx="10075680" cy="360"/>
            </a:xfrm>
          </p:grpSpPr>
          <p:sp>
            <p:nvSpPr>
              <p:cNvPr id="129" name=""/>
              <p:cNvSpPr/>
              <p:nvPr/>
            </p:nvSpPr>
            <p:spPr>
              <a:xfrm>
                <a:off x="5434560" y="683928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83928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7018560"/>
              <a:ext cx="10075680" cy="360"/>
              <a:chOff x="0" y="7018560"/>
              <a:chExt cx="10075680" cy="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434560" y="701856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701856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7197840"/>
              <a:ext cx="10075680" cy="360"/>
              <a:chOff x="0" y="7197840"/>
              <a:chExt cx="10075680" cy="360"/>
            </a:xfrm>
          </p:grpSpPr>
          <p:sp>
            <p:nvSpPr>
              <p:cNvPr id="135" name=""/>
              <p:cNvSpPr/>
              <p:nvPr/>
            </p:nvSpPr>
            <p:spPr>
              <a:xfrm>
                <a:off x="5434560" y="7197840"/>
                <a:ext cx="4641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7197840"/>
                <a:ext cx="5434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10134720"/>
                    <a:tab algn="l" pos="10858680"/>
                    <a:tab algn="l" pos="115822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03280" y="5580000"/>
            <a:ext cx="299880" cy="279360"/>
            <a:chOff x="503280" y="5580000"/>
            <a:chExt cx="299880" cy="279360"/>
          </a:xfrm>
        </p:grpSpPr>
        <p:sp>
          <p:nvSpPr>
            <p:cNvPr id="198" name=""/>
            <p:cNvSpPr/>
            <p:nvPr/>
          </p:nvSpPr>
          <p:spPr>
            <a:xfrm>
              <a:off x="503280" y="5595840"/>
              <a:ext cx="2826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0560" y="5580000"/>
              <a:ext cx="2826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03280" y="1717560"/>
            <a:ext cx="299880" cy="279360"/>
            <a:chOff x="503280" y="1717560"/>
            <a:chExt cx="299880" cy="279360"/>
          </a:xfrm>
        </p:grpSpPr>
        <p:sp>
          <p:nvSpPr>
            <p:cNvPr id="201" name=""/>
            <p:cNvSpPr/>
            <p:nvPr/>
          </p:nvSpPr>
          <p:spPr>
            <a:xfrm>
              <a:off x="503280" y="1735200"/>
              <a:ext cx="28260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0560" y="1717560"/>
              <a:ext cx="282600" cy="2620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83;&#1072;&#1074;&#1103;&#1085;&#1089;&#1082;&#1080;&#1077;_&#1103;&#1079;&#1099;&#1082;&#1080;" TargetMode="External"/><Relationship Id="rId2" Type="http://schemas.openxmlformats.org/officeDocument/2006/relationships/hyperlink" Target="https://ru.wikipedia.org/wiki/&#1043;&#1083;&#1072;&#1089;&#1085;&#1099;&#1077;" TargetMode="External"/><Relationship Id="rId3" Type="http://schemas.openxmlformats.org/officeDocument/2006/relationships/hyperlink" Target="https://ru.wikipedia.org/wiki/&#1060;&#1086;&#1085;&#1077;&#1084;&#1072;" TargetMode="External"/><Relationship Id="rId4" Type="http://schemas.openxmlformats.org/officeDocument/2006/relationships/hyperlink" Target="https://ru.wikipedia.org/wiki/&#1045;&#1088;&#1098;" TargetMode="External"/><Relationship Id="rId5" Type="http://schemas.openxmlformats.org/officeDocument/2006/relationships/hyperlink" Target="https://ru.wikipedia.org/wiki/&#1045;&#1088;&#1100;" TargetMode="External"/><Relationship Id="rId6" Type="http://schemas.openxmlformats.org/officeDocument/2006/relationships/hyperlink" Target="https://ru.wikipedia.org/wiki/&#1044;&#1088;&#1077;&#1074;&#1085;&#1077;&#1088;&#1091;&#1089;&#1089;&#1082;&#1080;&#1081;_&#1103;&#1079;&#1099;&#1082;" TargetMode="External"/><Relationship Id="rId7" Type="http://schemas.openxmlformats.org/officeDocument/2006/relationships/hyperlink" Target="https://ru.wikipedia.org/wiki/XI" TargetMode="External"/><Relationship Id="rId8" Type="http://schemas.openxmlformats.org/officeDocument/2006/relationships/hyperlink" Target="https://ru.wikipedia.org/wiki/XII_&#1074;&#1077;&#1082;" TargetMode="External"/><Relationship Id="rId9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tionary.org/w/index.php?title=&#1103;&#1078;&#1077;&amp;action=edit&amp;redlink=1" TargetMode="External"/><Relationship Id="rId2" Type="http://schemas.openxmlformats.org/officeDocument/2006/relationships/hyperlink" Target="http://ru.wiktionary.org/wiki/&#1077;&#1078;&#1077;" TargetMode="External"/><Relationship Id="rId3" Type="http://schemas.openxmlformats.org/officeDocument/2006/relationships/hyperlink" Target="http://ru.wiktionary.org/w/index.php?title=&#1102;&#1078;&#1077;&amp;action=edit&amp;redlink=1" TargetMode="External"/><Relationship Id="rId4" Type="http://schemas.openxmlformats.org/officeDocument/2006/relationships/hyperlink" Target="http://ru.wiktionary.org/wiki/&#1042;&#1080;&#1082;&#1080;&#1089;&#1083;&#1086;&#1074;&#1072;&#1088;&#1100;:&#1059;&#1089;&#1083;&#1086;&#1074;&#1085;&#1099;&#1077;_&#1089;&#1086;&#1082;&#1088;&#1072;&#1097;&#1077;&#1085;&#1080;&#1103;" TargetMode="External"/><Relationship Id="rId5" Type="http://schemas.openxmlformats.org/officeDocument/2006/relationships/hyperlink" Target="http://ru.wiktionary.org/wiki/&#1042;&#1080;&#1082;&#1080;&#1089;&#1083;&#1086;&#1074;&#1072;&#1088;&#1100;:&#1059;&#1089;&#1083;&#1086;&#1074;&#1085;&#1099;&#1077;_&#1089;&#1086;&#1082;&#1088;&#1072;&#1097;&#1077;&#1085;&#1080;&#1103;" TargetMode="External"/><Relationship Id="rId6" Type="http://schemas.openxmlformats.org/officeDocument/2006/relationships/hyperlink" Target="http://ru.wiktionary.org/wiki/&#1082;&#1086;&#1090;&#1086;&#1088;&#1099;&#1081;" TargetMode="External"/><Relationship Id="rId7" Type="http://schemas.openxmlformats.org/officeDocument/2006/relationships/hyperlink" Target="http://ru.wiktionary.org/wiki/&#1082;&#1086;&#1081;" TargetMode="External"/><Relationship Id="rId8" Type="http://schemas.openxmlformats.org/officeDocument/2006/relationships/hyperlink" Target="http://ru.wiktionary.org/w/index.php?title=&#1080;&#1078;&#1077;_&#1089;_&#1085;&#1080;&#1084;&amp;action=edit&amp;redlink=1" TargetMode="External"/><Relationship Id="rId9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80;&#1088;&#1080;&#1083;&#1083;&#1080;&#1094;&#1072;" TargetMode="External"/><Relationship Id="rId2" Type="http://schemas.openxmlformats.org/officeDocument/2006/relationships/hyperlink" Target="https://ru.wikipedia.org/wiki/&#1043;&#1083;&#1072;&#1075;&#1086;&#1083;&#1080;&#1094;&#1072;" TargetMode="External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9070920" cy="68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Georgia;serif"/>
              </a:rPr>
              <a:t>«Экскурс в историю русского языка на примере молитвы «Отче наш»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333333"/>
                </a:solidFill>
                <a:latin typeface="Georgia;serif"/>
              </a:rPr>
              <a:t>подготовила ученица 6 А класса</a:t>
            </a:r>
            <a:br>
              <a:rPr sz="3200"/>
            </a:br>
            <a:r>
              <a:rPr b="1" lang="ru-RU" sz="3200" spc="-1" strike="noStrike">
                <a:solidFill>
                  <a:srgbClr val="333333"/>
                </a:solidFill>
                <a:latin typeface="Georgia;serif"/>
              </a:rPr>
              <a:t>Кудряшова Екатерина</a:t>
            </a:r>
            <a:br>
              <a:rPr sz="3200"/>
            </a:br>
            <a:r>
              <a:rPr b="1" lang="ru-RU" sz="3200" spc="-1" strike="noStrike">
                <a:solidFill>
                  <a:srgbClr val="333333"/>
                </a:solidFill>
                <a:latin typeface="Georgia;serif"/>
              </a:rPr>
              <a:t>Научный руководитель: Семенова Е.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539280"/>
            <a:ext cx="903600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Як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[яко] союз устар. 1) Точно, словно, как. 2) Будучи, в качестве, как. 3) Так как, поскольку, оттого что, потому что. Мудрый, яко змий, и кроткий, яко голуб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на небеси́ и на земли́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ебо относилось к типу склонения на согласный и имело окончание в местном падеже и,в современном языке суффикс -ес утратился и слово перешло во второе склонение. Несовпадения окончаний в молитве и современном русском языке «долги наша» вместо «долги наши», «лукаваго» вместо «лукавого», «должником» вместо «должникам» связаны с переходом из одного склонения в друг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земля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— склонение на а, в местном падеже имеет окончание и, 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временном русском языке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перешло в 1 склонение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0360" y="360360"/>
            <a:ext cx="8854920" cy="64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 u="sng">
                <a:solidFill>
                  <a:srgbClr val="000000"/>
                </a:solidFill>
                <a:uFillTx/>
                <a:latin typeface="Times New Roman"/>
              </a:rPr>
              <a:t>Даждь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велительное наклонение нетематических глаголов вро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ижд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яжд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дажд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ежд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русск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иш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(=*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иж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еш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(вместо*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еж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, соответствует нынешнему "дай"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Днесь 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реч. устар. Теперь, сегодня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казательные местоимения отражали три ступени удалённости предмета от говорящего. Местоимения сь, си, се указывали на предмет, близкий к говорящему; тъ, та, то - на предмет, удалённый от говорящего, но близкий к собеседнику; онъ, она, оно указывали на предмет, далёкий и от говорящего, и от собеседника. Образовалось это слово от существительного день и указательного местоимения сь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4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та́в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форма повелительного наклонения тематического глагола.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Формы повелительного наклонения образовались от основы настоящего времени с помощью формообразующих суффиксов –и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-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0720" y="900000"/>
            <a:ext cx="809928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000" bIns="45000" anchor="t">
            <a:noAutofit/>
          </a:bodyPr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ourier New"/>
              </a:rPr>
              <a:t>В ходе нашего исследования мы пришли к выводу, что в молитве «Отче наш» отразились изменения, произошедшии в языке. Самые распространенные из них — падение редуцированных и изменение окончаний в связи с переходом из одного склоения в друго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ourier New"/>
              </a:rPr>
              <a:t>Наш язык изменяется ежедневно, появляются новые слова, другие слова уходят из нашего употребления, но молитва осталась неизменной. Это говорит о большой ее роли в жизни человека. Каждый православный человек должен не только знать эту молитву, но и понимать ее смыс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0" spc="-1" strike="noStrike">
                <a:solidFill>
                  <a:srgbClr val="000000"/>
                </a:solidFill>
                <a:latin typeface="Times New Roman"/>
              </a:rPr>
              <a:t>Спасибо  за внимани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720720"/>
            <a:ext cx="9036000" cy="64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нашей работы- рассмотреть, какие процессы произошли в язы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мет исследования- молитва, предмет исследования выбран не зря, поскольку именно на примере молитвы можно наблюдать те языковые изменения, что произошли в язы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333333"/>
                </a:solidFill>
                <a:latin typeface="Georgia;serif"/>
              </a:rPr>
              <a:t>Актуальность работы объясняется тем, что в настоящее время роль церкви усиливается, все больше людей чаще обращаются к церкв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ы провели опрос среди 7-ых классов, и узнали, что 80% учащихся не понимают значения некоторых слов в молитве.  А в интернете мы нашли такие ответы , что « молитва написана странным языком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  между тем молитва эта написана на церковнославянском языке. И в ней отразились языковые измен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1079964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смотрим  текст молитвы и выявим, какие изменения произошли в язык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 u="sng">
                <a:solidFill>
                  <a:srgbClr val="000000"/>
                </a:solidFill>
                <a:uFillTx/>
                <a:latin typeface="Times New Roman"/>
              </a:rPr>
              <a:t>Отч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В старославянском языке было 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семь падежей 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: именительный, родительный, дательный, винительный, творительный, местный и звательный. Значения падежей в основном совпадают со значениями в современном русском языке. 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Но имена существительные в старославянском языке имели еще особую форму обращения, называемую 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звательным 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падежом, или звательной формой.  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отьче, жено, сыно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звательного падежа отражается и в «Сказке о золотой рыб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вательный падеж иногда встречается в литератур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ибо в целях архаиза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чего тебе надобно, старче?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— Пушкин), либо в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итатах из церковнославянских текстов и молит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Царю небесный, спаси меня…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Лермонтов)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ибо для «украинизации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чи героев-украинце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А поворотись-ка, сынку!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Гоголь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Ты откуда, человече?»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Я, батько, бежал из Балты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Багрицкий). Так ка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раинском языке не шесть падежей, а семь. Первые шесть — такие же, как в русском, но есть еще седьмой — звательный падеж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краинском языке он сохранился. 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я нас это устаревшие формы, а вот для украинцев — вполне современные, которые изучают в школе и используют на письм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ш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древних </a:t>
            </a:r>
            <a:r>
              <a:rPr b="0" lang="de-DE" sz="2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славянских языках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существовали сверхкраткие </a:t>
            </a:r>
            <a:r>
              <a:rPr b="0" lang="de-DE" sz="2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гласные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зву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, которые обозначались буквами ъ («</a:t>
            </a:r>
            <a:r>
              <a:rPr b="0" lang="de-DE" sz="2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еръ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») и ь («</a:t>
            </a:r>
            <a:r>
              <a:rPr b="0" lang="de-DE" sz="2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ерь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») и происходили от  кратких </a:t>
            </a:r>
            <a:r>
              <a:rPr b="0" i="1" lang="de-DE" sz="2200" spc="-1" strike="noStrike">
                <a:solidFill>
                  <a:srgbClr val="000000"/>
                </a:solidFill>
                <a:latin typeface="Times New Roman"/>
              </a:rPr>
              <a:t>ŭ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de-DE" sz="2200" spc="-1" strike="noStrike">
                <a:solidFill>
                  <a:srgbClr val="000000"/>
                </a:solidFill>
                <a:latin typeface="Times New Roman"/>
              </a:rPr>
              <a:t>ĭ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de-DE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днако ещё в период славянской общности началось ослабление звучания подобных гласных — явление, называемое падением редуцированных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абым редуцированным были гласные без ударения и  на конце слова.  Утрата слабых редуцированных началась ещё во время славянской общности, а в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древнерусском язык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слабые редуцированные полностью исчезли в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X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—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XII века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что и произошло со словом «наш»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ж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 относительное местоимение, несклоняемое. В литературном языке сохраняются только простейшие из них: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ж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м. р.), 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яже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 (ж. р., а также мн. ч. ср. р.), 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еже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 (им./вин. п. ср. р.), редко 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юже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 (вин. п. ж. р.), причем нередко без учета рода и падеж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Знач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устар.</a:t>
            </a:r>
            <a:r>
              <a:rPr b="0" i="1" lang="de-DE" sz="2200" spc="-1" strike="noStrike">
                <a:solidFill>
                  <a:srgbClr val="000000"/>
                </a:solidFill>
                <a:latin typeface="Times New Roman"/>
              </a:rPr>
              <a:t>  или </a:t>
            </a:r>
            <a:r>
              <a:rPr b="0" lang="de-DE" sz="2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церк.-слав.</a:t>
            </a:r>
            <a:r>
              <a:rPr b="0" i="1" lang="de-DE" sz="2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de-DE" sz="2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который</a:t>
            </a:r>
            <a:r>
              <a:rPr b="0" i="1" lang="de-DE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к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то же, что </a:t>
            </a:r>
            <a:r>
              <a:rPr b="0" lang="de-DE" sz="2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иже с ним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(с ней, с ними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Еси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- это утраченная русским языком форма 2 лица единственного числа глагола БЫТЬ в настоящем времени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небесе́х,  н҃бсѣхъ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имя существительное в старославянском языке имел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шесть типов склоне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Небо относилось к склонению существительных с основой на согласный. Тип склонения с основой н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гласный звук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ыл самым пестрым и разнородным. В его состав входили два существительных женского рода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ать, дочь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 имена существительные мужского рода с окончанием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-ы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амы, ремы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 имена существительные среднего рода с окончанием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- 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обозначающие детенышей животных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ел 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русск. Теленок),  а также оканчивающиеся в современном русском языке на 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емя , врем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и с окончанием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-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бо, слов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0360" y="720360"/>
            <a:ext cx="8854920" cy="68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 процессе многовекового исторического развития древнерусская система склонения существительных подверглась значительным изменениям. Основное направление этих изменений состояло в упрощении системы склонения, которое выразилось в объединении типов склон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ше слово небо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тратив суффикс -ес- в единственном числе, ста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склоняться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к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лова чоудо, слово, тело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Хлеб насущны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хлеб, необходимый для того, чтобы существовать, или жит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Также мы встречаем и незнакомые нам буквы. Ѧ 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алый юс (Ѧ, ѧ) — буква исторической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кириллицы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и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глаголицы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В русском языке на его месте обычно употребляется Я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ѧть — пя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09-04-16T08:32:35Z</dcterms:modified>
  <cp:revision>2</cp:revision>
  <dc:subject/>
  <dc:title/>
</cp:coreProperties>
</file>