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AA5-6A19-4C18-8073-078DBB7C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33C-7096-4D26-87FC-4E90A429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154-7B70-43EA-99DD-759A3B2F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BD9-16DC-4F45-A3AB-5BA86115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C62-5FFE-4A13-AD29-6AEE4A1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A00-8DFA-43B1-8104-FC82FD93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40D-43DE-40A3-ACD0-67CB2F0C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E4C-2EC6-47BA-AFDE-1BC8ABF3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7F8-5B0E-427B-81DC-D591F7F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9B8-997B-4937-AB4F-AE13BF7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C62-8FF2-49B8-83A9-C8D5896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DAA-A6D1-4DCC-A153-D561827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17C3-A9B3-4CB9-B332-CB26BBA0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314172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010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429000"/>
            <a:ext cx="1420920" cy="1297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3141720"/>
            <a:ext cx="1584360" cy="1584360"/>
          </a:xfrm>
          <a:prstGeom prst="diamond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5445000"/>
            <a:ext cx="1944720" cy="865440"/>
          </a:xfrm>
          <a:prstGeom prst="ellips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373720"/>
            <a:ext cx="2232000" cy="10080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исхождение науки геомет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Евклидова и Неевклидова геометр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41300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101"/>
                </a:solidFill>
                <a:latin typeface="Arial"/>
              </a:rPr>
              <a:t>Геометрия, как наука, появилась в Древнем Египте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ё аксиоматические построения описаны в «Началах» Евклида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вклидова геометрия занималась изучением простейших фигур на плоскости и в пространстве, вычислением их площади и объёма. Подробнее об Евклидовой геометрии мы поговорим позже. Какие же простейшие фигуры существу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32720" y="486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638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38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47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5013360"/>
            <a:ext cx="1152720" cy="1152360"/>
          </a:xfrm>
          <a:prstGeom prst="rtTriangl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14172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010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8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дальнейшем развитии гениальных идей Лобачевского оказалось, что система Евклида недостаточна для исследования многих вопросов астрономии и физики, где мы имеем дело с фигурами огромных разме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3085920" cy="241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4486320"/>
            <a:ext cx="4934160" cy="237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940360" y="333360"/>
            <a:ext cx="3203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ко в условиях обычного опыта она остается вполне пригодной. А так как к тому же она обладает преимуществом простоты, то ее применяют и будут применять в технических расчетах, ее изучают и будут изучать в шко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3683160" cy="3444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8433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ектную работу на тему «Происхождение науки геометрии»  подготовила Медунова Дарья, ученица 7 класса «Б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MingLiU-ExtB"/>
              </a:rPr>
              <a:t>Как всё начина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ервые геометр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нятия приобретены людьми в глубокой древности. Они возникли из потребности определять вместимость различных предметов (сосудов, амбаров и т. п.) и площади земельных уча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23893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48360" y="234936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551640" y="3933720"/>
            <a:ext cx="2592360" cy="189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572000" y="5165640"/>
            <a:ext cx="25192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101"/>
                </a:solidFill>
                <a:latin typeface="Arial"/>
              </a:rPr>
              <a:t>Древнейши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известные нам </a:t>
            </a:r>
            <a:r>
              <a:rPr b="0" i="1" lang="en-US" sz="3200" spc="-1" strike="noStrike">
                <a:solidFill>
                  <a:srgbClr val="ff0101"/>
                </a:solidFill>
                <a:latin typeface="Arial"/>
              </a:rPr>
              <a:t>письменны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101"/>
                </a:solidFill>
                <a:latin typeface="Arial"/>
              </a:rPr>
              <a:t>памятник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содержащие правила для определения площадей и объемов, </a:t>
            </a:r>
            <a:r>
              <a:rPr b="0" i="1" lang="en-US" sz="3200" spc="-1" strike="noStrike">
                <a:solidFill>
                  <a:srgbClr val="ff0101"/>
                </a:solidFill>
                <a:latin typeface="Arial"/>
              </a:rPr>
              <a:t>были составлены в Египте и Вавилоне около 4 тысяч лет наз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2760840" cy="36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877000" y="5024520"/>
            <a:ext cx="3267000" cy="183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916360" y="2565360"/>
            <a:ext cx="39510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541440" y="-1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коло 2,5 тысяч лет назад греки заимствовали у египтян и вавилонян их геометрические знания. Первоначально эти знания применялись преимущественно для измерения земельных участков. Отсюда и греческое название </a:t>
            </a:r>
            <a:r>
              <a:rPr b="0" i="1" lang="en-US" sz="2800" spc="-1" strike="noStrike">
                <a:solidFill>
                  <a:srgbClr val="ff0101"/>
                </a:solidFill>
                <a:latin typeface="Arial"/>
              </a:rPr>
              <a:t>«геометрия»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что означае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101"/>
                </a:solidFill>
                <a:latin typeface="Arial"/>
              </a:rPr>
              <a:t>«землемер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2411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5688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основу стройной системы геометрических знаний  греки положили простейшие геометрические свойства, подсказанные опытом. Остальные свойства выводились из простейших с помощью рассу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21240" y="260280"/>
            <a:ext cx="3722760" cy="590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16000" y="3402000"/>
            <a:ext cx="3311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5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Евклидова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720" y="1052640"/>
            <a:ext cx="6769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а система около 300 г. до н. э. получила завершенный вид в «Началах» Евклида, где изложены также основы теоретической арифметики. Геометрические разделы «Нача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 содержанию и по строгости изложения совпадают с школьными учебниками геомет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32720" y="1628640"/>
            <a:ext cx="2411280" cy="3105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468144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еевклидова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70200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26 г. гениальный русский ученый Н. И. Лобачевский создал новую геометрическую систему. Исходные ее положения отличаются от основных положений Евклида лишь в одном пунк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32720" y="2637000"/>
            <a:ext cx="2195280" cy="273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4365720"/>
            <a:ext cx="2772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" dur="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9" dur="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равнение Евклидовой и Неевклидовой гео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008000"/>
          <a:ext cx="8205840" cy="5850000"/>
        </p:xfrm>
        <a:graphic>
          <a:graphicData uri="http://schemas.openxmlformats.org/drawingml/2006/table">
            <a:tbl>
              <a:tblPr/>
              <a:tblGrid>
                <a:gridCol w="2719440"/>
                <a:gridCol w="2743200"/>
                <a:gridCol w="2743200"/>
              </a:tblGrid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101"/>
                          </a:solidFill>
                          <a:latin typeface="Arial"/>
                        </a:rPr>
                        <a:t>Название геомет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101"/>
                          </a:solidFill>
                          <a:latin typeface="Arial"/>
                        </a:rPr>
                        <a:t>ЕВКЛИ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101"/>
                          </a:solidFill>
                          <a:latin typeface="Arial"/>
                        </a:rPr>
                        <a:t>НЕЕВКЛИД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 созда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кл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.И.Лобаче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созд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но в 3 веке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называли правил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си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посту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акси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ез точку вне прямой можно провести только ОДНУ прямую, не пересекающуюся с дан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   Сумма углов треугольника всегда 18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ез точку вне прямой можно провести БОЛЬШЕ одной прямой, не пересекающихся с да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      Сумма углов треугольника всегда меньше, чем 18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74760" y="712800"/>
          <a:ext cx="8229600" cy="595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свойства треугольников, прямоугольников, параллелограммов, их площадь, пять постулатов и теорема о сумме углов, аксио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метрическая алгебра, решения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 круга, касательных и хо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ьные многоугольники и основы учения о подоб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 - IX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а теории чисел, алгоритм Евклида, теорема делимости и теорема о бесконечности множества бесконечных чис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а стереометр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I кн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шение площадей двух кругов и отношение объёмов пирамиды призмы, конуса и цилин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-1000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ниги Евклида (сведения о некоторых книгах до нас не дош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8:00:48Z</dcterms:created>
  <dc:creator>Я</dc:creator>
  <dc:description/>
  <dc:language>en-US</dc:language>
  <cp:lastModifiedBy>Я</cp:lastModifiedBy>
  <dcterms:modified xsi:type="dcterms:W3CDTF">2015-03-29T15:39:17Z</dcterms:modified>
  <cp:revision>5</cp:revision>
  <dc:subject/>
  <dc:title>Слайд 1</dc:title>
</cp:coreProperties>
</file>