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453A-DE62-4D82-ABB4-A11DA3407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F3EF-A8D4-4447-AC5A-83DFD9D3969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9823-62FF-405A-B4E5-2AF9B8D1B20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EBF0-748E-4882-8F2C-C0D26C16E2C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3C6A-B9EF-4A4E-B8BB-D9FCDFD5496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55E3-A245-4858-8660-5AB01456241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ECCF-34D5-40BC-BDFB-DE18D11D66B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DE083-C1DB-453A-BE83-3A76CA01F6A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4A166-B8C9-499F-AB98-CFFFEA69058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E191E-E3CE-4BF7-8DEC-47A56D8D639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49BB-A2E4-4362-B103-798A37B542E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77FFF4-D571-4FB5-B909-E4416023F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DE8B-E38A-4904-A738-36737CB28E1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38131-BC69-4E00-95DB-F59D04C9A43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E89D17-367F-43B7-A9A1-7A12A27DF11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5F84A-1FF4-48F3-8844-E6F74E304F2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80D2E7-E3AF-4486-B3B6-5FEF1E3A43C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64159C-CE2A-4525-8ABA-89631D3A7C3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6A792-0E6C-44B2-AD90-9862C79020A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8F7E42-C3E6-42DA-B0B4-69065186AB7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B46DB0-4ACD-4860-A727-2BB79F14A3F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113B8-0691-4206-8E63-C4554C412D4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23D52-C756-4C40-89D5-BABD7CFBE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C837-DC70-4545-9AA2-ECA9B485F6E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74FCC-4910-4E03-A0C2-3EFEB2C3B1E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7B30E-2835-4A61-A817-1801623385F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BF2F8-907F-46F2-B2E2-E9B6E51343C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C2B5D-42CC-4E95-B1B5-594FAB0474F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5C19D-8B41-4D95-824F-FC1C82C64E1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A2F71-26B8-41E7-9DEA-6BF3D46B896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8E38B-7EAD-4432-B9C1-E56C05BC814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6154A-0FCC-4829-A9C0-9E4D032ED2E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1DE566-EB19-496C-BD4E-B7E7839BDA4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89D5A0-579B-4E82-8975-4BF63679B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6F4E-4FDB-4A51-8207-DFA1857A059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AD34A4-B504-42FC-BF74-90200969E93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21DE4-D489-4FBC-ACA6-EF8BB6904E7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A9387-72A6-4653-8DB6-2347552AC8A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9B2C4-DE32-433D-B8CC-0BFC9B6FA21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7E4C1-A507-46C0-A458-D6C35894B06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2C39-E3BD-4736-BA9D-3B7F9C6B196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9A5B-6071-4D1E-9ECD-82FC5FA5EA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35D4A-AE02-48A7-8892-24291268A7C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A24F4-12EF-4FCA-908A-81370A77AF6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75504-B802-4C03-9DC8-1B65121EF8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53DD-7ED3-4620-8A95-716584E5CC5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ADBCF-D416-49F1-9F1B-AFD85F94402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60797-FEAE-4B87-B64B-F08F19837EF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6D4F3-14D1-4010-80F2-3DDB2C65D5E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03965-07EF-4081-9A0A-B7FAA05F2D1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A45E4-B25E-418E-93CD-14E191DCF9D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3985D9-6FAE-42D0-9FAA-2E0EF69084D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39FC2D-43C1-4118-B206-9D3196FD9DE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19D42C-9B2C-4CFE-A738-F77871960AF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76218F-106C-44F9-B8DF-61762818662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2176B8-AAB3-4037-B8D2-CF9072CB1D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5F2AC-06F2-4F2F-B17C-107EDDF4158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32773C-72E6-4EDC-AE00-CB10627F4A5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C02030-C143-458A-BF9F-A37831D35C3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966A0F-52F2-4607-8E0A-05F1D59FB24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D5F37E-30A2-4CCA-9A18-57463DC48BD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64D5E1-5683-45E3-A0EB-D04FB1F187E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0D460F-F534-4E62-B21E-9AA738FFEDF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1A1A08-D449-40D7-8A6B-A1C170CF333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826F0-5359-4D0A-B7A6-C02C6FCE95E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5A62E-22D1-4277-8DB4-15CF252CF29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A8F9B-DD6C-4849-B459-CD7F386EE2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84AB-A92D-4BD9-A15E-ECBE957BE9F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584DF-0DB6-4124-A676-005CCFF9EE2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E4B0E-8276-48E5-AE56-EF2CC5D9B95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842D1-C66E-487F-985E-ECAF7AE8667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4E7D9-1FD0-4E3C-87F2-8015C2A5BDD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83211-B959-41BC-BBB4-2373D4F8690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D7D72-DC09-4BA3-B7BC-1B75A9C2676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5DF5B-C669-4069-B7D5-24102EDA1A6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84681-9DA1-4988-A1BA-99E3F71316C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67EAA-6B26-40DC-9E50-F3445E676D3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5ED7E-EC0A-4400-B3D1-9197A1390A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C854-85B4-4023-B7D1-9FFE7D2990F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CBFDF-D060-4F5F-B91B-261F16C7546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EEA8E-AF34-4B57-89D0-F934FA6EB00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2BB00-9BE2-48F1-B22C-EF71D6A27D6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46783-D833-4A9E-87BD-B2EEC0D63FC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25296-BD4F-435F-B813-2308EB6EC5F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EF39C-43B5-4539-A33E-89172C0C1B7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298AB-45C3-48D7-8267-5FA9C254C02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A8701-75E8-42DF-991F-39B5BC3DA6C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C0A0D-61DB-4BAB-A7E4-ACA23513A5D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CC2E2-5FFD-4E43-B0B7-7B68639E70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A945-B1DC-4CCE-A53F-A15192C02C7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20315-ED71-4039-A70D-9BE6105B7B1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7E1642-FA72-4FDB-B825-9735AD2CE43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128FB3-0FBF-4048-B7E8-95A7F9485C8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8788A5-CF3A-4E1B-AEBF-E71C28B261B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FEDDC7-68D9-43D4-BED7-16E690D530F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61F89D-0E6B-4998-8093-BFB4D068FCC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50A961-C4CE-4383-A4E6-621A8589090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724AA9-36C3-45B9-9C83-40CEB9D9E47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290547-AFF6-42BB-99A1-12B62DEC375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66B786-3D72-451E-85B7-5BD2F6AA1D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5B7A1-E809-4042-8300-0C2798F9BEE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D02129-B457-44B9-A08D-CD2BAC91392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42C95B-4450-4F59-AE12-D19CBEDC29F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97DC39-7C82-4C5C-A8B7-0BC40C815DB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32380-3FFF-4868-B84A-2CCC9B80883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626B1-AC93-429F-80C1-28AAFBBFEAB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FEB4D-B673-4E91-9BA9-5073BC33C31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76895-A103-4618-BAFE-F2C151AC093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228AF-8154-4DF6-B4E0-3AAED4EAEF2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B2ECE-0F5B-41A1-BA10-938740241ED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F483F-8DAF-4EC2-9571-C9A4B70E0F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4F34-023F-4D1F-9109-1EF93FC62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21EC-E66B-440A-865F-69F820598CC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09F32-EED0-4104-86FB-C8977C6DE7F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7688B-E224-4FEA-A5A9-EB318DD65DC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EDDAB-F0BC-40CA-80FD-1F845306331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F1EC9-0DB7-4087-BDA8-799A9194F19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B5FE1-EF1B-41F9-B3F1-78B4936441E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A7318-910B-4CB8-B9AD-A6F1B655AC4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71969-DCAD-4706-89BB-9AA7E10DEA8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4DAB5-9B7C-4763-900D-BC5F205CD6F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171C0-EBAB-4F9A-8241-92E3A969145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6F830-1045-4211-9DD6-0302E395F6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3601-607C-4BF2-87A2-714C0E9F343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9B31D-3565-4F9B-A41F-C3686CB240B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4F9C5-D46B-4EDC-9D47-650D3C3AA80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59A71-2BB2-4EFC-959B-12CF522B060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CD34A-A414-462B-A831-E5EF17193D9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CAB4F-0AFD-49DB-AB2D-F89942CCDB6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4A502-0652-4B5D-B52B-10AA8C4041D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68CD5-6C42-45F9-A721-DD6F29176E7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465DC9-DED3-4680-808C-E018F2A42EB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BBE94C-3E80-4DE6-8A3E-C1E7705B88E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0652CA-8503-4E87-9AFC-E99F50777A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AD07-EA59-46C3-9DFB-289BA9D4479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8782F3-8FD1-4EED-B08C-1C9DD85770E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537BAE-EFF4-4DFB-BB8C-BFAB4D2C951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EA7668-6380-405E-9FEC-B1FE6A9151C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104664-124A-4B28-9B7B-065E7D87222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7814A0-6935-4260-95EA-15D27FB0073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01E18C-A818-45D6-87B3-301D806D2CF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EEB496-6B34-45FB-BDFD-682A3B48ACE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592CEA-A0DC-4BC2-A033-121884D9EB9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61FBC2-5D8B-4888-8599-ADA0890ABF3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1F70EF-06A6-4AEF-9FE2-2BC2C77365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BC31-91D4-4D0C-B1BA-4EF1016F71E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7B0F0F-4804-47DF-AF82-FFAB4843A6C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FC7979-F8EF-4A90-946B-B75E9898975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A41C93-EC60-4FE4-8896-7EAA0589884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C50AFF-55F3-4F95-8E92-A81BA0AC9F9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A2522-7E22-4EF4-BD9B-054DBCDB50B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BE9B3-7CE3-4FD2-B73F-6DBDF292E30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96110-8C3B-4CCE-A71D-863BD123FC4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9A840-F662-4154-9048-7E8661BCB0B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34452-91C1-430A-B3BC-081344CFCE7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954A1-C65D-4682-849C-5E653B0197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A40D-5B94-4C36-85CF-00FB7E586C9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6361F-D892-470B-9045-821E06468EC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AA88C-A555-4250-A767-EC48EA502F9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1435A-C14F-444C-BDB0-3484182082E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BCCD1-11E0-4F2F-8B21-668FCB4327F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8BC9B-06EC-43F8-8243-39FF0E524EE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60C0A-82EA-4328-BAF4-CF73E24148F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36E80-650C-46C8-96E5-BAEDE63624F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4E0C2-468B-444C-A553-DE03DBC8810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78EEE-8163-4416-B9F2-1D04ECEC4E2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592D7-BFF4-4C16-9DDE-7D673D0956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55B-D834-49EB-8395-A9F7A1CED21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9957F-46DF-45E5-813A-3D7BC274D1E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0F0B4-2265-418A-B0FF-877001A71EE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4495F-DAC5-48AA-AA2B-809C06063FE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EA42AD-2D85-4652-AC07-16AA24E90FA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2A08E1-AF3F-42A7-B23B-ECB6A0C0623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BEA7B7-7AF6-4BE1-A5AC-E50A47930FF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30A905-E52A-4DC8-B066-FD70CACD308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94E6EB-6E11-4E29-B1ED-A0DA79ED383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368D0A-B2C7-4031-A6A0-10FB6186B4F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C627E2-6438-4484-AF37-0ABD304E15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3AC-CB73-4A6D-9F29-662A84E3D3D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858066-AB5B-45F1-B839-7963BD444EE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5CD203-9D35-40EA-AE51-58F1323FB8F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D91E42-CE48-408F-BB91-D3E9ED8008A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A0925A-D392-4B74-A489-4E0A4940807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1E61A9-7B67-4D3E-9900-C518C82446F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052B37-6160-4CBA-9D91-88FF35F09AB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724823-92E1-430B-911B-6D12F3AFC65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AA6F7A-374D-4988-9ACA-9D2CFE751F2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46C00A-9F79-4954-B0E4-1B796E98C22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BD3FFD-252F-47AF-AEFC-0544C38B8C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252-B8EC-48F0-95D4-53D9C0E601D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BA6AB6-70CB-4742-97C2-9A7AA0F238F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C64C74-B01E-430F-B66C-817F368DB48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880FE3-9904-4D4E-BD86-ECB3039CBDA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E1ADE6-29FD-4B76-80D3-3CBDD9674CA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6358D0-4A0A-4251-AABF-7188B564345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AE4490-BB3F-4C48-ACF6-74B91E5A753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399E0A-F850-471F-AFDF-A93CE2E3C03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CE3EF-1F0E-4334-87BF-1D078E09138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B9FC0-76FA-4C51-A0D5-9795C8DCA92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7E27D-C816-436D-8641-A53C426309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F71-C84A-470E-B24A-1DF4E503144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0C042-F0CF-4D3D-894B-9A5BC74CD0C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4F151-87EB-43C6-B081-BAA9D96C754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57F79-0F9E-4D59-9039-56A0A364F4A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FAFB2-2EBD-456F-83DB-E0E0DA7FB4C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AD9CB-5529-4389-AEBC-E8D12764C3D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D9E51-7C0E-4040-BD49-6C2778A260F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87EDA-8458-4B72-9FD4-D8DAC4F055E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578F6-41C0-491F-AC00-BB79DAA6B2A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E558E-58CA-4B75-A5B7-116FD43EF2C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B67F5-C37E-4443-BB09-A606202FD8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9B9-0E82-47BA-BFF0-B13F04FC6F9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870B0-AF77-4DBC-BCD3-3133001C4BA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8629B-3A55-481E-8120-AD6A44FC98C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98A405-8484-4545-8963-170C460D56C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75D04-C247-4B68-909C-7CF6746144E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09507-7BFE-4EE0-AFFF-E125DF2D6D6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2BFDB-6C06-4E44-9929-1E4B3E2FF27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B4F1E-92A4-44E9-905D-02C28842F45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142CD-6D56-468C-B7D0-F2C0C4AD7A9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37D99-E591-4C8F-999B-CC662D4A294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3B59B-F4FC-4E9E-B212-A1EA8D34A1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5017-0E1B-4E78-805B-E7F967FF6B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9E6-3339-4F26-B182-8C396FCD3C9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F477B-3885-453C-920A-7AC2BA98EAC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1AB43-61EA-4C54-AB52-605CEA1347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E1FE4-D114-4393-8B89-AADCDC28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37F40-3D7A-4D5A-9648-162A2C96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5BF21-B843-4E88-A880-EC825E07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0CD7C-B650-42EB-B079-8981665C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41C5F-163F-43B3-A93A-E29F67F7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CD13B-351F-49B7-8345-A59CA479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A1ED7-44E0-432F-8ED5-766DD948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A3A8D-C986-4C49-A756-BD7009DF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E3F-722D-49F9-AA6B-56872AF25D9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1660B-8EB1-4D3A-9E8F-1247CDDF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E52E1-E2FC-40CF-A78D-5301046F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464CF-566E-4D69-9BF3-E7AEEE023C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C31B59-1FC5-4419-9642-B3D9537B00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666375-5EBF-47AB-AFF8-7B5C337E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D17551-8EF3-48B2-80B9-A89C60B1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5153D8-4010-4AE5-B4C7-8B60DB43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1D181D-5B38-41CE-ADEC-B83EB28A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6D746C-C915-4838-81A6-921D578F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AB4424-E1DE-45A3-BB34-32E14580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DBE-5910-4229-8FB3-9F68454EF7CB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D5BB99-E70D-455A-831F-EC86F57E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5EA9E8-9D42-46F4-8813-FAEC2816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139ADA-0416-4F5C-B1B3-307B08F4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2BF081-7A03-4C09-BF14-E54CCBC9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A1D528-F169-4CF2-9EC9-18CFCA4BBF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70C6CB-D8A0-4F55-A0FA-79E6BA1F0B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E95D2F-C1FB-4D07-9BA3-B84E0A12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F31B30-9E80-474A-A04C-C98E5CEE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6AA7C3-459E-456C-8D0E-B8033BD1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B111F0-4DC5-4507-A082-951439F9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BB0-5543-4695-B26B-6852A93E6364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2E01C4-CDA2-43E2-9B67-83E20711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3F5E86-BE1D-477A-AA36-EB1F4792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8C18E3-AA81-470D-B1D6-729CB3A2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5DC1A7-D417-4C0E-97C0-4FDDA405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631F05-04C0-49E4-8F92-8627D0FE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2A4B03-33D9-4F9B-B384-97C1DC23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D96BF3-DA96-416C-B87E-33747CA739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4B0C1-7FDF-4B64-99E4-AD1154E3E2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96797-B93E-4CFB-B8C4-64D72981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7879C-96B9-4736-BB92-0963FE8B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D40-B21F-4209-83DC-FC8DD3F71252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DC222-D467-42EE-B16A-09B516D2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FC4C7-D5B6-49CF-BE3F-AE326230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9B73E-F475-411C-9889-F8C48206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FB389-106B-4F3B-A081-5994236B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790D1-8806-49DA-8D98-9958B030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5A6DA-F942-4B19-B05D-8C347AF5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2FF2A-DF4E-4AB3-910F-D1006EAA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9E2CD-EEB6-469C-94B6-516433E8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C27D7-FECF-48E9-AB4D-70C5DFC37C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135C8B-22C5-4606-B7CE-65C91C268D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8CA-92F0-4C1B-A65A-FD921C1932A2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8AB539-6EDC-49FE-8ED0-623CEDC6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E7E147-8E82-4737-AF9C-46A4C6D9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F94877-EDC4-41DD-B3BB-A8F96A72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5CE256-3E2B-4524-B256-5B172F2C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498C57-F1E0-4A47-AD44-2A816FB8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9EED72-8DB6-4BCF-8D8D-3184CE8B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A693D4-B5B8-4AB0-AEBB-33E35A48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4A8E1D-140B-4828-9659-CB76BF6C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1C2B7C-0118-4A53-AC50-C0D04E37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B90B1C-E57F-4A17-A3DA-18581F79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673-B828-4E77-A546-8A2F89FCE111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393246-4724-4D45-8B6B-1D01F1A73C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0102EF-FE88-4B4D-B88F-9EC6D82DFB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6D133A-FA26-4554-97C8-52388273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F0ED66-18B5-4962-A1D7-3FC44894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3F660A-21FC-47B8-B9DB-CF49CAEB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F23F14-7AC0-41DE-863E-AD264981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AFDA7E-0419-415E-B24D-CFA74780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E8DB0C-A2F5-4494-8836-AE189296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463DC8-9750-4D15-8DB1-6A53E103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091286-CD30-4D10-B78B-8E994A90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36867-078B-48FE-9BBC-6B5C9E25378A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2A6E99-19B9-4506-832E-B1166BA7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4C835F-196D-44EA-929E-95BAFC79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AD31EE-5805-400B-930C-9724E37278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A23AE-F938-4403-B904-B29B8CF994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2962A-BDC0-43D7-8352-DF918410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51CD5-A264-4E5D-A726-907C4939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EC152-D66B-4229-A7D8-E67AE3E7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5E10D-C31E-487E-98F0-E01337E5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FD2E6-50F9-44A1-838E-51F5C66C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EC629-228C-400A-9A93-2FEDFCA4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08FDE-0AC1-40BB-9B95-818EF20BA4C2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F94FD-5640-4B9D-8F82-5819569D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E4730-94CF-4FEC-9942-6ED2E452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359BF-9D52-4BB4-977E-67BF51A6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7C573-0351-4F82-A146-167B40C1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298A4-FCEC-4030-87AD-C8D737F25A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A4D178-2A04-4EB3-80FB-4811FC4347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2165B4-63C4-4DD5-B7B7-EEA0D4A4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78E3A3-F0E9-4FB6-B868-EDBCD942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97BBB8-80C8-4CBE-B063-DAB76739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E30088-DCF3-44DC-A859-87605E56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33D51-39DA-4716-B5B9-A2B9F11CA944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FF9D8A-0EB0-4EE0-B7F2-2ABD743B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00EEF3-6DED-470E-90F8-6DC2E77F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9EAAAF-CDFA-4140-A72E-26138D6A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74E708-C0CF-4F85-8859-7B8D899B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A28DDE-5969-49FE-BB64-D1028B24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051CFB-00C0-4EF8-B411-77B1E1DF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7E00DB-12EC-44AF-9EC7-CE290373F4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1F37B0F-F088-4792-AAE4-1B664E915C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B632F8-0AC6-43E9-A615-8E820A8F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57F02E6-F488-410C-9E0F-0392F096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82CA-DF50-4071-B02F-AF151365BB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FD97E-1972-4C5E-8B96-02D481096928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AE9AD2-39C2-4F3A-9BEA-6AD6337B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AD1416-5055-4864-A21A-90C5CA34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1DAC49C-B3CD-4DC3-AC90-13CD6034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3E8000-BC30-4FD8-98B2-163E0018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79CB03-F335-47AB-96E1-FD8F4342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55A732-97A5-464D-8768-D2DE9F76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E3C270-C04B-4847-9A5D-328923C0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75C5115-5589-4615-9668-AE0AC4A0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F729464-9AC2-463C-93DB-BE289AEC6B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9A5AC-3D6C-4FEA-B133-F352219EAA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1CCE6-75D0-4B5E-A9B5-D20FF85AF82A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13302-D812-44C6-806C-F6830B6F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5E46F-2EC4-481C-B62A-7356FF25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5157E-2D69-4E41-B4E8-E1A13120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B0D719-DBB8-4F34-891C-CE8994F5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EBBD36-77D7-49CD-880F-D8307A24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B9932D-DA30-4411-A25B-4A6FBB79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5C710-EB1C-4F7F-8CED-0BEC630E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DD02C-40CE-4714-914F-601C5FA7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84725-F3C8-4727-89D5-D134C36B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0120B-B6EF-47EF-9F7A-FBEAEC6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C4544-C503-4B64-8628-7D91E8D1D79D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EDE5B-DC9E-4F4E-A5B0-CB34DC8D2F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5E6A33-F07E-438B-81A1-3571715563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BAD6D2-E3CE-4365-AF87-7B0FD1C3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83BBAD-4462-45F7-A7C9-ADE76744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DEC025-E161-4290-9FD5-88FA925A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2DDE22-AE29-42F5-800C-849BC657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E61E22-4190-4DEA-951F-CFBFC600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DD5A58-3C6A-4D25-9F34-D3F66341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1E9F85-6669-404B-AECC-335B07C1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C15289D-85A4-4619-A791-C4764B37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B2E48-AD94-4F59-8CAF-9BA3EC07BE4E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647F61-A257-42EC-B72A-E67F515C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664652-7F31-49B0-9C95-8658FC26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2DBD25-CBD5-4D5A-A593-15EE1B3734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96A05-530D-4BFD-AEDF-D7D5B75E55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9E1DC-E901-4C57-88F3-B6EC1CFF6E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BC324-6D3B-46D3-B79E-52A7FB4997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0FC12-FE81-4B7B-96A5-F3EC8EE5B1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67F0E-9E42-43F4-8622-DF427C63F7F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0AC1F-1B45-4DE0-9B94-53125A9C9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ED2A-DDE9-4F2C-920D-D61A69D0DDD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3AA55-9403-445C-B1DA-7E37D26DF4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857BD-1D12-40F3-913D-977731054D4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4698A-09FC-45C1-B31D-5497A6373E3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4E105-9F07-402E-AF54-C875BED4C65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3A8C4-6C68-44DF-BC5B-735B3ADD7C0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6B29D-6EAC-41D6-B495-D36C8ADFE9B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559A0-29E9-4140-B16B-88E9A1A67FD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16719-BBA1-4B04-A586-DD9E360816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77236-8A3E-43DA-B8A5-D72CB3ED81F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CC693-EB6C-4F7A-9590-15E88E0A1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7EBF-B39A-47ED-91BC-5205D696467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3D5FA-397E-44B3-961C-B1607F76405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9770-E9BC-47BE-B776-C88811A3B4F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DBF4-2268-4481-9490-7EBA954B7DF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2143-7B9C-40A7-AEAB-3519F538E10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2C91-F61F-43A8-9E31-B2E820356C2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CA20-BD76-4060-A3F5-37F5026DD51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D59B-4018-4F36-8D8B-8ED34B2A03F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2CB8-9E09-484A-AA94-6FD881102CC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DE9F-55F8-4C1D-9B74-FEE935DEE22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99DE-BFA7-4CB3-897C-4C29F4D67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221D-9D3A-4F26-BB04-874DB3A768F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1215-DA94-4B3C-8553-2AD9E90D8C3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F9E9-D836-484E-AB5D-DDEDB035233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6B54-5278-40FD-B55F-80BDD97F02D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EB327D-753C-407E-893A-B892C34DFF5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5F3A3B-16A6-41CE-A70C-3B9B2A7353B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64B725-E642-4B96-99ED-EA8F187E38C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18B91-56F5-4ECF-80BD-38B9274C19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F645B8-48CE-44BD-9C13-E6F08F6ACE9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098F2D-4640-4995-A717-1E27F69F819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539DE-B5C6-4BB5-84A9-B249ABEF4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5B37-D7FA-4134-A5A7-664880377E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7F766F-8CD4-45AF-870F-745E6D9A569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6750FE-62CD-4C54-BD86-BFDBF3A05D3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DBEB7B-7022-48AC-91D1-0AA0363764C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04D9D0-BD97-4F0F-AD18-FEF02E026D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091B18-F926-4C7E-90B9-2957D1CDFCD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203AE-9143-40B1-9FB1-44D22DFD789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1AD4C-46C6-4AC9-AF9D-3324DBEB9B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BC4D6-4E6B-43FA-B703-A45F0EAA6BF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70F90-3F85-4586-9965-4E9B5E90813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9A605-13A5-4491-B28E-EDF2D281D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6122-FC6F-4DBC-BDE8-5166F6792AF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1D539-8873-412B-ABD0-97C0AADF4A2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B6164-9450-439B-9908-A9167FA7271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7FB06-EF56-4ACD-B38A-E86A5951DC9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85801-EC25-4E14-87BB-2214244441C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E35B0-D126-4925-ABAA-A82200EDB0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8E01F-78C1-4B89-8860-CB345E1EEEC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64589-1EF3-440E-9940-0567325781D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814ED-0480-49ED-8447-EBCD64D5E6F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D477-5D5F-4B31-BD11-7D56982B79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0673-D550-44B7-A26F-3E40962B3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9AE29-E015-428B-83A8-2262C41A705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B3EF7D-A341-4223-A7F3-062B14A0D8BB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FC928E-F0CE-47CC-A4B4-D194A7F0E0BB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37FB7FF-C5B5-41AC-90D7-0D2070CC9F27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AFE29E-4512-49D2-A63C-2EB013EAE7FA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AD6CA0-6DEE-41ED-B141-B3D3DF247F5F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6304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D70EB44-5957-4047-9680-16EBBAFBA55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6304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EC69199-6CC3-420B-B45E-A077A32923B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6304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E82293-8BF6-4D6E-AFD8-8357D1A6EA2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6304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E379706-1269-46B4-BC04-28DFC31E783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6304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3B0E8B-CCAC-4917-9922-C826D71FD89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6304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1CF52B8-D487-49C1-A30A-02749BCB42A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6304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3A6435E-E6D5-4148-8948-BEE3BF3304E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6304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1A401C-1204-4D73-A918-6885314AC0B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6304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A676FF-068B-45BA-B867-390DA787686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6304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E4D755-C039-44A9-8B2A-B188FA26103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6304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3CFF0EB-AA70-41AA-A86F-7DB1BD757AB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6304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F4BC13-AFFA-4218-A560-03D7593374C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7" name="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10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0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2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dt" idx="26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sldNum" idx="27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00447DB-E0BB-4AA4-B014-34C93CBFD28C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87" name="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10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0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dt" idx="28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 type="sldNum" idx="29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9079A6A-A016-499C-B1EA-8A4229550CD7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137" name="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11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9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1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2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3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sldNum" idx="31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51B993E-639E-40EA-A371-27F00EA2F93C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187" name="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11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1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32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sldNum" idx="33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464FD6F-BA29-43FC-8AA2-0A841C0A823E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9888F96-ACAA-4C58-B33A-94348D5D74F8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90" name="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9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237" name="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12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9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2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 type="dt" idx="3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sldNum" idx="35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0652BC2-0CCF-4CD9-A7D2-FEDF1C2575D5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287" name="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12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9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2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36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 type="sldNum" idx="37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7A34AB3-1FBF-4E3B-8E19-54235C8410E5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337" name="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13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9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3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2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 type="dt" idx="38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sldNum" idx="39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A3177B8-3090-4E8E-8D35-AB578C5066C5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387" name="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13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9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3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2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4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sldNum" idx="41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F41C426-4F34-4347-81B9-1FB56EC8DE8D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42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sldNum" idx="43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A8CFA8-1436-48A7-9B25-13978FC578B4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482" name="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14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4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4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7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 type="dt" idx="4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 type="sldNum" idx="45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F14C279-51D3-40C5-8E5E-26B03FDFEB08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532" name="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15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4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53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7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dt" idx="46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sldNum" idx="47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1EF0D87-6E03-4E09-A5E0-CCAF1C01C73E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822386B-F4BE-4DBA-92A8-DDA80E45175D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A56879-D992-43E3-AEC9-5F1B7DE885FD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EA53A0-BDFE-4604-A52B-5BA97708AFA9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7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B655B7E-DD53-44C3-8E69-AFE9480981C9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8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41E745-3AB1-4B3D-977C-4538953F8924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EF440D-8ACA-4192-AE5B-A2C8E1E9F58D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9" name=""/>
          <p:cNvGrpSpPr/>
          <p:nvPr/>
        </p:nvGrpSpPr>
        <p:grpSpPr>
          <a:xfrm>
            <a:off x="530280" y="-237960"/>
            <a:ext cx="8130960" cy="3443040"/>
            <a:chOff x="530280" y="-237960"/>
            <a:chExt cx="8130960" cy="3443040"/>
          </a:xfrm>
        </p:grpSpPr>
        <p:pic>
          <p:nvPicPr>
            <p:cNvPr id="1580" name="" descr=""/>
            <p:cNvPicPr/>
            <p:nvPr/>
          </p:nvPicPr>
          <p:blipFill>
            <a:blip r:embed="rId2"/>
            <a:stretch/>
          </p:blipFill>
          <p:spPr>
            <a:xfrm>
              <a:off x="530280" y="-237960"/>
              <a:ext cx="8130960" cy="34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1" name=""/>
            <p:cNvSpPr/>
            <p:nvPr/>
          </p:nvSpPr>
          <p:spPr>
            <a:xfrm>
              <a:off x="530280" y="-237960"/>
              <a:ext cx="8130960" cy="34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2" name=""/>
          <p:cNvSpPr/>
          <p:nvPr/>
        </p:nvSpPr>
        <p:spPr>
          <a:xfrm>
            <a:off x="2411280" y="3228840"/>
            <a:ext cx="59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Выполнила : ученица 2 А класс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Федорова Валер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Microsoft YaHei"/>
              </a:rPr>
              <a:t>Учитель: Семенова Е.С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3" name="" descr=""/>
          <p:cNvPicPr/>
          <p:nvPr/>
        </p:nvPicPr>
        <p:blipFill>
          <a:blip r:embed="rId3"/>
          <a:stretch/>
        </p:blipFill>
        <p:spPr>
          <a:xfrm>
            <a:off x="179280" y="3382920"/>
            <a:ext cx="3429000" cy="3475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Microsoft YaHei"/>
              </a:rPr>
              <a:t>«Мальчик с пальчик» -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Мал родится, да всем пригодитс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4" name="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2449440" cy="3759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"/>
          <p:cNvSpPr/>
          <p:nvPr/>
        </p:nvSpPr>
        <p:spPr>
          <a:xfrm>
            <a:off x="468360" y="338040"/>
            <a:ext cx="8229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Microsoft YaHei"/>
              </a:rPr>
              <a:t>«Теремок», «Рукавичка» -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Microsoft YaHei"/>
              </a:rPr>
              <a:t>В тесноте да не в обид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6" name=""/>
          <p:cNvGrpSpPr/>
          <p:nvPr/>
        </p:nvGrpSpPr>
        <p:grpSpPr>
          <a:xfrm>
            <a:off x="539640" y="2565360"/>
            <a:ext cx="4314960" cy="3451320"/>
            <a:chOff x="539640" y="2565360"/>
            <a:chExt cx="4314960" cy="3451320"/>
          </a:xfrm>
        </p:grpSpPr>
        <p:pic>
          <p:nvPicPr>
            <p:cNvPr id="1617" name="" descr=""/>
            <p:cNvPicPr/>
            <p:nvPr/>
          </p:nvPicPr>
          <p:blipFill>
            <a:blip r:embed="rId2"/>
            <a:stretch/>
          </p:blipFill>
          <p:spPr>
            <a:xfrm>
              <a:off x="539640" y="2565360"/>
              <a:ext cx="431496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8" name=""/>
            <p:cNvSpPr/>
            <p:nvPr/>
          </p:nvSpPr>
          <p:spPr>
            <a:xfrm>
              <a:off x="539640" y="2565360"/>
              <a:ext cx="4314960" cy="34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19" name="" descr=""/>
          <p:cNvPicPr/>
          <p:nvPr/>
        </p:nvPicPr>
        <p:blipFill>
          <a:blip r:embed="rId3"/>
          <a:stretch/>
        </p:blipFill>
        <p:spPr>
          <a:xfrm>
            <a:off x="5292720" y="2852640"/>
            <a:ext cx="273528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Microsoft YaHei"/>
              </a:rPr>
              <a:t>«Морозко» -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Что посеешь, то и пожнеш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2" name="" descr=""/>
          <p:cNvPicPr/>
          <p:nvPr/>
        </p:nvPicPr>
        <p:blipFill>
          <a:blip r:embed="rId2"/>
          <a:stretch/>
        </p:blipFill>
        <p:spPr>
          <a:xfrm>
            <a:off x="1187280" y="2492280"/>
            <a:ext cx="571500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Microsoft YaHei"/>
              </a:rPr>
              <a:t>«Гуси-лебеди» -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Слезами горю не поможеш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5" name="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Microsoft YaHei"/>
              </a:rPr>
              <a:t>«Кот, петух и лиса» -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Дружба заботой да подмогой креп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Верному другу цены н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8" name="" descr=""/>
          <p:cNvPicPr/>
          <p:nvPr/>
        </p:nvPicPr>
        <p:blipFill>
          <a:blip r:embed="rId2"/>
          <a:stretch/>
        </p:blipFill>
        <p:spPr>
          <a:xfrm>
            <a:off x="2700360" y="2997360"/>
            <a:ext cx="24368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Microsoft YaHei"/>
              </a:rPr>
              <a:t>Вывод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Я прочитала много сказок и могу сказать, что для меня сказка открыла удивительный мир волшебства, где добро побеждает зло, где каждый получает то, что заслуживает, где сбываются мечты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К любой сказке можно подобрать пословицы, это говорит о том, что сказки – источник мудр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/>
          <p:nvPr/>
        </p:nvSpPr>
        <p:spPr>
          <a:xfrm>
            <a:off x="0" y="-789120"/>
            <a:ext cx="9766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5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1258920" y="1658880"/>
            <a:ext cx="5846760" cy="4361040"/>
            <a:chOff x="1258920" y="1658880"/>
            <a:chExt cx="5846760" cy="4361040"/>
          </a:xfrm>
        </p:grpSpPr>
        <p:pic>
          <p:nvPicPr>
            <p:cNvPr id="1586" name="" descr=""/>
            <p:cNvPicPr/>
            <p:nvPr/>
          </p:nvPicPr>
          <p:blipFill>
            <a:blip r:embed="rId2"/>
            <a:stretch/>
          </p:blipFill>
          <p:spPr>
            <a:xfrm>
              <a:off x="1258920" y="1658880"/>
              <a:ext cx="5846760" cy="43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7" name=""/>
            <p:cNvSpPr/>
            <p:nvPr/>
          </p:nvSpPr>
          <p:spPr>
            <a:xfrm>
              <a:off x="1258920" y="1658880"/>
              <a:ext cx="5846760" cy="43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8" name=""/>
          <p:cNvSpPr/>
          <p:nvPr/>
        </p:nvSpPr>
        <p:spPr>
          <a:xfrm>
            <a:off x="539640" y="33336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ы произносим слово «сказка», перед нами возникает прекрасный сказочный мир, живущий таинственной сказочной жизнью, согласно необычным сказочным законам. Это мир «тридевятого царства, тридесятого государства», где добро побеждает зло, правда – ложь, свет – ть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468360" y="836640"/>
            <a:ext cx="821844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А.С. Пушкин писал: «Сказка – ложь, да в ней намёк, добрым молодцам урок». Каждая сказка нас учит чему-то. Только надо внимательно присмотреться и прислушаться к ней … Попробуем сделать это на примере русских народных сказо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1" name="" descr=""/>
          <p:cNvPicPr/>
          <p:nvPr/>
        </p:nvPicPr>
        <p:blipFill>
          <a:blip r:embed="rId2"/>
          <a:stretch/>
        </p:blipFill>
        <p:spPr>
          <a:xfrm>
            <a:off x="2916360" y="299736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324000" y="476280"/>
            <a:ext cx="83628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Все ребята в нашем классе любят русские народные сказки. Недавно нам их читали родители, воспитатели в детском саду. Теперь мы научились читать сами и в полной мере можем насладиться красотой и образностью языка, необычностью сказочных сюжет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Еще на уроках литературного чтения мы познакомились с пословицам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Нам стало интересно, есть ли пословицы в сказках, можно ли провести параллель пословиц и сказок. Ведь и сказки, и пословицы учат нас мудр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4" name=""/>
          <p:cNvGrpSpPr/>
          <p:nvPr/>
        </p:nvGrpSpPr>
        <p:grpSpPr>
          <a:xfrm>
            <a:off x="341280" y="-96840"/>
            <a:ext cx="8051760" cy="3301920"/>
            <a:chOff x="341280" y="-96840"/>
            <a:chExt cx="8051760" cy="330192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341280" y="-96840"/>
              <a:ext cx="8051760" cy="33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6" name=""/>
            <p:cNvSpPr/>
            <p:nvPr/>
          </p:nvSpPr>
          <p:spPr>
            <a:xfrm>
              <a:off x="341280" y="-96840"/>
              <a:ext cx="8051760" cy="33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533520" y="3228840"/>
            <a:ext cx="7854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8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5729400" cy="4037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457200" y="581040"/>
            <a:ext cx="82296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ипотеза: Русские народные сказки — это красивые жизненные учебники. Они самым лучшим образом учат нас, как вести себя правильно. К любой сказке можно подобрать пословицу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В ходе нашей работы мы подобрали пословицы к следующим сказкам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5238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Microsoft YaHei"/>
              </a:rPr>
              <a:t>«Заюшкина избушка» -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На чужой каравай рот не разева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4" name="" descr=""/>
          <p:cNvPicPr/>
          <p:nvPr/>
        </p:nvPicPr>
        <p:blipFill>
          <a:blip r:embed="rId2"/>
          <a:stretch/>
        </p:blipFill>
        <p:spPr>
          <a:xfrm>
            <a:off x="1476360" y="2421000"/>
            <a:ext cx="5506920" cy="413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457200" y="277920"/>
            <a:ext cx="8229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Microsoft YaHei"/>
              </a:rPr>
              <a:t>«Три поросенка», «Красная шапочка» -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Отольются волку овечьи слез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7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4003560" cy="2808360"/>
          </a:xfrm>
          <a:prstGeom prst="rect">
            <a:avLst/>
          </a:prstGeom>
          <a:ln w="0">
            <a:noFill/>
          </a:ln>
        </p:spPr>
      </p:pic>
      <p:pic>
        <p:nvPicPr>
          <p:cNvPr id="1608" name="" descr=""/>
          <p:cNvPicPr/>
          <p:nvPr/>
        </p:nvPicPr>
        <p:blipFill>
          <a:blip r:embed="rId3"/>
          <a:stretch/>
        </p:blipFill>
        <p:spPr>
          <a:xfrm>
            <a:off x="4795920" y="3357720"/>
            <a:ext cx="3803400" cy="2138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Microsoft YaHei"/>
              </a:rPr>
              <a:t>«Репка» -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В одиночку не одолеешь и кочк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1" name="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510696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9:59:55Z</dcterms:created>
  <dc:creator>orlov</dc:creator>
  <dc:description/>
  <dc:language>en-US</dc:language>
  <cp:lastModifiedBy>русский</cp:lastModifiedBy>
  <dcterms:modified xsi:type="dcterms:W3CDTF">2017-12-16T09:18:12Z</dcterms:modified>
  <cp:revision>33</cp:revision>
  <dc:subject/>
  <dc:title>Слайд 1</dc:title>
</cp:coreProperties>
</file>