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B57-DE29-4E41-8C9F-A2F33502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C54-09DD-4D02-BB11-D3D2115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1E3-EAED-43EF-BEE3-76790A7C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0AE-BCC7-4B37-836B-2849B4C2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340-B4B0-4213-91F9-214F774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B05-F6BE-4868-8C8F-C0930F14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48D-E335-4C02-947F-F3C0DDA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117-0C48-4A74-B731-103C8BA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AFE-1C89-4AEC-A164-7E27094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AA1-D2F7-47A6-BC47-4DF71CD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A8A-B85A-4660-A2BC-1934380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D17-4340-4F08-9ACD-9D64FED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076AC-78DF-4BBD-89C6-C661BA4EEA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14320" y="428760"/>
            <a:ext cx="5857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ГБОУ СОШ № 1738 им. М.Л. Миля дошкольное отделение «Бригант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14200" y="11430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 следам третьей ежегодной международной научно-практической конференции «Воспитание и обучение детей дошкольного возраст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www.firo.ru/wp-content/uploads/2013/10/Banner_254.gif"/>
          <p:cNvPicPr/>
          <p:nvPr/>
        </p:nvPicPr>
        <p:blipFill>
          <a:blip r:embed="rId1"/>
          <a:stretch/>
        </p:blipFill>
        <p:spPr>
          <a:xfrm>
            <a:off x="3143160" y="2571840"/>
            <a:ext cx="2999880" cy="2356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286000" y="4000680"/>
            <a:ext cx="6571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оспит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иколаенко М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Ян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14200" y="376200"/>
            <a:ext cx="8643600" cy="40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Уровень чувствительности к сенсорным раздражителям у всех нас существенно различается и зависит он о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рех факторов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рвый фактор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— это врожденные качества: абсолютный слух, повышенное обоняние генетически наследуются, равно как и возможность врожденных аномалий — слепота, глухот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торой фактор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— состояние органов чувств: на них может повлиять травма или боле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ретий фактор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— это развитие органов чувств и восприятия, как в процессе спонтанного познания мира, так и в ходе специального обучения. Например, никто не станет сомневаться, что у человека, который с детства пробовал разнообразные блюда разных национальных кухонь, вкус будет гораздо тоньше, чем у того, кто ел только каши и мака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285840" y="35712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«Сенсорные эталоны» представляют собой общепринятые образцы внешних свойств 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14200" y="1197720"/>
            <a:ext cx="86436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енсорные этал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- Эталоны цвета -   семь цветов спектра и их оттенки по светлоте и насыщ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- Эталоны формы — геометрические фигуры; величины — метрическая система 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- Слуховые эталоны — это звуковысотные отношения, музыкальные ноты, фонемы родн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- Вкусы мы делим на сладкий, соленый, горький и кис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- Запахи — на тяжелые и легкие, сладкие, горькие, свежи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214200" y="357120"/>
            <a:ext cx="8643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Значение сенсорного воспитания состоит в том, что оно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 является основой для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  упорядочивает хаотичные представления ребенка, полученные при взаимодействии с внешним ми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развивает наблюд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готовит к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позитивно влияет на эстетическое чув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является основой для развития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развивает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дает ребенку возможность овладеть новыми способами предметно-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обеспечивает усвоение сенсорных этал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обеспечивает освоение навыков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влияет на расширение словарного запаса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- влияет на развитие зрительной, слуховой, моторной, образной и др. видов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200" y="428760"/>
            <a:ext cx="86436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Игр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– ведущий вид деятельности дошк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ри этом игра понятие многообраз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Среди многочисленных игр у детей польз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игры в «театр», драматизации, сюжетам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служат хорошо известные сказки, рассказы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театральны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85840" y="428760"/>
            <a:ext cx="84294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раматизироват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– значит разыграть в лицах какое-либо литературное произведение, сохраняя последовательность рассказанных в нем эпизодов и передавая характеры его персонаж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гра-драматизация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– деятельность, требующая от дошкольников необходимых для выполнения её способностей, умений, нав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928800" y="357120"/>
            <a:ext cx="7429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оцесс игры-драматизации возможе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сли ребе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357120" y="1214280"/>
            <a:ext cx="84294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имеет опыт восприятия литературных произведений, их переживания и осмысл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имеет опыт взаимодействия с театральным искусством (знает, что такое театр, что такое спектакль и как он рождается, имеет опыт восприятия и переживания театрализованного действия, владеет специфическим языком театрального искусств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включается в игровую деятельность соответственно своим способностям и возможностям (ребенок-“режиссер”, ребенок -“актер”, ребенок -“зритель”, ребенок -“оформитель”“декоратор” спектак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:\Света\ГБОУ\Университет\Магистерская диссертация\Практика\Колобок испачкан бок\Фотоотчет\IMG_4325.JPG"/>
          <p:cNvPicPr/>
          <p:nvPr/>
        </p:nvPicPr>
        <p:blipFill>
          <a:blip r:embed="rId1"/>
          <a:stretch/>
        </p:blipFill>
        <p:spPr>
          <a:xfrm>
            <a:off x="214200" y="357120"/>
            <a:ext cx="4571640" cy="3214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:\Света\ГБОУ\Университет\Магистерская диссертация\Практика\Колобок испачкан бок\Фотоотчет\IMG_4321.JPG"/>
          <p:cNvPicPr/>
          <p:nvPr/>
        </p:nvPicPr>
        <p:blipFill>
          <a:blip r:embed="rId2"/>
          <a:stretch/>
        </p:blipFill>
        <p:spPr>
          <a:xfrm>
            <a:off x="4143240" y="1928880"/>
            <a:ext cx="4745520" cy="30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643040" y="571320"/>
            <a:ext cx="5643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зиции в игре-драматиз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286000" y="1357200"/>
            <a:ext cx="45716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Ребенок- “режиссер”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Ребенок-“актер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Ребенок-“зритель”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Ребенок- “декоратор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E:\Света\ГБОУ\Университет\Магистерская диссертация\Практика\Встречаем лето с Машей и Мишей\Фотоотчет\IMG_4689.JPG"/>
          <p:cNvPicPr/>
          <p:nvPr/>
        </p:nvPicPr>
        <p:blipFill>
          <a:blip r:embed="rId1"/>
          <a:stretch/>
        </p:blipFill>
        <p:spPr>
          <a:xfrm>
            <a:off x="4643280" y="428760"/>
            <a:ext cx="4142880" cy="252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:\Света\ГБОУ\Университет\Магистерская диссертация\Практика\Встречаем лето с Машей и Мишей\Фотоотчет\IMG_4798.JPG"/>
          <p:cNvPicPr/>
          <p:nvPr/>
        </p:nvPicPr>
        <p:blipFill>
          <a:blip r:embed="rId2"/>
          <a:stretch/>
        </p:blipFill>
        <p:spPr>
          <a:xfrm>
            <a:off x="179640" y="2421000"/>
            <a:ext cx="4218840" cy="23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571760" y="428760"/>
            <a:ext cx="6286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Этапы театрализованной 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857240" y="1143000"/>
            <a:ext cx="6000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художественное восприятие литературных и фольклорных произвед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своение специальных умений для становления основных («актер», «режиссер») и дополнительных позиций («сценарист», «оформитель», «костюмер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остоятельная творческая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Света\ГБОУ\Университет\Фото-видео\Конференция 23.11.13\20131123_101244.jpg"/>
          <p:cNvPicPr/>
          <p:nvPr/>
        </p:nvPicPr>
        <p:blipFill>
          <a:blip r:embed="rId1"/>
          <a:stretch/>
        </p:blipFill>
        <p:spPr>
          <a:xfrm>
            <a:off x="357120" y="428760"/>
            <a:ext cx="2785680" cy="457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Света\ГБОУ\Университет\Фото-видео\Конференция 23.11.13\20131123_102305.jpg"/>
          <p:cNvPicPr/>
          <p:nvPr/>
        </p:nvPicPr>
        <p:blipFill>
          <a:blip r:embed="rId2"/>
          <a:stretch/>
        </p:blipFill>
        <p:spPr>
          <a:xfrm flipH="1">
            <a:off x="3357720" y="428760"/>
            <a:ext cx="53575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14200" y="285840"/>
            <a:ext cx="864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облемы развития игровой театраль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57120" y="714240"/>
            <a:ext cx="8429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недостаток  учебного времени, т.е  общая загруженность  воспит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недопонимание  значения театрализованной деятельности для развития ребенка-до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отсутствие у дошкольников опыт восприятия театрального искусства. Приобщение к театру не носит массового характера и значит, часть детей остается вне этого вида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*бессистемность и поверхностное ознакомление с театром в детском саду и в семье, что формирует  у детей представления о доступном восприятии сценического оформления произведений без специальных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театрально-игровая деятельность характеризует примитивность и  импровизации, бедность исполнения для создания образа средств вырази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E:\Света\ГБОУ\Фото\20.02.2014\IMG_7928.JPG"/>
          <p:cNvPicPr/>
          <p:nvPr/>
        </p:nvPicPr>
        <p:blipFill>
          <a:blip r:embed="rId1"/>
          <a:stretch/>
        </p:blipFill>
        <p:spPr>
          <a:xfrm>
            <a:off x="285840" y="428760"/>
            <a:ext cx="4217760" cy="439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:\Света\ГБОУ\Фото\20.02.2014\IMG_7935.JPG"/>
          <p:cNvPicPr/>
          <p:nvPr/>
        </p:nvPicPr>
        <p:blipFill>
          <a:blip r:embed="rId2"/>
          <a:stretch/>
        </p:blipFill>
        <p:spPr>
          <a:xfrm>
            <a:off x="4714920" y="428760"/>
            <a:ext cx="4071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00040" y="285840"/>
            <a:ext cx="8286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нципы организации театрализованной иг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28760" y="785880"/>
            <a:ext cx="8500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1.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ринцип специфичности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данной деятельности, объединяющей игровой (свободный, непроизвольный) и художественный (подготовленный, осмысленно пережитый) компон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   Принцип комплексности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предполагает взаимосвязь театрализованной игры с разными видами искусства и разными видами художественной 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3.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ринцип  импровизационности,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где театрализованная игра рассматривается как творческая деятельность, что обусловливает особое взаимодействие взрослого и ребенка, детей между собой, основу которого составляют свободная атмосфера, поощрение детской инициативы, отсутствие образца для подражания, наличие своей точки зрения у ребенка, стремление к оригинальности и самовыра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4.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ринцип  интегративности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, в соответствии с которым целенаправленная работа по развитию театрализованно - игровой деятельности включается в целостный педагогически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14240" y="357120"/>
            <a:ext cx="785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правления театрально-игров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71320" y="857160"/>
            <a:ext cx="8214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*как творчество продуктивное (сочинение собственных сюжетов или творческая интерпретация заданного сюже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сполнительское (речевое, двигательн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*оформительское (декорации, костюмы, атрибутика и д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785880" y="500040"/>
            <a:ext cx="7643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Цел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–  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научить ребенка видеть прекрасное в жизни и в людях, зародить стремление самому нести в жизнь прекрасное и добр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714760" y="357120"/>
            <a:ext cx="478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Задачи и 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57120" y="857160"/>
            <a:ext cx="850068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1. Формирование положительного отношения детей к театрализованным играм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Это подразумевает углубление их интереса к определенному виду театрализованной игры, образу героя, сюжету, наличие интереса к театральной культуре, осознание причин положительного или индифферентного отношения к игре, связанного с наличием или отсутствием интереса и способности к самовыражению в театрализова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.   Приобщение детей к театральной культуре,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 т.е. знакомство с назначением театра, историей его возникновения в России, устройством здания театра, деятельностью людей, работающих в театре, яркими представителями данных профессий, видами и жанрами театрального искусства (драматический, музыкальный, кукольный, театр зверей, клоунада и п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3.  Углубление театрально-игрового опыта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 за счет освоения разных видов игры-драматизации и режиссерской театрализованной игры. Старшим дошкольникам   доступны самостоятельные постановки спектаклей, в том числе на основе «коллажа» из нескольких литературных произведений. Например, «Путешествие по сказкам А.С. Пушкина», «Новые приключения героев сказок Ш. Перро»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57120" y="357120"/>
            <a:ext cx="83577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Театрализованные игр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являются благоприятной средой для творческого развития способностей детей, так как в ней особенно проявляются разные стороны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E:\PHOTO\Детский сад 2012\IMG_0163.JPG"/>
          <p:cNvPicPr/>
          <p:nvPr/>
        </p:nvPicPr>
        <p:blipFill>
          <a:blip r:embed="rId1"/>
          <a:stretch/>
        </p:blipFill>
        <p:spPr>
          <a:xfrm>
            <a:off x="2500200" y="2143080"/>
            <a:ext cx="4285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85840" y="2286000"/>
            <a:ext cx="85723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Цели конференции: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 обсуждение профессиональным международным научным сообществом актуальных вопросов дошкольного образования и перспектив развития исследований в области ВОДМ, расширение партнерских отношений и сетевого взаимодействия в сфере дошкольного образования, развитие использования ИКТ в области ВОДМ, ознакомление российских ученых и практиков с зарубежным опытом и системой организации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psypress.ru/files/26345/clip_image002.jpg"/>
          <p:cNvPicPr/>
          <p:nvPr/>
        </p:nvPicPr>
        <p:blipFill>
          <a:blip r:embed="rId1"/>
          <a:stretch/>
        </p:blipFill>
        <p:spPr>
          <a:xfrm>
            <a:off x="214200" y="428760"/>
            <a:ext cx="864360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14200" y="285840"/>
            <a:ext cx="864360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В ходе пленарных заседаний и секций были рассмотрены следующи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Современные тенденции в области дошкольного образования. Мировой опы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Здоровье дошкольника и здоровьесберегающие техн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Инклюзивное и коррекционное 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Нейропсихология дошкольного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Одаренный 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Оценка качества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Познавательное развитие дошк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Семейное воспитание и дошкольное 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Развивающее образование детей младше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Развитие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Развитие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Ребенок в мире современных техноло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Социология дошкольного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Философия – де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Межличностные отношения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Игра в системе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Продуктивные виды деятельности в развити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Диагностика развития дошк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Психологическая служба в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·        Ребенок в поликультурной среде, многоязыч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85840" y="357120"/>
            <a:ext cx="850068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071880" y="42876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то такое сенсор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1143000" y="857160"/>
            <a:ext cx="671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Что такое сенсорика, и почему необходимо ее развивать в раннем возраст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Сенсорное развитие (лат. sunser — ощущение) — это развитие восприятий, представлений об объектах, явлениях и предметах окружающего мира. От того, насколько точно малыш научится воспринимать предметы и оперировать полученными знаниями, зависит процесс обучения в будущ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357120" y="3357720"/>
            <a:ext cx="8357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Развитие сенсорики происходит путем узнавания величины, формы, запаха, цвета предмета. Чтобы в полной мере понять, что тот или иной объект собой представляет, ребенку нужно прикоснуться к нему или попробовать на вкус. Только так он в данный момент воспринимает понятия, характеризующие свойства: гладкий, шероховатый, сладкий, горький и.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286000" y="35712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то такое моторик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14200" y="785880"/>
            <a:ext cx="8643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Моторика,  в переводе с латинского «motor» – движение. Различают – крупную  моторику  и мелкую  мотор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Крупная моторика – это совокупность  действий для выполнения какой-либо задачи. Бег, ползание, прыжки, ходьба, наклоны и – все это относится к крупной моторике. Если, например, перед  ребенком стоит задача – поднять упавшую игрушку. Он сначала подойдет к ней,  наклонится, протянет руку, возьмет  игрушку, выпрямится – вот, сколько действий ребенок сделает, чтобы игрушка очутилась у него в руках. Все эти действия относятся к крупной мотор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Крупная моторика это основа, вначале  ребенок  осваивает  крупную моторику, а потом  к ней постепенно добавляются навыки мелкой  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Мелкая моторика – это способность манипулировать мелкими предметами и выполнять более точные действия. При мелкой моторике работают мелкие мышцы. Застегивание пуговиц, завязывание узелков, игра на музыкальных инструментах, рисование, вырезание – это все мелкая мото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953440" y="500040"/>
            <a:ext cx="411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то такое сенсомотор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85840" y="1000080"/>
            <a:ext cx="85723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енсомоторика состоит из двух слов ( «sensus» - чувство, ощущение и «motor» — двигатель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бенок начинает познавать мир с самого раннего возраста, сначала с помощью ощущений (сенсорики), его жизнь окружает разнообразие звуков, красок, форм. И чем больше будет развито сенсорное восприятие у ребенка, тем развитие  ребенка происходит более эффективно. Ребенок растет, начинает двигаться: ползать, ходить, бегать, и теперь уже крупная и мелкая моторика помогает ему познавать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285840" y="285840"/>
            <a:ext cx="850068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Symbol" charset="2"/>
              <a:buChar char=""/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Сенсомоторика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 – это взаимодействие сенсорного восприятия и движени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Symbol" charset="2"/>
              <a:buChar char=""/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Какие цели ставим перед собой в работе с детьми? Развивать у детей умение согласовывать и управлять своими действиями и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Света\ГБОУ\Университет\Фото-видео\Конференция 23.11.13\20131123_100242.jpg"/>
          <p:cNvPicPr/>
          <p:nvPr/>
        </p:nvPicPr>
        <p:blipFill>
          <a:blip r:embed="rId1"/>
          <a:stretch/>
        </p:blipFill>
        <p:spPr>
          <a:xfrm>
            <a:off x="2571840" y="2214720"/>
            <a:ext cx="4428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643040" y="571320"/>
            <a:ext cx="671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 сколько важно сенсорн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28800" y="3714840"/>
            <a:ext cx="7714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Давайте определим наше сенсорное развитие обычной игрой в «БЕРЮЛЬКИ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42960" y="1500120"/>
            <a:ext cx="778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Занятия по сенсорике, направленные на формирование полноценного восприятия окружающей действительности, служат основой познания мира, первой ступенью которого является чувственный опыт. Ценность раннего обучающего воздействия давно подмечена народом; успешность умственного, физического, эстетического воспитания в значительной степени зависит  от уровня сенсорного развития детей, т. е. от того насколько совершенно ребенок слышит, видит, осязает окружаю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  <Words>1102</Words>
  <Paragraphs>128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stra-84@mail.ru</cp:lastModifiedBy>
  <dcterms:modified xsi:type="dcterms:W3CDTF">2017-12-16T19:53:52Z</dcterms:modified>
  <cp:revision>7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