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BC8D-F155-4EF3-9607-286FCF826F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A3D-6132-4B09-A905-B9A2F746E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5F0-5817-4234-B513-8B56A2A5F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B62-F29B-4A8C-B0B1-EE587B88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733-1D6B-4337-8BAE-E665FFB0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E71-7320-4B2C-9315-6D054F90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E33-F6B7-4B15-B10E-08EDB616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01D-332A-42D2-979D-55666E45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8233-CA61-4096-B2C6-7AED553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683-EA18-4547-AB41-C967CB8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1D3-2321-4552-8E35-EA54917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346-4C42-4103-8DAF-2077792A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7686-D9AC-4BF6-B8DF-E95EE55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56E7-5FB2-4711-B3A4-2C42A5D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5DE-828F-4B1A-81E6-4C6DE8D5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01F8-87CF-43D0-A816-F74C069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415-7AAA-4BE3-89E0-640BD765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2D6-CD5E-4B1B-A020-4ACDFE1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1541-C8E1-40C9-BC07-9B58B2AD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9AE2-1F76-42AC-922D-4E412630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11B-928C-40EC-A5F0-4BF5ACA7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CF0-217A-436F-BC7B-C090D26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6D2-C983-4EA1-AE83-19E9A03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33F-1B2F-4AA4-9B8E-14695CA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B80-B176-4FA9-BC9A-1AC3BDA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9BD-B148-4DBC-AB2E-BCBEB0A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FA1-0C54-47CF-9C35-AD8D25C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08D-78FB-410E-9574-6DA04E186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A06-297B-4676-B100-726DB4522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24000" y="907560"/>
            <a:ext cx="640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имение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-918720"/>
            <a:ext cx="8893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00440"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00440"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Сов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а – хищная    птица. Сова считается лучшим охотником. У совы мощные когти и чут­кие уши. Совы живут по всему свету. Совы обитают в лесах, пустынях, горах. Сову можно встретить во всех природных зонах наше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User\Desktop\i.jpg"/>
          <p:cNvPicPr/>
          <p:nvPr/>
        </p:nvPicPr>
        <p:blipFill>
          <a:blip r:embed="rId2"/>
          <a:stretch/>
        </p:blipFill>
        <p:spPr>
          <a:xfrm>
            <a:off x="5522760" y="4133880"/>
            <a:ext cx="3151440" cy="2363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42960" y="-1518840"/>
            <a:ext cx="82152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Сов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а - хищная птица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читается лучшим охотником. У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е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щные когти и чут­кие уши. Совы живут по всему свету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итают в лесах, пустынях, горах. Сову можно встретить во всех природных зонах наше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593080" y="714240"/>
            <a:ext cx="41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и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"/>
          <p:cNvSpPr/>
          <p:nvPr/>
        </p:nvSpPr>
        <p:spPr>
          <a:xfrm flipH="1">
            <a:off x="2571840" y="1428840"/>
            <a:ext cx="1000080" cy="1214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"/>
          <p:cNvSpPr/>
          <p:nvPr/>
        </p:nvSpPr>
        <p:spPr>
          <a:xfrm>
            <a:off x="5071320" y="1357200"/>
            <a:ext cx="107172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857160" y="2643120"/>
            <a:ext cx="25718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5357880" y="2571840"/>
            <a:ext cx="3000240" cy="121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User\AppData\Local\Temp\Rar$DI15.007\65200360.gif"/>
          <p:cNvPicPr/>
          <p:nvPr/>
        </p:nvPicPr>
        <p:blipFill>
          <a:blip r:embed="rId2"/>
          <a:stretch/>
        </p:blipFill>
        <p:spPr>
          <a:xfrm>
            <a:off x="3786120" y="407196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593080" y="714240"/>
            <a:ext cx="41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и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"/>
          <p:cNvSpPr/>
          <p:nvPr/>
        </p:nvSpPr>
        <p:spPr>
          <a:xfrm flipH="1">
            <a:off x="2571840" y="1428840"/>
            <a:ext cx="1000080" cy="1214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5"/>
          <p:cNvSpPr/>
          <p:nvPr/>
        </p:nvSpPr>
        <p:spPr>
          <a:xfrm>
            <a:off x="5072040" y="1357200"/>
            <a:ext cx="2021040" cy="306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857160" y="2643120"/>
            <a:ext cx="49388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ите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3995640" y="4417920"/>
            <a:ext cx="4741920" cy="121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агате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ser\AppData\Local\Temp\Rar$DI15.007\65200360.gif"/>
          <p:cNvPicPr/>
          <p:nvPr/>
        </p:nvPicPr>
        <p:blipFill>
          <a:blip r:embed="rId2"/>
          <a:stretch/>
        </p:blipFill>
        <p:spPr>
          <a:xfrm>
            <a:off x="1187280" y="441792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100240" y="571680"/>
            <a:ext cx="46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рой секрет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57160" y="1428840"/>
            <a:ext cx="3643560" cy="471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ква, короны, борона, агроном, выставка, ягода, пластырь, выбор, мыло, по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000760" y="1428840"/>
            <a:ext cx="3571920" cy="471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енять, любимый, синего, ананас, мнение, намёк, квас, аквамарин, стих, дрему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2100240" y="571680"/>
            <a:ext cx="46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рой секрет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857160" y="1428840"/>
            <a:ext cx="3643560" cy="4929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, ко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, бо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г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,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ка,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, плас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ь,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,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, 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5000760" y="1428840"/>
            <a:ext cx="3571920" cy="49291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Н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ь, люб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й, син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Г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на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Н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е,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к, к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АС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к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А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н, ст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Х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др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МУ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Microsoft Office</cp:lastModifiedBy>
  <dcterms:modified xsi:type="dcterms:W3CDTF">2016-12-10T17:37:11Z</dcterms:modified>
  <cp:revision>65</cp:revision>
  <dc:subject/>
  <dc:title>Слайд 1</dc:title>
</cp:coreProperties>
</file>