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A33-BF81-41FA-AC64-3A313DAC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1C9-01E0-4411-97DD-2BD060E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1EB-0CC3-40A2-8CC7-F9C1173A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856-A855-4E90-9018-8B20E0D4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A179-A55C-458E-B0D7-5F01C2E2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5B00-0093-4658-98E3-DE2AC76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D76-67C3-4EB7-B59B-E84C4509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0400-B1BA-4995-AF75-523F7E0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FC49-C472-482B-8995-B698CA1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47B-9324-4204-9E71-DE4761B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EF6-6449-450F-BBE1-C17A819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3A4-80A5-4469-9B0F-07FFA769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5D4-B750-4874-9789-C635C42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AD7-2455-4D20-9E13-74818A1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72C-CB89-40C9-9C9B-A0A754A0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0447-E6F2-4AE1-BEA5-28970DB1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AE51-17D1-4CF7-8946-864A0B85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518-43A1-4E67-9C04-0060F7A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EF2-D1E6-4EEC-919F-738A154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456-6A23-4776-999F-AB87A6A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F27-341E-4853-AA02-563ED1A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0EB-180C-4421-88F6-2845BA5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113-F204-46FA-8D3C-496E2D6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054-D6AF-4B73-8D7A-8D701C9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C153-5BE4-4ACB-8B04-3FD947696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112-EB9F-44E6-A1BA-727B23738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одержимое 2"/>
          <p:cNvSpPr/>
          <p:nvPr/>
        </p:nvSpPr>
        <p:spPr>
          <a:xfrm>
            <a:off x="0" y="189000"/>
            <a:ext cx="8866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ГБОУ СОШ №549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Красносельского рай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УМК «Начальная школа </a:t>
            </a:r>
            <a:r>
              <a:rPr b="0" lang="en-US" sz="2700" spc="-1" strike="noStrike">
                <a:solidFill>
                  <a:srgbClr val="254061"/>
                </a:solidFill>
                <a:latin typeface="Calibri"/>
              </a:rPr>
              <a:t>XXI </a:t>
            </a: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век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Урок русского языка, 4 клас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54061"/>
                </a:solidFill>
                <a:latin typeface="Calibri"/>
              </a:rPr>
              <a:t>Тема : «Морфологические признаки имен прилагательных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Учитель : Виноградова Виктория Анатольев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Санкт-Петербур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54061"/>
                </a:solidFill>
                <a:latin typeface="Calibri"/>
              </a:rPr>
              <a:t>2012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6"/>
          <p:cNvSpPr/>
          <p:nvPr/>
        </p:nvSpPr>
        <p:spPr>
          <a:xfrm>
            <a:off x="471240" y="2276640"/>
            <a:ext cx="31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рез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 холод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од яр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27"/>
          <p:cNvSpPr/>
          <p:nvPr/>
        </p:nvSpPr>
        <p:spPr>
          <a:xfrm>
            <a:off x="293760" y="290520"/>
            <a:ext cx="8547480" cy="1556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Укажите признаки имён прилаг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в словах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28"/>
          <p:cNvSpPr/>
          <p:nvPr/>
        </p:nvSpPr>
        <p:spPr>
          <a:xfrm>
            <a:off x="3997800" y="3573360"/>
            <a:ext cx="30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ед.ч., ж.р.,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29"/>
          <p:cNvSpPr/>
          <p:nvPr/>
        </p:nvSpPr>
        <p:spPr>
          <a:xfrm>
            <a:off x="3996000" y="234936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н.ч., Им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30"/>
          <p:cNvSpPr/>
          <p:nvPr/>
        </p:nvSpPr>
        <p:spPr>
          <a:xfrm>
            <a:off x="3997800" y="299736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ед.ч., 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ожно ли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тверждать, что род и число являются постоянным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признаком имени прилагательного? Обоснуйте своё мнение, используя словосочетания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«холодная земля» и «холодными дн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95280" y="4221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ожно ли определить род прилагательного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«печальные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оснуй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28"/>
          <p:cNvSpPr/>
          <p:nvPr/>
        </p:nvSpPr>
        <p:spPr>
          <a:xfrm>
            <a:off x="684360" y="549360"/>
            <a:ext cx="770400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29"/>
          <p:cNvSpPr/>
          <p:nvPr/>
        </p:nvSpPr>
        <p:spPr>
          <a:xfrm>
            <a:off x="395280" y="4076640"/>
            <a:ext cx="806436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5760" y="476280"/>
            <a:ext cx="88678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1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одчеркните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се имена прилагательные в форме ед.ч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А) спел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) красив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) весёл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Г) высо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) осен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одчеркните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се имена прилагательные в форме м.р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А)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хруп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) лёг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) добр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Г) золот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) прекрас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 Подчеркните имена прилагательные, род которых не определя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А) глубо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) великолеп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) горяч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Г) тру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) вкус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4. Подчеркните все имена прилагательные в форме ед.ч., ж.р., Т.п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А) за высокими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гор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) увлекательной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поезд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) верным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Г) синей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птиц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) домашнюю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раб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64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пределите падеж каждого имени прилагательного и укажите его в скобках, используя известную форму сокращения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А) русскую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земл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) на зелёном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) бледными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красками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Г) в багряном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зака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) для любимой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бабуш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292720" y="2276640"/>
            <a:ext cx="129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В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5651640" y="2997360"/>
            <a:ext cx="1368360" cy="76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П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6804000" y="3933720"/>
            <a:ext cx="12240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5940360" y="4653000"/>
            <a:ext cx="136836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П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7236000" y="5157720"/>
            <a:ext cx="12952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Р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3789360"/>
            <a:ext cx="1873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200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остройте цепочку из трёх слов, изменяя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оочерёдно один из признаков имени прилагательного «сильный»: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род, число, паде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484360" y="3500280"/>
            <a:ext cx="194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43280" y="371628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6948360" y="3068640"/>
            <a:ext cx="2195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и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 силь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2050920" y="4076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211640" y="40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443640" y="40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96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имена существительные в каждом предложении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пишите пары однокоренных имен существите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560" y="3428640"/>
            <a:ext cx="4321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Яркое солнце гре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ую зем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ми луч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716360" y="3429000"/>
            <a:ext cx="41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й луч яр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солнца растоп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ый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4572000" y="3357720"/>
            <a:ext cx="0" cy="18716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411280" y="5516640"/>
            <a:ext cx="432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олнце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–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лучами –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11280" y="1052640"/>
            <a:ext cx="799308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49636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br>
              <a:rPr sz="3600"/>
            </a:br>
            <a:br>
              <a:rPr sz="14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непостоянные признаки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аждой пары имен существительных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 обозначьте их, используя известную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у сок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25800" y="3238560"/>
            <a:ext cx="172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олн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718520" y="3213000"/>
            <a:ext cx="172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солнц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26880" y="4005360"/>
            <a:ext cx="1767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луч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718880" y="4005360"/>
            <a:ext cx="94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Arial"/>
              </a:rPr>
              <a:t>лу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129040" y="3238560"/>
            <a:ext cx="252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Arial"/>
              </a:rPr>
              <a:t>(ед.ч., И.п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447600" y="3213000"/>
            <a:ext cx="250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Arial"/>
              </a:rPr>
              <a:t>(ед.ч., Р.п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054880" y="4005360"/>
            <a:ext cx="254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Arial"/>
              </a:rPr>
              <a:t>(мн.ч., Т.п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5729400" y="4005360"/>
            <a:ext cx="252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80"/>
                </a:solidFill>
                <a:latin typeface="Arial"/>
              </a:rPr>
              <a:t>(ед.ч., И.п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501800" y="32130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4501800" y="400536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684360" y="1125360"/>
            <a:ext cx="7488000" cy="19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ucheniki_w450_h468"/>
          <p:cNvPicPr/>
          <p:nvPr/>
        </p:nvPicPr>
        <p:blipFill>
          <a:blip r:embed="rId1"/>
          <a:stretch/>
        </p:blipFill>
        <p:spPr>
          <a:xfrm>
            <a:off x="0" y="228600"/>
            <a:ext cx="337176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?id=303412368-38-72&amp;n=21"/>
          <p:cNvPicPr/>
          <p:nvPr/>
        </p:nvPicPr>
        <p:blipFill>
          <a:blip r:embed="rId2"/>
          <a:stretch/>
        </p:blipFill>
        <p:spPr>
          <a:xfrm>
            <a:off x="3886200" y="152280"/>
            <a:ext cx="5105520" cy="5072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4343400" y="533520"/>
            <a:ext cx="418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и Санкт –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хищаются крас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чного гор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28600" y="522936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ожете ли вы помочь Ричарду 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орфологический разбор и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лага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456840"/>
            <a:ext cx="842472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имена прилагательные, которые связаны по смыслу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 данными именами существительными,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 напишите эти словосоче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3357720"/>
            <a:ext cx="4319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Яркое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солнце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гре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ую зем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ми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лучами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716360" y="3357720"/>
            <a:ext cx="417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й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луч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яр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солнца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растоп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ый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4572000" y="2997360"/>
            <a:ext cx="0" cy="2592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539640" y="1052640"/>
            <a:ext cx="777744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br>
              <a:rPr sz="3200"/>
            </a:br>
            <a:br>
              <a:rPr sz="1200"/>
            </a:b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4.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Определите непостоянные признаки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имени прилагательного, которые изменились в каждом словосочетании,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и обозначьте их, используя известную форму сокращ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52720" y="37162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р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837800" y="3716280"/>
            <a:ext cx="38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лнце – яр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5080" y="5157720"/>
            <a:ext cx="72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тёплыми лучами – тёплый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653080" y="3724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471960" y="3213000"/>
            <a:ext cx="11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(И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4214880" y="3213000"/>
            <a:ext cx="112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(Р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24360" y="4581360"/>
            <a:ext cx="24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(мн.ч.,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284720" y="45086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(ед.ч., м.р., И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50920" y="907920"/>
            <a:ext cx="8497800" cy="20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пределите в каждом предложении оставшиеся словосочетания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имя сущ. + имя прил.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и выпишите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9220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826920" y="5805360"/>
            <a:ext cx="71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холодную землю - холодный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24000" y="3357720"/>
            <a:ext cx="431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Яркое солнце 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у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ми лу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716360" y="3357720"/>
            <a:ext cx="417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ёплый луч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яр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солнца растоп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холодный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4572000" y="2997360"/>
            <a:ext cx="0" cy="2592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826920" y="1125360"/>
            <a:ext cx="7561440" cy="15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1325880" y="477000"/>
            <a:ext cx="6711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С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6. Определите непостоянные при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мени прилагательного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зменились в словосочета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" холодную землю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и "холодный снег",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 обозначьте их, использу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звестную форму сок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11280" y="465300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холодну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емлю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холод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не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684360" y="4149720"/>
            <a:ext cx="1657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4788000" y="4149720"/>
            <a:ext cx="187308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755640" y="1197000"/>
            <a:ext cx="77040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Составьте и напишите фразу-конструкт: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"Имя прилагательное имеет непостоянные признаки: </a:t>
            </a:r>
            <a:br>
              <a:rPr sz="3600"/>
            </a:br>
            <a:r>
              <a:rPr b="1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_____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, </a:t>
            </a:r>
            <a:r>
              <a:rPr b="1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_____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, </a:t>
            </a:r>
            <a:r>
              <a:rPr b="1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_____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потому что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____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___________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____________________________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________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."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41128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708360" y="3789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292720" y="3789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995640" y="4365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зависит от 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900000" y="49417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существительного, с которым оно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492360" y="551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связ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684360" y="981000"/>
            <a:ext cx="770400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000"/>
            </a:br>
            <a:br>
              <a:rPr sz="14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  <a:ea typeface="Times New Roman"/>
              </a:rPr>
              <a:t>1. Определите число каждого имени прилагательного и напишите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его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  <a:ea typeface="Times New Roman"/>
              </a:rPr>
              <a:t> в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ствующую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троку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</a:t>
            </a:r>
            <a:br>
              <a:rPr sz="26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ед.ч.:  …………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 мн.ч.:  ………….</a:t>
            </a:r>
            <a:br>
              <a:rPr sz="3000"/>
            </a:br>
            <a:br>
              <a:rPr sz="30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Ключевая, заморский, дырявые, богатое, трескучие, пришкольный, загородные, робк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50920" y="4797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ед.ч.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лючевая, заморский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богатое, пришко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50920" y="53341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мн.ч.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дырявые,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трескучие,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загородные, робк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250920" y="836640"/>
            <a:ext cx="86421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br>
              <a:rPr sz="3600"/>
            </a:br>
            <a:r>
              <a:rPr b="1" lang="ru-RU" sz="10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br>
              <a:rPr sz="10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2. Образуйте от данных слов однокоренные имена прилагательные другого рода и напишите в соответствующую строку 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68"/>
          <p:cNvGrpSpPr/>
          <p:nvPr/>
        </p:nvGrpSpPr>
        <p:grpSpPr>
          <a:xfrm>
            <a:off x="1371600" y="2590920"/>
            <a:ext cx="6780960" cy="4159080"/>
            <a:chOff x="1371600" y="2590920"/>
            <a:chExt cx="6780960" cy="4159080"/>
          </a:xfrm>
        </p:grpSpPr>
        <p:grpSp>
          <p:nvGrpSpPr>
            <p:cNvPr id="313" name="Group 66"/>
            <p:cNvGrpSpPr/>
            <p:nvPr/>
          </p:nvGrpSpPr>
          <p:grpSpPr>
            <a:xfrm>
              <a:off x="1380600" y="2593800"/>
              <a:ext cx="6760440" cy="4152240"/>
              <a:chOff x="1380600" y="2593800"/>
              <a:chExt cx="6760440" cy="4152240"/>
            </a:xfrm>
          </p:grpSpPr>
          <p:grpSp>
            <p:nvGrpSpPr>
              <p:cNvPr id="314" name="Group 25"/>
              <p:cNvGrpSpPr/>
              <p:nvPr/>
            </p:nvGrpSpPr>
            <p:grpSpPr>
              <a:xfrm>
                <a:off x="1380600" y="2593800"/>
                <a:ext cx="2252520" cy="549000"/>
                <a:chOff x="1380600" y="2593800"/>
                <a:chExt cx="2252520" cy="549000"/>
              </a:xfrm>
            </p:grpSpPr>
            <p:sp>
              <p:nvSpPr>
                <p:cNvPr id="315" name="Rectangle 3"/>
                <p:cNvSpPr/>
                <p:nvPr/>
              </p:nvSpPr>
              <p:spPr>
                <a:xfrm>
                  <a:off x="1576800" y="259380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м.р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24"/>
                <p:cNvSpPr/>
                <p:nvPr/>
              </p:nvSpPr>
              <p:spPr>
                <a:xfrm>
                  <a:off x="1380600" y="259380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7"/>
              <p:cNvGrpSpPr/>
              <p:nvPr/>
            </p:nvGrpSpPr>
            <p:grpSpPr>
              <a:xfrm>
                <a:off x="3633840" y="2593800"/>
                <a:ext cx="2253600" cy="549000"/>
                <a:chOff x="3633840" y="2593800"/>
                <a:chExt cx="2253600" cy="549000"/>
              </a:xfrm>
            </p:grpSpPr>
            <p:sp>
              <p:nvSpPr>
                <p:cNvPr id="318" name="Rectangle 4"/>
                <p:cNvSpPr/>
                <p:nvPr/>
              </p:nvSpPr>
              <p:spPr>
                <a:xfrm>
                  <a:off x="3830040" y="259380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ж.р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26"/>
                <p:cNvSpPr/>
                <p:nvPr/>
              </p:nvSpPr>
              <p:spPr>
                <a:xfrm>
                  <a:off x="3633840" y="2593800"/>
                  <a:ext cx="22536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9"/>
              <p:cNvGrpSpPr/>
              <p:nvPr/>
            </p:nvGrpSpPr>
            <p:grpSpPr>
              <a:xfrm>
                <a:off x="5888520" y="2593800"/>
                <a:ext cx="2252520" cy="549000"/>
                <a:chOff x="5888520" y="2593800"/>
                <a:chExt cx="2252520" cy="549000"/>
              </a:xfrm>
            </p:grpSpPr>
            <p:sp>
              <p:nvSpPr>
                <p:cNvPr id="321" name="Rectangle 5"/>
                <p:cNvSpPr/>
                <p:nvPr/>
              </p:nvSpPr>
              <p:spPr>
                <a:xfrm>
                  <a:off x="6083640" y="2593800"/>
                  <a:ext cx="186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ср.р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28"/>
                <p:cNvSpPr/>
                <p:nvPr/>
              </p:nvSpPr>
              <p:spPr>
                <a:xfrm>
                  <a:off x="5888520" y="259380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1"/>
              <p:cNvGrpSpPr/>
              <p:nvPr/>
            </p:nvGrpSpPr>
            <p:grpSpPr>
              <a:xfrm>
                <a:off x="1380600" y="3142800"/>
                <a:ext cx="2252520" cy="549000"/>
                <a:chOff x="1380600" y="3142800"/>
                <a:chExt cx="2252520" cy="549000"/>
              </a:xfrm>
            </p:grpSpPr>
            <p:sp>
              <p:nvSpPr>
                <p:cNvPr id="324" name="Rectangle 6"/>
                <p:cNvSpPr/>
                <p:nvPr/>
              </p:nvSpPr>
              <p:spPr>
                <a:xfrm>
                  <a:off x="1576800" y="314280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30"/>
                <p:cNvSpPr/>
                <p:nvPr/>
              </p:nvSpPr>
              <p:spPr>
                <a:xfrm>
                  <a:off x="1380600" y="314280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3"/>
              <p:cNvGrpSpPr/>
              <p:nvPr/>
            </p:nvGrpSpPr>
            <p:grpSpPr>
              <a:xfrm>
                <a:off x="3633840" y="3142800"/>
                <a:ext cx="2253600" cy="549000"/>
                <a:chOff x="3633840" y="3142800"/>
                <a:chExt cx="2253600" cy="549000"/>
              </a:xfrm>
            </p:grpSpPr>
            <p:sp>
              <p:nvSpPr>
                <p:cNvPr id="327" name="Rectangle 7"/>
                <p:cNvSpPr/>
                <p:nvPr/>
              </p:nvSpPr>
              <p:spPr>
                <a:xfrm>
                  <a:off x="3830040" y="314280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хитра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32"/>
                <p:cNvSpPr/>
                <p:nvPr/>
              </p:nvSpPr>
              <p:spPr>
                <a:xfrm>
                  <a:off x="3633840" y="3142800"/>
                  <a:ext cx="22536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35"/>
              <p:cNvGrpSpPr/>
              <p:nvPr/>
            </p:nvGrpSpPr>
            <p:grpSpPr>
              <a:xfrm>
                <a:off x="5888520" y="3142800"/>
                <a:ext cx="2252520" cy="549000"/>
                <a:chOff x="5888520" y="3142800"/>
                <a:chExt cx="2252520" cy="549000"/>
              </a:xfrm>
            </p:grpSpPr>
            <p:sp>
              <p:nvSpPr>
                <p:cNvPr id="330" name="Rectangle 8"/>
                <p:cNvSpPr/>
                <p:nvPr/>
              </p:nvSpPr>
              <p:spPr>
                <a:xfrm>
                  <a:off x="6083640" y="3142800"/>
                  <a:ext cx="186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34"/>
                <p:cNvSpPr/>
                <p:nvPr/>
              </p:nvSpPr>
              <p:spPr>
                <a:xfrm>
                  <a:off x="5888520" y="314280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37"/>
              <p:cNvGrpSpPr/>
              <p:nvPr/>
            </p:nvGrpSpPr>
            <p:grpSpPr>
              <a:xfrm>
                <a:off x="1380600" y="3692160"/>
                <a:ext cx="2252520" cy="548640"/>
                <a:chOff x="1380600" y="3692160"/>
                <a:chExt cx="2252520" cy="548640"/>
              </a:xfrm>
            </p:grpSpPr>
            <p:sp>
              <p:nvSpPr>
                <p:cNvPr id="333" name="Rectangle 9"/>
                <p:cNvSpPr/>
                <p:nvPr/>
              </p:nvSpPr>
              <p:spPr>
                <a:xfrm>
                  <a:off x="1576800" y="3692160"/>
                  <a:ext cx="186048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сини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36"/>
                <p:cNvSpPr/>
                <p:nvPr/>
              </p:nvSpPr>
              <p:spPr>
                <a:xfrm>
                  <a:off x="1380600" y="3692160"/>
                  <a:ext cx="225252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39"/>
              <p:cNvGrpSpPr/>
              <p:nvPr/>
            </p:nvGrpSpPr>
            <p:grpSpPr>
              <a:xfrm>
                <a:off x="3633840" y="3692160"/>
                <a:ext cx="2253600" cy="548640"/>
                <a:chOff x="3633840" y="3692160"/>
                <a:chExt cx="2253600" cy="548640"/>
              </a:xfrm>
            </p:grpSpPr>
            <p:sp>
              <p:nvSpPr>
                <p:cNvPr id="336" name="Rectangle 10"/>
                <p:cNvSpPr/>
                <p:nvPr/>
              </p:nvSpPr>
              <p:spPr>
                <a:xfrm>
                  <a:off x="3830040" y="3692160"/>
                  <a:ext cx="186048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38"/>
                <p:cNvSpPr/>
                <p:nvPr/>
              </p:nvSpPr>
              <p:spPr>
                <a:xfrm>
                  <a:off x="3633840" y="3692160"/>
                  <a:ext cx="22536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41"/>
              <p:cNvGrpSpPr/>
              <p:nvPr/>
            </p:nvGrpSpPr>
            <p:grpSpPr>
              <a:xfrm>
                <a:off x="5888520" y="3692160"/>
                <a:ext cx="2252520" cy="548640"/>
                <a:chOff x="5888520" y="3692160"/>
                <a:chExt cx="2252520" cy="548640"/>
              </a:xfrm>
            </p:grpSpPr>
            <p:sp>
              <p:nvSpPr>
                <p:cNvPr id="339" name="Rectangle 11"/>
                <p:cNvSpPr/>
                <p:nvPr/>
              </p:nvSpPr>
              <p:spPr>
                <a:xfrm>
                  <a:off x="6083640" y="3692160"/>
                  <a:ext cx="186156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40"/>
                <p:cNvSpPr/>
                <p:nvPr/>
              </p:nvSpPr>
              <p:spPr>
                <a:xfrm>
                  <a:off x="5888520" y="3692160"/>
                  <a:ext cx="225252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43"/>
              <p:cNvGrpSpPr/>
              <p:nvPr/>
            </p:nvGrpSpPr>
            <p:grpSpPr>
              <a:xfrm>
                <a:off x="1380600" y="4241160"/>
                <a:ext cx="2252520" cy="549000"/>
                <a:chOff x="1380600" y="4241160"/>
                <a:chExt cx="2252520" cy="549000"/>
              </a:xfrm>
            </p:grpSpPr>
            <p:sp>
              <p:nvSpPr>
                <p:cNvPr id="342" name="Rectangle 12"/>
                <p:cNvSpPr/>
                <p:nvPr/>
              </p:nvSpPr>
              <p:spPr>
                <a:xfrm>
                  <a:off x="1576800" y="424116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42"/>
                <p:cNvSpPr/>
                <p:nvPr/>
              </p:nvSpPr>
              <p:spPr>
                <a:xfrm>
                  <a:off x="1380600" y="424116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45"/>
              <p:cNvGrpSpPr/>
              <p:nvPr/>
            </p:nvGrpSpPr>
            <p:grpSpPr>
              <a:xfrm>
                <a:off x="3633840" y="4241160"/>
                <a:ext cx="2253600" cy="549000"/>
                <a:chOff x="3633840" y="4241160"/>
                <a:chExt cx="2253600" cy="549000"/>
              </a:xfrm>
            </p:grpSpPr>
            <p:sp>
              <p:nvSpPr>
                <p:cNvPr id="345" name="Rectangle 13"/>
                <p:cNvSpPr/>
                <p:nvPr/>
              </p:nvSpPr>
              <p:spPr>
                <a:xfrm>
                  <a:off x="3830040" y="4241160"/>
                  <a:ext cx="1860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44"/>
                <p:cNvSpPr/>
                <p:nvPr/>
              </p:nvSpPr>
              <p:spPr>
                <a:xfrm>
                  <a:off x="3633840" y="4241160"/>
                  <a:ext cx="22536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47"/>
              <p:cNvGrpSpPr/>
              <p:nvPr/>
            </p:nvGrpSpPr>
            <p:grpSpPr>
              <a:xfrm>
                <a:off x="5888520" y="4241160"/>
                <a:ext cx="2252520" cy="549000"/>
                <a:chOff x="5888520" y="4241160"/>
                <a:chExt cx="2252520" cy="549000"/>
              </a:xfrm>
            </p:grpSpPr>
            <p:sp>
              <p:nvSpPr>
                <p:cNvPr id="348" name="Rectangle 14"/>
                <p:cNvSpPr/>
                <p:nvPr/>
              </p:nvSpPr>
              <p:spPr>
                <a:xfrm>
                  <a:off x="6083640" y="4241160"/>
                  <a:ext cx="186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хмурое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46"/>
                <p:cNvSpPr/>
                <p:nvPr/>
              </p:nvSpPr>
              <p:spPr>
                <a:xfrm>
                  <a:off x="5888520" y="4241160"/>
                  <a:ext cx="22525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9"/>
              <p:cNvGrpSpPr/>
              <p:nvPr/>
            </p:nvGrpSpPr>
            <p:grpSpPr>
              <a:xfrm>
                <a:off x="1380600" y="4790520"/>
                <a:ext cx="2252520" cy="703080"/>
                <a:chOff x="1380600" y="4790520"/>
                <a:chExt cx="2252520" cy="703080"/>
              </a:xfrm>
            </p:grpSpPr>
            <p:sp>
              <p:nvSpPr>
                <p:cNvPr id="351" name="Rectangle 15"/>
                <p:cNvSpPr/>
                <p:nvPr/>
              </p:nvSpPr>
              <p:spPr>
                <a:xfrm>
                  <a:off x="1576800" y="4790520"/>
                  <a:ext cx="18604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железны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48"/>
                <p:cNvSpPr/>
                <p:nvPr/>
              </p:nvSpPr>
              <p:spPr>
                <a:xfrm>
                  <a:off x="1380600" y="4790520"/>
                  <a:ext cx="22525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51"/>
              <p:cNvGrpSpPr/>
              <p:nvPr/>
            </p:nvGrpSpPr>
            <p:grpSpPr>
              <a:xfrm>
                <a:off x="3633840" y="4790520"/>
                <a:ext cx="2253600" cy="703080"/>
                <a:chOff x="3633840" y="4790520"/>
                <a:chExt cx="2253600" cy="703080"/>
              </a:xfrm>
            </p:grpSpPr>
            <p:sp>
              <p:nvSpPr>
                <p:cNvPr id="354" name="Rectangle 16"/>
                <p:cNvSpPr/>
                <p:nvPr/>
              </p:nvSpPr>
              <p:spPr>
                <a:xfrm>
                  <a:off x="3830040" y="4790520"/>
                  <a:ext cx="18604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50"/>
                <p:cNvSpPr/>
                <p:nvPr/>
              </p:nvSpPr>
              <p:spPr>
                <a:xfrm>
                  <a:off x="3633840" y="4790520"/>
                  <a:ext cx="22536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53"/>
              <p:cNvGrpSpPr/>
              <p:nvPr/>
            </p:nvGrpSpPr>
            <p:grpSpPr>
              <a:xfrm>
                <a:off x="5888520" y="4790520"/>
                <a:ext cx="2252520" cy="703080"/>
                <a:chOff x="5888520" y="4790520"/>
                <a:chExt cx="2252520" cy="703080"/>
              </a:xfrm>
            </p:grpSpPr>
            <p:sp>
              <p:nvSpPr>
                <p:cNvPr id="357" name="Rectangle 17"/>
                <p:cNvSpPr/>
                <p:nvPr/>
              </p:nvSpPr>
              <p:spPr>
                <a:xfrm>
                  <a:off x="6083640" y="4790520"/>
                  <a:ext cx="18615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52"/>
                <p:cNvSpPr/>
                <p:nvPr/>
              </p:nvSpPr>
              <p:spPr>
                <a:xfrm>
                  <a:off x="5888520" y="4790520"/>
                  <a:ext cx="22525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55"/>
              <p:cNvGrpSpPr/>
              <p:nvPr/>
            </p:nvGrpSpPr>
            <p:grpSpPr>
              <a:xfrm>
                <a:off x="1380600" y="5493960"/>
                <a:ext cx="2252520" cy="548640"/>
                <a:chOff x="1380600" y="5493960"/>
                <a:chExt cx="2252520" cy="548640"/>
              </a:xfrm>
            </p:grpSpPr>
            <p:sp>
              <p:nvSpPr>
                <p:cNvPr id="360" name="Rectangle 18"/>
                <p:cNvSpPr/>
                <p:nvPr/>
              </p:nvSpPr>
              <p:spPr>
                <a:xfrm>
                  <a:off x="1576800" y="5493960"/>
                  <a:ext cx="186048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54"/>
                <p:cNvSpPr/>
                <p:nvPr/>
              </p:nvSpPr>
              <p:spPr>
                <a:xfrm>
                  <a:off x="1380600" y="5493960"/>
                  <a:ext cx="225252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57"/>
              <p:cNvGrpSpPr/>
              <p:nvPr/>
            </p:nvGrpSpPr>
            <p:grpSpPr>
              <a:xfrm>
                <a:off x="3633840" y="5493960"/>
                <a:ext cx="2253600" cy="548640"/>
                <a:chOff x="3633840" y="5493960"/>
                <a:chExt cx="2253600" cy="548640"/>
              </a:xfrm>
            </p:grpSpPr>
            <p:sp>
              <p:nvSpPr>
                <p:cNvPr id="363" name="Rectangle 19"/>
                <p:cNvSpPr/>
                <p:nvPr/>
              </p:nvSpPr>
              <p:spPr>
                <a:xfrm>
                  <a:off x="3830040" y="5493960"/>
                  <a:ext cx="186048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спела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56"/>
                <p:cNvSpPr/>
                <p:nvPr/>
              </p:nvSpPr>
              <p:spPr>
                <a:xfrm>
                  <a:off x="3633840" y="5493960"/>
                  <a:ext cx="22536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9"/>
              <p:cNvGrpSpPr/>
              <p:nvPr/>
            </p:nvGrpSpPr>
            <p:grpSpPr>
              <a:xfrm>
                <a:off x="5888520" y="5493960"/>
                <a:ext cx="2252520" cy="548640"/>
                <a:chOff x="5888520" y="5493960"/>
                <a:chExt cx="2252520" cy="548640"/>
              </a:xfrm>
            </p:grpSpPr>
            <p:sp>
              <p:nvSpPr>
                <p:cNvPr id="366" name="Rectangle 20"/>
                <p:cNvSpPr/>
                <p:nvPr/>
              </p:nvSpPr>
              <p:spPr>
                <a:xfrm>
                  <a:off x="6083640" y="5493960"/>
                  <a:ext cx="186156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58"/>
                <p:cNvSpPr/>
                <p:nvPr/>
              </p:nvSpPr>
              <p:spPr>
                <a:xfrm>
                  <a:off x="5888520" y="5493960"/>
                  <a:ext cx="225252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61"/>
              <p:cNvGrpSpPr/>
              <p:nvPr/>
            </p:nvGrpSpPr>
            <p:grpSpPr>
              <a:xfrm>
                <a:off x="1380600" y="6042960"/>
                <a:ext cx="2252520" cy="703080"/>
                <a:chOff x="1380600" y="6042960"/>
                <a:chExt cx="2252520" cy="703080"/>
              </a:xfrm>
            </p:grpSpPr>
            <p:sp>
              <p:nvSpPr>
                <p:cNvPr id="369" name="Rectangle 21"/>
                <p:cNvSpPr/>
                <p:nvPr/>
              </p:nvSpPr>
              <p:spPr>
                <a:xfrm>
                  <a:off x="1576800" y="6042960"/>
                  <a:ext cx="18604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60"/>
                <p:cNvSpPr/>
                <p:nvPr/>
              </p:nvSpPr>
              <p:spPr>
                <a:xfrm>
                  <a:off x="1380600" y="6042960"/>
                  <a:ext cx="22525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63"/>
              <p:cNvGrpSpPr/>
              <p:nvPr/>
            </p:nvGrpSpPr>
            <p:grpSpPr>
              <a:xfrm>
                <a:off x="3633840" y="6042960"/>
                <a:ext cx="2253600" cy="703080"/>
                <a:chOff x="3633840" y="6042960"/>
                <a:chExt cx="2253600" cy="703080"/>
              </a:xfrm>
            </p:grpSpPr>
            <p:sp>
              <p:nvSpPr>
                <p:cNvPr id="372" name="Rectangle 22"/>
                <p:cNvSpPr/>
                <p:nvPr/>
              </p:nvSpPr>
              <p:spPr>
                <a:xfrm>
                  <a:off x="3830040" y="6042960"/>
                  <a:ext cx="18604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62"/>
                <p:cNvSpPr/>
                <p:nvPr/>
              </p:nvSpPr>
              <p:spPr>
                <a:xfrm>
                  <a:off x="3633840" y="6042960"/>
                  <a:ext cx="22536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65"/>
              <p:cNvGrpSpPr/>
              <p:nvPr/>
            </p:nvGrpSpPr>
            <p:grpSpPr>
              <a:xfrm>
                <a:off x="5888520" y="6042960"/>
                <a:ext cx="2252520" cy="703080"/>
                <a:chOff x="5888520" y="6042960"/>
                <a:chExt cx="2252520" cy="703080"/>
              </a:xfrm>
            </p:grpSpPr>
            <p:sp>
              <p:nvSpPr>
                <p:cNvPr id="375" name="Rectangle 23"/>
                <p:cNvSpPr/>
                <p:nvPr/>
              </p:nvSpPr>
              <p:spPr>
                <a:xfrm>
                  <a:off x="6083640" y="6042960"/>
                  <a:ext cx="186156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звонкое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64"/>
                <p:cNvSpPr/>
                <p:nvPr/>
              </p:nvSpPr>
              <p:spPr>
                <a:xfrm>
                  <a:off x="5888520" y="6042960"/>
                  <a:ext cx="22525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Rectangle 67"/>
            <p:cNvSpPr/>
            <p:nvPr/>
          </p:nvSpPr>
          <p:spPr>
            <a:xfrm>
              <a:off x="1371600" y="2590920"/>
              <a:ext cx="6780960" cy="4159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69"/>
          <p:cNvSpPr/>
          <p:nvPr/>
        </p:nvSpPr>
        <p:spPr>
          <a:xfrm>
            <a:off x="1523880" y="312408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ит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0"/>
          <p:cNvSpPr/>
          <p:nvPr/>
        </p:nvSpPr>
        <p:spPr>
          <a:xfrm>
            <a:off x="6095880" y="320040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итр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1"/>
          <p:cNvSpPr/>
          <p:nvPr/>
        </p:nvSpPr>
        <p:spPr>
          <a:xfrm>
            <a:off x="3733920" y="3733920"/>
            <a:ext cx="1981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2"/>
          <p:cNvSpPr/>
          <p:nvPr/>
        </p:nvSpPr>
        <p:spPr>
          <a:xfrm>
            <a:off x="6095880" y="3733920"/>
            <a:ext cx="1905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3"/>
          <p:cNvSpPr/>
          <p:nvPr/>
        </p:nvSpPr>
        <p:spPr>
          <a:xfrm>
            <a:off x="1523880" y="426708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му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4"/>
          <p:cNvSpPr/>
          <p:nvPr/>
        </p:nvSpPr>
        <p:spPr>
          <a:xfrm>
            <a:off x="3886200" y="426708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му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5"/>
          <p:cNvSpPr/>
          <p:nvPr/>
        </p:nvSpPr>
        <p:spPr>
          <a:xfrm>
            <a:off x="3809880" y="4876920"/>
            <a:ext cx="1905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желе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6"/>
          <p:cNvSpPr/>
          <p:nvPr/>
        </p:nvSpPr>
        <p:spPr>
          <a:xfrm>
            <a:off x="6095880" y="4876920"/>
            <a:ext cx="1905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желе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7"/>
          <p:cNvSpPr/>
          <p:nvPr/>
        </p:nvSpPr>
        <p:spPr>
          <a:xfrm>
            <a:off x="1676520" y="5486400"/>
            <a:ext cx="1904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п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8"/>
          <p:cNvSpPr/>
          <p:nvPr/>
        </p:nvSpPr>
        <p:spPr>
          <a:xfrm>
            <a:off x="6095880" y="548640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п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9"/>
          <p:cNvSpPr/>
          <p:nvPr/>
        </p:nvSpPr>
        <p:spPr>
          <a:xfrm>
            <a:off x="1600200" y="609588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вон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0"/>
          <p:cNvSpPr/>
          <p:nvPr/>
        </p:nvSpPr>
        <p:spPr>
          <a:xfrm>
            <a:off x="3809880" y="6095880"/>
            <a:ext cx="19051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вон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1"/>
          <p:cNvSpPr/>
          <p:nvPr/>
        </p:nvSpPr>
        <p:spPr>
          <a:xfrm>
            <a:off x="395280" y="1052640"/>
            <a:ext cx="8497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1220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3. Просклоняйте по падежам словосочетания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резкая боль», «новые карандаши»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белый парус», «красивое плать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217520" y="27432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.п. резкая 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217880" y="3276720"/>
            <a:ext cx="35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.п. резкой 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217520" y="3886200"/>
            <a:ext cx="35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.п. резкой 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218240" y="457200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.п. резкую 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17520" y="525780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.п. резкой бо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1217160" y="586728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.п. о резкой 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95280" y="126828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122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3. Просклоняйте по падежам словосочетания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резкая боль», «новые карандаши»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белый парус», «красивое плать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219320" y="2743200"/>
            <a:ext cx="47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.п. нов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219320" y="3276720"/>
            <a:ext cx="49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.п. новых каранд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217880" y="38862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.п. новым карандаш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219320" y="457200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.п. нов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217160" y="5257800"/>
            <a:ext cx="55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.п. новыми каранда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219320" y="5867280"/>
            <a:ext cx="52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.п. о новых карандаш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468360" y="1268280"/>
            <a:ext cx="835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7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3. Просклоняйте по падежам словосочетания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резкая боль», «новые карандаши»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белый парус», «красивое плать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219680" y="274320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.п. белый па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220040" y="327672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.п. белого пар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218960" y="388620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.п. белому пар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220040" y="4572000"/>
            <a:ext cx="36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.п. белый па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218240" y="5257800"/>
            <a:ext cx="42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.п. белым пар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1218600" y="586728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.п. о белом пар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468360" y="1268280"/>
            <a:ext cx="8424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471600" y="2276640"/>
            <a:ext cx="315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одв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одом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безвод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од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86640" y="290520"/>
            <a:ext cx="8370720" cy="1556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зовите часть речи, которой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кажд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97440" y="35733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996720" y="234936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997080" y="299736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997080" y="414972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97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3. Просклоняйте по падежам словосочетания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резкая боль», «новые карандаши»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белый парус», «красивое плать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17880" y="2743200"/>
            <a:ext cx="44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.п. красивое пла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217880" y="327672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.п. красивого пла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217160" y="388620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.п. красивому пла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1218240" y="457200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.п. красивое пла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216800" y="525780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.п. красивым пла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216800" y="586728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.п. о красивом пла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39640" y="1125360"/>
            <a:ext cx="83534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424720" cy="239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признак, который изменился в каждой паре имен прилагательных: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"красивая - красивое", "умный - умные", "смелый - о смелых".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снуйте свое суждение</a:t>
            </a: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красивая – красивое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 (род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умный – умные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 (числ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мелый - о смелых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(падеж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пишите текст, поставив каждое прилагательное в нужную форму. Обозначьте непостоянные признаки имен прилагательных,  используя известную вам форму сок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Пробегая  по  (влажный, лесной)  темноте, посреди болот и мхов, ручей жалобно роптал, что лес закрывает от него  и  (ясный) небо,  и (далёкий) окрестность, не  пропуская  к  нему    ни  (ясный)  лучи  солнца,  ни  (шаловливый) ветерок.  Ручеек  не  знал, что  сначала  надо набраться  силы  под (лесной) тенью  и  тогда можно  выбежать  на  (открытый)  равнину, но уже  не  (слабый)  ручейком, а  (могучий) рекой.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250920" y="260280"/>
            <a:ext cx="864216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пишите текст, поставив каждое прилагательное в нужную форму. Обозначьте непостоянные признаки имен прилагательных,  используя известную вам форму сок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9912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по  влажной  лесной  темноте (ж.р., ед.ч., Д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ясное небо (ср.р., ед.ч., В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далёкую окрестность (ж.р., ед.ч., В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ясные  лучи (мн.ч., В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шаловливый ветерок (м.р., ед.ч., В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под лесной тенью (ж.р., ед.ч., Т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на  открытую  равнину (ж.р., ед.ч., В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не  слабым  ручейком (м.р., ед.ч., Т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могучей рекой (ж.р., ед.ч., Т.п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324000" y="189000"/>
            <a:ext cx="864072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Образуйте однокоренные имена прилагательные, учитывая признаки, указанные в скобках,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и запишите их:</a:t>
            </a:r>
            <a:br>
              <a:rPr sz="2600"/>
            </a:br>
            <a:r>
              <a:rPr b="1" lang="ru-RU" sz="2600" spc="-1" strike="noStrike">
                <a:solidFill>
                  <a:srgbClr val="800080"/>
                </a:solidFill>
                <a:latin typeface="Calibri"/>
                <a:ea typeface="Times New Roman"/>
              </a:rPr>
              <a:t>грустный - ... (ср.р., ед.ч., Р.п.) </a:t>
            </a:r>
            <a:br>
              <a:rPr sz="2600"/>
            </a:br>
            <a:r>
              <a:rPr b="1" lang="ru-RU" sz="2600" spc="-1" strike="noStrike">
                <a:solidFill>
                  <a:srgbClr val="800080"/>
                </a:solidFill>
                <a:latin typeface="Calibri"/>
                <a:ea typeface="Times New Roman"/>
              </a:rPr>
              <a:t>мудрый - ... (ж.р., ед.ч., Т.п.) </a:t>
            </a:r>
            <a:br>
              <a:rPr sz="2600"/>
            </a:br>
            <a:r>
              <a:rPr b="1" lang="ru-RU" sz="2600" spc="-1" strike="noStrike">
                <a:solidFill>
                  <a:srgbClr val="800080"/>
                </a:solidFill>
                <a:latin typeface="Calibri"/>
                <a:ea typeface="Times New Roman"/>
              </a:rPr>
              <a:t>воздушный - ... (мн.ч., Д.п.) </a:t>
            </a:r>
            <a:br>
              <a:rPr sz="2600"/>
            </a:br>
            <a:r>
              <a:rPr b="1" lang="ru-RU" sz="2600" spc="-1" strike="noStrike">
                <a:solidFill>
                  <a:srgbClr val="800080"/>
                </a:solidFill>
                <a:latin typeface="Calibri"/>
                <a:ea typeface="Times New Roman"/>
              </a:rPr>
              <a:t>скользкий - ... (м.р., ед.ч., П.п.)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209240" y="4040280"/>
            <a:ext cx="41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грустный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- грус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1214280" y="472428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мудрый -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му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1066680" y="5410080"/>
            <a:ext cx="48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воздушный -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воздуш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1064880" y="6019920"/>
            <a:ext cx="47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скользкий –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 скольз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324000" y="836640"/>
            <a:ext cx="856908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0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br>
              <a:rPr sz="30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  <a:ea typeface="Times New Roman"/>
              </a:rPr>
              <a:t>Выпишите из текста все имена прилагательные, определите и обозначьте непостоянные признаки каждого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79280" y="2060640"/>
            <a:ext cx="89647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  <a:ea typeface="Times New Roman"/>
              </a:rPr>
              <a:t>Вес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800080"/>
                </a:solidFill>
                <a:latin typeface="Arial"/>
                <a:ea typeface="Times New Roman"/>
              </a:rPr>
              <a:t>Весна. Стоят чудесные деньки. Бегут ручьи. Пышным ковром лежит мох. По зелёной траве  прыгают  шустрые воробьи. Стриж строит уютное гнёздышко. Зайчик бежит  к ручью.  Ручей  даёт  чистую воду  людям  и  животным</a:t>
            </a: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93040" y="4462560"/>
            <a:ext cx="365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Чудесные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 (мн. ч., И.п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168440" y="4437000"/>
            <a:ext cx="419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пышным 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(ед. ч., м.р., Т.п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06720" y="5054760"/>
            <a:ext cx="396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зелёной 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(ед. ч., ж.р., Д.п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4548960" y="5084640"/>
            <a:ext cx="353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шустр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ые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(мн. ч., И.п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380160" y="5664240"/>
            <a:ext cx="379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уютное 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(ед. ч., с.р., В.п.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4401000" y="5661000"/>
            <a:ext cx="382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чистую 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(ед. ч., ж.р., В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79280" y="907920"/>
            <a:ext cx="87854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735280"/>
          </a:xfrm>
          <a:prstGeom prst="rect">
            <a:avLst/>
          </a:prstGeom>
          <a:noFill/>
          <a:ln w="32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Выделите графически каждую группу прилагательных: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ним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цветом - качественные;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cc00"/>
                </a:solidFill>
                <a:latin typeface="Calibri"/>
              </a:rPr>
              <a:t>зелёным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цветом - относительные;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красным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цветом - притяжатель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70880" y="2997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ет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2774520" y="299736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быстр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294520" y="299736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ис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7022880" y="299736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овк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42520" y="37116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олч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470160" y="4365720"/>
            <a:ext cx="30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теклян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2773440" y="372420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бумаж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2"/>
          <p:cNvSpPr/>
          <p:nvPr/>
        </p:nvSpPr>
        <p:spPr>
          <a:xfrm>
            <a:off x="5654160" y="372420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осковск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3710160" y="437184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глубо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5364000" y="3573360"/>
            <a:ext cx="151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611280" y="429264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539640" y="4941720"/>
            <a:ext cx="2808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539640" y="3573360"/>
            <a:ext cx="1871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6"/>
          <p:cNvSpPr/>
          <p:nvPr/>
        </p:nvSpPr>
        <p:spPr>
          <a:xfrm>
            <a:off x="2843280" y="4292640"/>
            <a:ext cx="237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724360" y="4292640"/>
            <a:ext cx="2735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>
            <a:off x="2843280" y="3573360"/>
            <a:ext cx="208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7054920" y="3573360"/>
            <a:ext cx="1693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3780000" y="4941720"/>
            <a:ext cx="208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разряд прилагательного в каждом словосочетании и напишите его в соответствующую группу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- качественные прилагательные;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относительные прилагательные;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притяжательные прилагательные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Резиновые сапоги, дождливая осень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хотничья лодка, яркая звезда, летний ветер, медвежья берлога, сильный снегоп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24000" y="549360"/>
            <a:ext cx="8640720" cy="33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43588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чественные прилагательные: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27240" y="1413000"/>
            <a:ext cx="60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яркая звезда, сильный снегопад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26160" y="2414520"/>
            <a:ext cx="78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носительные прилагатель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31200" y="3141720"/>
            <a:ext cx="83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езиновые сапоги, дождливая осень, лет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25440" y="4581360"/>
            <a:ext cx="81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итяжательные прилагатель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331560" y="5229360"/>
            <a:ext cx="67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хотничья лодка, медвежья берл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пределите в данном тексте разряд прилагательного и обозначьте его, используя известную форму сок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На охо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Был чудесный осенний день. Охотники отправили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на охоту. Дорога шла сосновым лесом. Последний луч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заходящего солнца золотил края облаков. Ещё слыш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птичья перекличка. Вот солнце скрылось за горизонт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По лесной дороге охотники выехали на узкую тропинк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друг  резкий  ветер  закачал  ветки  деревьев.  Скор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показалась  рыбачья  хижина.  Путники  решили  та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заночев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39640" y="189000"/>
            <a:ext cx="799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334800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1908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99564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87708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9528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97164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651672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147636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2484360" y="501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795672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64520" y="620640"/>
            <a:ext cx="6997680" cy="253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Можно ли утверждать, что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Times New Roman"/>
              </a:rPr>
              <a:t>«подводный»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Times New Roman"/>
              </a:rPr>
              <a:t>«водитель»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являются однокорен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Обоснуйте сво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332000" y="3573360"/>
            <a:ext cx="6480000" cy="2226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ожно ли утверждать, что слова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«подводный»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«водомер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являются одной частью речи? Обоснуйте св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оставьте и напишите вывод, используя карточку-подсказку: 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"Постоянным признаком имени прилагательного является ___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, который указывает на качество предмета, выраженное в большой или меньшой степени, у _____________ прилагательных (например: _____________),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а относительность предмета к чему либо у ______________ прилагательных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(например: _______________), на принадлежность живому существу у ________________ прилагательных (например: _____________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2843280" y="220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21964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качеств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979640" y="4365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тнос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4932360" y="522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итяж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556000" y="479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школьный 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724360" y="3500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глубокий 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5724360" y="566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беличи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55640" y="260280"/>
            <a:ext cx="7993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1244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Определите постоянный признак каждого имени прилагательного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, обозначьте его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 напишите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го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соответствующую группу: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относитель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;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ритяжатель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</a:t>
            </a:r>
            <a:br>
              <a:rPr sz="2800"/>
            </a:br>
            <a:br>
              <a:rPr sz="1400"/>
            </a:b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Большой, заячий, настенный, кирпичный,   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узкий, рыбий, апельсиновый, острый, папин, осен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380520" y="4802040"/>
            <a:ext cx="795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носительные: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стенный, кирпич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пельсиновый, о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03840" y="5792760"/>
            <a:ext cx="78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тяжательны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ячий,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рыбий,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апин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50920" y="765000"/>
            <a:ext cx="864216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Спишите текст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, определите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чественные имена прилагательные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 и обозначьте их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используя известную сокращенную форму</a:t>
            </a:r>
            <a:br>
              <a:rPr sz="3000"/>
            </a:br>
            <a:br>
              <a:rPr sz="30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Протянулся через дорогу и скрылся в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тёмном ельнике заячий след. Тонкий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 лисий след вьётся вдоль дороги. Шустрая белка махнула пушистым хвостиком и прыгнула на ёлку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1752480" y="2514600"/>
            <a:ext cx="609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1908000" y="429264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ч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1548360" y="32846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7165080" y="32846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804720" y="42926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684360" y="1052640"/>
            <a:ext cx="79912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435880" cy="196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Назовите главные и второстепенные члены  в предложении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"Над бурной рекой склонялись ветви ивы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560" y="285228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ветви склонялись –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грамматическая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ос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над рекой –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обстоятель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бурной –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ивы -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допол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1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-360" y="1484280"/>
            <a:ext cx="60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года на улице пасму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4000" y="2276640"/>
            <a:ext cx="90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 осеннему небу мчаться кучевые обла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0" y="3179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Сильный дождь срывает листья с деревье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-360" y="4005360"/>
            <a:ext cx="55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етер необычайно си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72240" y="108000"/>
            <a:ext cx="862668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зовите предложения, в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рилагательное является определ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2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456840"/>
            <a:ext cx="842472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жно ли утверждать, что в предложении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"Волшебную палочку положили в коробку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имя прилагательное является сказуемым? Обоснуйте свой отве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7920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жно ли утверждать, что в предложении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"Моя сестра красивая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"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прилагательное является определением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снуйте сво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324000" y="549360"/>
            <a:ext cx="828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395280" y="3716280"/>
            <a:ext cx="820908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пишите текст, определите, каким членом предложения является каждое имя прилагательное, и выделите его графически как член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Зимой на севе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Тяжело зимой людям и животным на крайн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евере.  Зима там длинная.  Сильная ме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заносит  все  дороги. Людей  и  груз  везут 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обаках лайках. Эти собаки очень дружны. 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тоже  трудно  зимой. В  густую  шерсть  соб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падает снег. Между пальцами лап намерзаю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стрые льдинки  и  мешают  бежать. Но  соба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могают  людям.  Это  верные 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4"/>
          <p:cNvSpPr/>
          <p:nvPr/>
        </p:nvSpPr>
        <p:spPr>
          <a:xfrm>
            <a:off x="6588000" y="292428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5219640" y="3357720"/>
            <a:ext cx="1393920" cy="11556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6"/>
          <p:cNvSpPr/>
          <p:nvPr/>
        </p:nvSpPr>
        <p:spPr>
          <a:xfrm>
            <a:off x="4211640" y="479736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7"/>
          <p:cNvSpPr/>
          <p:nvPr/>
        </p:nvSpPr>
        <p:spPr>
          <a:xfrm>
            <a:off x="324000" y="5734080"/>
            <a:ext cx="1393560" cy="11592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8"/>
          <p:cNvSpPr/>
          <p:nvPr/>
        </p:nvSpPr>
        <p:spPr>
          <a:xfrm>
            <a:off x="4356000" y="623736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419640" y="3429000"/>
            <a:ext cx="1439280" cy="71280"/>
            <a:chOff x="3419640" y="3429000"/>
            <a:chExt cx="1439280" cy="71280"/>
          </a:xfrm>
        </p:grpSpPr>
        <p:sp>
          <p:nvSpPr>
            <p:cNvPr id="526" name="Line 10"/>
            <p:cNvSpPr/>
            <p:nvPr/>
          </p:nvSpPr>
          <p:spPr>
            <a:xfrm>
              <a:off x="3419640" y="350028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"/>
            <p:cNvSpPr/>
            <p:nvPr/>
          </p:nvSpPr>
          <p:spPr>
            <a:xfrm>
              <a:off x="3419640" y="342900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2"/>
          <p:cNvGrpSpPr/>
          <p:nvPr/>
        </p:nvGrpSpPr>
        <p:grpSpPr>
          <a:xfrm>
            <a:off x="6012000" y="4365720"/>
            <a:ext cx="1439280" cy="71280"/>
            <a:chOff x="6012000" y="4365720"/>
            <a:chExt cx="1439280" cy="71280"/>
          </a:xfrm>
        </p:grpSpPr>
        <p:sp>
          <p:nvSpPr>
            <p:cNvPr id="529" name="Line 13"/>
            <p:cNvSpPr/>
            <p:nvPr/>
          </p:nvSpPr>
          <p:spPr>
            <a:xfrm>
              <a:off x="6012000" y="443700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4"/>
            <p:cNvSpPr/>
            <p:nvPr/>
          </p:nvSpPr>
          <p:spPr>
            <a:xfrm>
              <a:off x="6012000" y="436572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5"/>
          <p:cNvGrpSpPr/>
          <p:nvPr/>
        </p:nvGrpSpPr>
        <p:grpSpPr>
          <a:xfrm>
            <a:off x="250920" y="2924280"/>
            <a:ext cx="1439280" cy="71280"/>
            <a:chOff x="250920" y="2924280"/>
            <a:chExt cx="1439280" cy="71280"/>
          </a:xfrm>
        </p:grpSpPr>
        <p:sp>
          <p:nvSpPr>
            <p:cNvPr id="532" name="Line 16"/>
            <p:cNvSpPr/>
            <p:nvPr/>
          </p:nvSpPr>
          <p:spPr>
            <a:xfrm>
              <a:off x="250920" y="299556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250920" y="2924280"/>
              <a:ext cx="143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1258920" y="4797360"/>
            <a:ext cx="1439640" cy="71640"/>
            <a:chOff x="1258920" y="4797360"/>
            <a:chExt cx="1439640" cy="71640"/>
          </a:xfrm>
        </p:grpSpPr>
        <p:sp>
          <p:nvSpPr>
            <p:cNvPr id="535" name="Line 19"/>
            <p:cNvSpPr/>
            <p:nvPr/>
          </p:nvSpPr>
          <p:spPr>
            <a:xfrm>
              <a:off x="1258920" y="486900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>
              <a:off x="1258920" y="47973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21"/>
          <p:cNvSpPr/>
          <p:nvPr/>
        </p:nvSpPr>
        <p:spPr>
          <a:xfrm>
            <a:off x="250920" y="189000"/>
            <a:ext cx="86421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br>
              <a:rPr sz="36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Спишите каждое предложение и  выделите графически имена прилагательные как члены предложения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"Летним днём мы шли по сосновому лесу. В небе яркое солнце."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Group 30"/>
          <p:cNvGrpSpPr/>
          <p:nvPr/>
        </p:nvGrpSpPr>
        <p:grpSpPr>
          <a:xfrm>
            <a:off x="3276720" y="3068640"/>
            <a:ext cx="990360" cy="144360"/>
            <a:chOff x="3276720" y="3068640"/>
            <a:chExt cx="990360" cy="144360"/>
          </a:xfrm>
        </p:grpSpPr>
        <p:sp>
          <p:nvSpPr>
            <p:cNvPr id="540" name="Line 3"/>
            <p:cNvSpPr/>
            <p:nvPr/>
          </p:nvSpPr>
          <p:spPr>
            <a:xfrm>
              <a:off x="3276720" y="32130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3276720" y="3068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Freeform 5"/>
          <p:cNvSpPr/>
          <p:nvPr/>
        </p:nvSpPr>
        <p:spPr>
          <a:xfrm>
            <a:off x="611280" y="2637000"/>
            <a:ext cx="1393560" cy="1155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50920" y="3500280"/>
            <a:ext cx="8713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схему, соответствующую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уктуре данного предложения и укажите  стрело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оре сегодня спокойное.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8"/>
          <p:cNvGrpSpPr/>
          <p:nvPr/>
        </p:nvGrpSpPr>
        <p:grpSpPr>
          <a:xfrm>
            <a:off x="5148360" y="5373720"/>
            <a:ext cx="3239640" cy="201240"/>
            <a:chOff x="5148360" y="5373720"/>
            <a:chExt cx="3239640" cy="201240"/>
          </a:xfrm>
        </p:grpSpPr>
        <p:sp>
          <p:nvSpPr>
            <p:cNvPr id="545" name="Line 15"/>
            <p:cNvSpPr/>
            <p:nvPr/>
          </p:nvSpPr>
          <p:spPr>
            <a:xfrm>
              <a:off x="5148360" y="5373720"/>
              <a:ext cx="78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1"/>
            <p:cNvSpPr/>
            <p:nvPr/>
          </p:nvSpPr>
          <p:spPr>
            <a:xfrm>
              <a:off x="7662240" y="537372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3"/>
            <p:cNvSpPr/>
            <p:nvPr/>
          </p:nvSpPr>
          <p:spPr>
            <a:xfrm>
              <a:off x="7662240" y="557496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4"/>
            <p:cNvSpPr/>
            <p:nvPr/>
          </p:nvSpPr>
          <p:spPr>
            <a:xfrm>
              <a:off x="6202080" y="5398200"/>
              <a:ext cx="1108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9"/>
          <p:cNvGrpSpPr/>
          <p:nvPr/>
        </p:nvGrpSpPr>
        <p:grpSpPr>
          <a:xfrm>
            <a:off x="5148360" y="4724280"/>
            <a:ext cx="3239640" cy="217080"/>
            <a:chOff x="5148360" y="4724280"/>
            <a:chExt cx="3239640" cy="217080"/>
          </a:xfrm>
        </p:grpSpPr>
        <p:sp>
          <p:nvSpPr>
            <p:cNvPr id="550" name="Line 7"/>
            <p:cNvSpPr/>
            <p:nvPr/>
          </p:nvSpPr>
          <p:spPr>
            <a:xfrm>
              <a:off x="5148360" y="4834080"/>
              <a:ext cx="79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7630200" y="4724280"/>
              <a:ext cx="757800" cy="21708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37" h="88">
                  <a:moveTo>
                    <a:pt x="0" y="56"/>
                  </a:moveTo>
                  <a:cubicBezTo>
                    <a:pt x="20" y="42"/>
                    <a:pt x="24" y="29"/>
                    <a:pt x="39" y="17"/>
                  </a:cubicBezTo>
                  <a:cubicBezTo>
                    <a:pt x="49" y="9"/>
                    <a:pt x="62" y="7"/>
                    <a:pt x="72" y="0"/>
                  </a:cubicBezTo>
                  <a:cubicBezTo>
                    <a:pt x="83" y="4"/>
                    <a:pt x="96" y="5"/>
                    <a:pt x="106" y="11"/>
                  </a:cubicBezTo>
                  <a:cubicBezTo>
                    <a:pt x="127" y="24"/>
                    <a:pt x="141" y="48"/>
                    <a:pt x="162" y="62"/>
                  </a:cubicBezTo>
                  <a:cubicBezTo>
                    <a:pt x="175" y="60"/>
                    <a:pt x="189" y="61"/>
                    <a:pt x="201" y="56"/>
                  </a:cubicBezTo>
                  <a:cubicBezTo>
                    <a:pt x="213" y="51"/>
                    <a:pt x="224" y="43"/>
                    <a:pt x="234" y="34"/>
                  </a:cubicBezTo>
                  <a:cubicBezTo>
                    <a:pt x="238" y="30"/>
                    <a:pt x="241" y="25"/>
                    <a:pt x="246" y="23"/>
                  </a:cubicBezTo>
                  <a:cubicBezTo>
                    <a:pt x="258" y="17"/>
                    <a:pt x="281" y="10"/>
                    <a:pt x="296" y="6"/>
                  </a:cubicBezTo>
                  <a:cubicBezTo>
                    <a:pt x="324" y="10"/>
                    <a:pt x="328" y="5"/>
                    <a:pt x="346" y="23"/>
                  </a:cubicBezTo>
                  <a:cubicBezTo>
                    <a:pt x="351" y="28"/>
                    <a:pt x="352" y="35"/>
                    <a:pt x="358" y="39"/>
                  </a:cubicBezTo>
                  <a:cubicBezTo>
                    <a:pt x="368" y="45"/>
                    <a:pt x="391" y="51"/>
                    <a:pt x="391" y="51"/>
                  </a:cubicBezTo>
                  <a:cubicBezTo>
                    <a:pt x="414" y="84"/>
                    <a:pt x="442" y="68"/>
                    <a:pt x="475" y="56"/>
                  </a:cubicBezTo>
                  <a:cubicBezTo>
                    <a:pt x="513" y="19"/>
                    <a:pt x="498" y="35"/>
                    <a:pt x="520" y="11"/>
                  </a:cubicBezTo>
                  <a:cubicBezTo>
                    <a:pt x="531" y="13"/>
                    <a:pt x="543" y="11"/>
                    <a:pt x="553" y="17"/>
                  </a:cubicBezTo>
                  <a:cubicBezTo>
                    <a:pt x="560" y="21"/>
                    <a:pt x="577" y="81"/>
                    <a:pt x="587" y="84"/>
                  </a:cubicBezTo>
                  <a:cubicBezTo>
                    <a:pt x="603" y="88"/>
                    <a:pt x="620" y="84"/>
                    <a:pt x="637" y="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6226920" y="4834080"/>
              <a:ext cx="1132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31"/>
          <p:cNvSpPr/>
          <p:nvPr/>
        </p:nvSpPr>
        <p:spPr>
          <a:xfrm>
            <a:off x="4932360" y="2637000"/>
            <a:ext cx="1393920" cy="11556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3"/>
          <p:cNvSpPr/>
          <p:nvPr/>
        </p:nvSpPr>
        <p:spPr>
          <a:xfrm>
            <a:off x="395280" y="836640"/>
            <a:ext cx="842472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4"/>
          <p:cNvSpPr/>
          <p:nvPr/>
        </p:nvSpPr>
        <p:spPr>
          <a:xfrm>
            <a:off x="395280" y="3500280"/>
            <a:ext cx="8424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1800" cy="239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Назовите имена прилагательные, которые имеют начальную  форму: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«туманное»,  «берёзовый», «овсяная», «малиновое, «хмурый», «семейный», «красна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4920" y="3715920"/>
            <a:ext cx="82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Берёзовый, хмурый, семей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Алгоритм выполнения морфологического разбора имени прилага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Чтобы выполнить морфологический разбор имени прилагательного, над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пределить часть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исать слово в началь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пределить постоянный признак: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чественное, относительное, притяжательное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пределить непостоянные признаки: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число, род падеж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пределить член предложения, которым является имя прилагатель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5800" y="3352680"/>
            <a:ext cx="86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тоит ненастная осенняя по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70080" y="304920"/>
            <a:ext cx="8385840" cy="2043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Определите часть речи, которой выраж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каждое слово в предложении и обознач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используя известную вам форму сок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28720" y="285264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772720" y="28526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220720" y="28526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094520" y="285264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На днях я прочитал интересную кни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Интересную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– имя прилагательно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.ф. – интересный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Пост. признак: качественн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епост. признак: ед.ч., ж.р., В.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нтересную (книгу) – определе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3"/>
          <p:cNvSpPr/>
          <p:nvPr/>
        </p:nvSpPr>
        <p:spPr>
          <a:xfrm>
            <a:off x="539640" y="4941720"/>
            <a:ext cx="1224000" cy="698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"/>
          <p:cNvSpPr/>
          <p:nvPr/>
        </p:nvSpPr>
        <p:spPr>
          <a:xfrm>
            <a:off x="1763640" y="494172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435880" cy="196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Верно ли выполнен морфологический разбор имени прилагательного в предложении: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«На ночлег туристы остановились в горной местности.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(В) горной – имя прилагательно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Н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. – горный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Непост. признаки: ед.ч, ср.р., И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ост. признак: относительно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(В) горной (местности) – дополнени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4"/>
          <p:cNvSpPr/>
          <p:nvPr/>
        </p:nvSpPr>
        <p:spPr>
          <a:xfrm>
            <a:off x="971640" y="5373720"/>
            <a:ext cx="1393560" cy="11592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273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разуйте от данных имён существительных: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звезда», «дождь», «ярость», «воробей», «вкус», «местность»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днокоренные имена прилагательные и напишите каждое в начальной форме</a:t>
            </a:r>
            <a:br>
              <a:rPr sz="2800"/>
            </a:b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звезда -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 звёзд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дождь -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дожд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ярость -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ярос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воробей –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воробьи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вкус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– вкус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местность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- мес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56908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еделите имя прилагательное в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«В лесу стоял запах сухих листьев.»,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 выполните его морфологический разбор, используя известный алгорит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ухих – имя прилагательно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Н.Ф. – сухой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ост. признак: качественно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Непост. признаки: мн.ч,  Р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ухих (листьев) – определение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4"/>
          <p:cNvSpPr/>
          <p:nvPr/>
        </p:nvSpPr>
        <p:spPr>
          <a:xfrm>
            <a:off x="395280" y="537372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50920" y="333360"/>
            <a:ext cx="85690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0560" y="2060280"/>
            <a:ext cx="8713800" cy="21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«В спокойное озеро смотрится ясное небо. Лес забирается на склоны сопок, цепляется за дикую землю. Он завоёвывает огромный край, крутые скалы, гранитные утёсы.»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755640" y="5084640"/>
            <a:ext cx="7345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50920" y="260280"/>
            <a:ext cx="87138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250920" y="189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пределите в тексте слово, которое соответствует характеристике: имя прилагательное, качественное,  В.п., ед.ч., ж.р. и выпишите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2987640" y="4941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и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250920" y="189000"/>
            <a:ext cx="86421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0560" y="2060280"/>
            <a:ext cx="8713800" cy="21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«В спокойное озеро смотрится ясное небо. Лес забирается на склоны сопок, цепляется за дикую землю. Он завоёвывает огромный край, крутые скалы, гранитные утёсы.»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24000" y="4365720"/>
            <a:ext cx="7345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Гранитные – имя прилага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Н.ф. – гранит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Пост. признак: относи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Непост. признаки: мн.ч, В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Гранитные (утёсы) – опреде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250920" y="260280"/>
            <a:ext cx="87138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250920" y="189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пределите в тексте относ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илагательное и выпол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его морфологический разбор, использу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звест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8"/>
          <p:cNvSpPr/>
          <p:nvPr/>
        </p:nvSpPr>
        <p:spPr>
          <a:xfrm>
            <a:off x="611280" y="6381720"/>
            <a:ext cx="1393560" cy="11592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684360" y="189000"/>
            <a:ext cx="784836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8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им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на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прилагатель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 в предложении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В лесной чаще среди жёлтых листьев мелькнул беличий хвост."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выполните морф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бор всех прилагательных, использу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звестный алгорит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876600" y="3357720"/>
            <a:ext cx="466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(В) лесной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л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относ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ед.ч., ж.р., П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В лесной (чаще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"/>
          <p:cNvSpPr/>
          <p:nvPr/>
        </p:nvSpPr>
        <p:spPr>
          <a:xfrm>
            <a:off x="826920" y="551664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250920" y="765000"/>
            <a:ext cx="8713800" cy="25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8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им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на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прилагатель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 в предложении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В лесной чаще среди жёлтых листьев мелькнул беличий хвост."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выполните морф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бор всех прилагательных, использу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звестный алгорит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943200" y="3357720"/>
            <a:ext cx="55252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(Среди) жёлтых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жёл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качеств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мн.ч., Р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реди жёлтых (листьев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"/>
          <p:cNvSpPr/>
          <p:nvPr/>
        </p:nvSpPr>
        <p:spPr>
          <a:xfrm>
            <a:off x="1619280" y="551664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50920" y="765000"/>
            <a:ext cx="8642160" cy="25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8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им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на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прилагатель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 в предложении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В лесной чаще среди жёлтых листьев мелькнул беличий хвост."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выполните морф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бор всех прилагательных, использу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звестный алгорит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815040" y="3357720"/>
            <a:ext cx="45194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Беличий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бели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притяж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ед.ч., м.р., И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Беличий (хвост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"/>
          <p:cNvSpPr/>
          <p:nvPr/>
        </p:nvSpPr>
        <p:spPr>
          <a:xfrm>
            <a:off x="684360" y="5516640"/>
            <a:ext cx="1393560" cy="11592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250920" y="765000"/>
            <a:ext cx="8642160" cy="25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1. Определите  часть речи, которой является каждое слово и соотнесите с ее названием стрелочкой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арый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осторожность                       имя сущ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 сторожить        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ареть                                 имя прил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орожевой 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арость                               глагол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сторож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2058120" y="228600"/>
            <a:ext cx="47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124000" y="3141720"/>
            <a:ext cx="360036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2700360" y="4221000"/>
            <a:ext cx="3090960" cy="126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2195640" y="4653000"/>
            <a:ext cx="3367080" cy="83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"/>
          <p:cNvSpPr/>
          <p:nvPr/>
        </p:nvSpPr>
        <p:spPr>
          <a:xfrm flipV="1">
            <a:off x="2916360" y="4652640"/>
            <a:ext cx="2735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"/>
          <p:cNvSpPr/>
          <p:nvPr/>
        </p:nvSpPr>
        <p:spPr>
          <a:xfrm flipV="1">
            <a:off x="2411280" y="3645000"/>
            <a:ext cx="331308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V="1">
            <a:off x="2484360" y="3716280"/>
            <a:ext cx="3311640" cy="23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395280" y="1052640"/>
            <a:ext cx="813744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 flipV="1">
            <a:off x="3276720" y="3645000"/>
            <a:ext cx="2447640" cy="2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051"/>
          <p:cNvSpPr/>
          <p:nvPr/>
        </p:nvSpPr>
        <p:spPr>
          <a:xfrm>
            <a:off x="528840" y="2133720"/>
            <a:ext cx="8112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Из-за холодных утренних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рос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хлеб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рос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Простой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трактора произошёл по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простой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причин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водовоз не подвёз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Кто без кисти и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белил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крыши города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белил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На то и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печь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, чтоб пироги в ней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  <a:ea typeface="Times New Roman"/>
              </a:rPr>
              <a:t>печь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52"/>
          <p:cNvSpPr/>
          <p:nvPr/>
        </p:nvSpPr>
        <p:spPr>
          <a:xfrm>
            <a:off x="1133280" y="250920"/>
            <a:ext cx="682992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Определите часть речи, ко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выражены выделенные слов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53"/>
          <p:cNvSpPr/>
          <p:nvPr/>
        </p:nvSpPr>
        <p:spPr>
          <a:xfrm>
            <a:off x="5941800" y="1751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54"/>
          <p:cNvSpPr/>
          <p:nvPr/>
        </p:nvSpPr>
        <p:spPr>
          <a:xfrm>
            <a:off x="4429080" y="17510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55"/>
          <p:cNvSpPr/>
          <p:nvPr/>
        </p:nvSpPr>
        <p:spPr>
          <a:xfrm>
            <a:off x="685800" y="26370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56"/>
          <p:cNvSpPr/>
          <p:nvPr/>
        </p:nvSpPr>
        <p:spPr>
          <a:xfrm>
            <a:off x="5941080" y="26370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57"/>
          <p:cNvSpPr/>
          <p:nvPr/>
        </p:nvSpPr>
        <p:spPr>
          <a:xfrm>
            <a:off x="3060720" y="39337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58"/>
          <p:cNvSpPr/>
          <p:nvPr/>
        </p:nvSpPr>
        <p:spPr>
          <a:xfrm>
            <a:off x="6589440" y="3933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59"/>
          <p:cNvSpPr/>
          <p:nvPr/>
        </p:nvSpPr>
        <p:spPr>
          <a:xfrm>
            <a:off x="1549440" y="4797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60"/>
          <p:cNvSpPr/>
          <p:nvPr/>
        </p:nvSpPr>
        <p:spPr>
          <a:xfrm>
            <a:off x="5725800" y="4797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152280" y="121932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т имени существительного образу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окоренное имя прилагательное по заданным грамматическим признакам и напишите его вместе с именем существительны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есна -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..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дню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ед.ч., м.р., Д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солнце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-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...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погоды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ед.ч., ж.р., Р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туман - ...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вечерах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мн.ч., П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рога - ...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приключением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ед.ч., ср.р.,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Т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емля - ...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</a:rPr>
              <a:t>окопы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мн.ч., В.п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050920" y="33577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весенн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124000" y="3789360"/>
            <a:ext cx="196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солнеч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981080" y="4221000"/>
            <a:ext cx="211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о тум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2050200" y="4653000"/>
            <a:ext cx="196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дорож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1835280" y="5084640"/>
            <a:ext cx="184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земля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179280" y="1197000"/>
            <a:ext cx="878544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324000" y="1052640"/>
            <a:ext cx="8675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Напишите к каждому имени существительному одно имя прилагательное, учитывая  признаки, указанные в скоб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халат - ....................... (притяжа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латье - ....................... (качествен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костюм - ....................... (относи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1979640" y="27082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бабушк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2124000" y="321300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красив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2340000" y="37162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Arial"/>
              </a:rPr>
              <a:t>шерстя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324000" y="1052640"/>
            <a:ext cx="8424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324000" y="1052640"/>
            <a:ext cx="867564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Спишите предложение и выделите графически каждое имя прилагательное как чле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ядом с лесной избушкой старый ох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видел лисью н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7"/>
          <p:cNvSpPr/>
          <p:nvPr/>
        </p:nvSpPr>
        <p:spPr>
          <a:xfrm>
            <a:off x="1979640" y="278136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"/>
          <p:cNvSpPr/>
          <p:nvPr/>
        </p:nvSpPr>
        <p:spPr>
          <a:xfrm>
            <a:off x="1763640" y="3429000"/>
            <a:ext cx="1393920" cy="115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9"/>
          <p:cNvSpPr/>
          <p:nvPr/>
        </p:nvSpPr>
        <p:spPr>
          <a:xfrm>
            <a:off x="5148360" y="2781360"/>
            <a:ext cx="1393560" cy="11592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24000" y="1052640"/>
            <a:ext cx="85690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24000" y="1052640"/>
            <a:ext cx="867564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ыполните морфологический разбор каждого  прилагательного, используя известный алгори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ядом с лесной избушкой старый ох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видел лисью н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662760" y="3716280"/>
            <a:ext cx="50817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(С) лесной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л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относ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ед.ч., ж.р., Т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 лесной (избушкой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"/>
          <p:cNvSpPr/>
          <p:nvPr/>
        </p:nvSpPr>
        <p:spPr>
          <a:xfrm>
            <a:off x="611280" y="5877000"/>
            <a:ext cx="1296720" cy="1159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0"/>
          <p:cNvSpPr/>
          <p:nvPr/>
        </p:nvSpPr>
        <p:spPr>
          <a:xfrm>
            <a:off x="179280" y="981000"/>
            <a:ext cx="87138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324000" y="1052640"/>
            <a:ext cx="867564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ыполните морфологический разбор каждого  прилагательного, используя известный алгори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ядом с лесной избушкой старый ох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видел лисью н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40800" y="3716280"/>
            <a:ext cx="46414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Старый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ста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качеств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ед.ч., м.р., И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тарый (охотник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"/>
          <p:cNvSpPr/>
          <p:nvPr/>
        </p:nvSpPr>
        <p:spPr>
          <a:xfrm>
            <a:off x="395280" y="5877000"/>
            <a:ext cx="1297080" cy="11592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179280" y="1052640"/>
            <a:ext cx="87138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24000" y="1052640"/>
            <a:ext cx="867564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ыполните морфологический разбор каждого  прилагательного, используя известный алгори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ядом с лесной избушкой старый ох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видел лисью н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610200" y="3716280"/>
            <a:ext cx="44978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Лисью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имя прилаг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.ф. – ли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ст. признак: притяжа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епост. признак: ед.ч., ж.р., В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Лисью (нору) –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5"/>
          <p:cNvSpPr/>
          <p:nvPr/>
        </p:nvSpPr>
        <p:spPr>
          <a:xfrm>
            <a:off x="611280" y="5877000"/>
            <a:ext cx="1296720" cy="1159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878" h="73">
                <a:moveTo>
                  <a:pt x="0" y="23"/>
                </a:moveTo>
                <a:cubicBezTo>
                  <a:pt x="37" y="13"/>
                  <a:pt x="40" y="10"/>
                  <a:pt x="78" y="23"/>
                </a:cubicBezTo>
                <a:cubicBezTo>
                  <a:pt x="127" y="69"/>
                  <a:pt x="60" y="58"/>
                  <a:pt x="184" y="51"/>
                </a:cubicBezTo>
                <a:cubicBezTo>
                  <a:pt x="212" y="41"/>
                  <a:pt x="211" y="14"/>
                  <a:pt x="240" y="6"/>
                </a:cubicBezTo>
                <a:cubicBezTo>
                  <a:pt x="271" y="12"/>
                  <a:pt x="289" y="30"/>
                  <a:pt x="318" y="39"/>
                </a:cubicBezTo>
                <a:cubicBezTo>
                  <a:pt x="344" y="65"/>
                  <a:pt x="357" y="55"/>
                  <a:pt x="397" y="51"/>
                </a:cubicBezTo>
                <a:cubicBezTo>
                  <a:pt x="410" y="37"/>
                  <a:pt x="412" y="24"/>
                  <a:pt x="425" y="11"/>
                </a:cubicBezTo>
                <a:cubicBezTo>
                  <a:pt x="449" y="15"/>
                  <a:pt x="469" y="21"/>
                  <a:pt x="492" y="28"/>
                </a:cubicBezTo>
                <a:cubicBezTo>
                  <a:pt x="514" y="42"/>
                  <a:pt x="524" y="65"/>
                  <a:pt x="548" y="73"/>
                </a:cubicBezTo>
                <a:cubicBezTo>
                  <a:pt x="578" y="71"/>
                  <a:pt x="608" y="73"/>
                  <a:pt x="637" y="67"/>
                </a:cubicBezTo>
                <a:cubicBezTo>
                  <a:pt x="648" y="65"/>
                  <a:pt x="694" y="11"/>
                  <a:pt x="710" y="0"/>
                </a:cubicBezTo>
                <a:cubicBezTo>
                  <a:pt x="750" y="9"/>
                  <a:pt x="751" y="14"/>
                  <a:pt x="783" y="34"/>
                </a:cubicBezTo>
                <a:cubicBezTo>
                  <a:pt x="805" y="68"/>
                  <a:pt x="838" y="56"/>
                  <a:pt x="87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179280" y="981000"/>
            <a:ext cx="8785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нформативный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50920" y="129528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Помогите Ричарду выполнить морфологический разбор имени прилагательного в предложении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"Гости Санкт-Петербурга восхищаются красотой ночного города.",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используя материал, предложенный уч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1. Ночного - имя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2. Н.ф. (м.р., ед.ч.) -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3. Пост. признаки: __________________________ (качеств, относит., притяжа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4. Непост. признаки: _____ч., _____р., _____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5. Ночного (города) -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79280" y="1197000"/>
            <a:ext cx="856944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  <a:ea typeface="Times New Roman"/>
              </a:rPr>
              <a:t>Импровизационный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324000" y="134136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Помогите Ричарду выполнить морфологический разбор имени прилагательного в предложении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"Гости Санкт-Петербурга восхищаются красотой ночного города.",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используя предложенный план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1. Часть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2. Н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3. Пост. призна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4. Непост. призна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5. Член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179280" y="1268280"/>
            <a:ext cx="856944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  <a:ea typeface="Times New Roman"/>
              </a:rPr>
              <a:t>Эвристический вариан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76320" y="17524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Помогите Ричарду выполнить морфологический разбор имени прилагательного в предложен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которое вы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Times New Roman"/>
              </a:rPr>
              <a:t>самостоятельно составили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о Санкт-Петербург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611280" y="1700280"/>
            <a:ext cx="799308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Само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 Мне важно уметь выполнять морфологический разбор имени прилагательного для того, чтобы 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 Чтобы выполнить морфологический разбор  имён прилагательных, нужно 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1763640" y="1268280"/>
            <a:ext cx="5543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050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51"/>
          <p:cNvSpPr/>
          <p:nvPr/>
        </p:nvSpPr>
        <p:spPr>
          <a:xfrm>
            <a:off x="1424880" y="3141720"/>
            <a:ext cx="626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"Выркалось. Хливкие шор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Пырялись по н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И хрюкотали зелю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Как мюмзики в мове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52"/>
          <p:cNvSpPr/>
          <p:nvPr/>
        </p:nvSpPr>
        <p:spPr>
          <a:xfrm>
            <a:off x="250920" y="189000"/>
            <a:ext cx="8742240" cy="2775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часть речи, которой выраже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ждое слово во фрагмент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Л. Кэрролла "Приключения Ал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в Стране чудес" и обозначьте 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Times New Roman"/>
              </a:rPr>
              <a:t>используя известную вам форму сокращения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53"/>
          <p:cNvSpPr/>
          <p:nvPr/>
        </p:nvSpPr>
        <p:spPr>
          <a:xfrm>
            <a:off x="2486160" y="285264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54"/>
          <p:cNvSpPr/>
          <p:nvPr/>
        </p:nvSpPr>
        <p:spPr>
          <a:xfrm>
            <a:off x="3421440" y="37162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55"/>
          <p:cNvSpPr/>
          <p:nvPr/>
        </p:nvSpPr>
        <p:spPr>
          <a:xfrm>
            <a:off x="3565800" y="47973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56"/>
          <p:cNvSpPr/>
          <p:nvPr/>
        </p:nvSpPr>
        <p:spPr>
          <a:xfrm>
            <a:off x="4428720" y="28526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57"/>
          <p:cNvSpPr/>
          <p:nvPr/>
        </p:nvSpPr>
        <p:spPr>
          <a:xfrm>
            <a:off x="6157800" y="285264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58"/>
          <p:cNvSpPr/>
          <p:nvPr/>
        </p:nvSpPr>
        <p:spPr>
          <a:xfrm>
            <a:off x="5294160" y="37162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59"/>
          <p:cNvSpPr/>
          <p:nvPr/>
        </p:nvSpPr>
        <p:spPr>
          <a:xfrm>
            <a:off x="5294160" y="479736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60"/>
          <p:cNvSpPr/>
          <p:nvPr/>
        </p:nvSpPr>
        <p:spPr>
          <a:xfrm>
            <a:off x="3565440" y="57340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61"/>
          <p:cNvSpPr/>
          <p:nvPr/>
        </p:nvSpPr>
        <p:spPr>
          <a:xfrm>
            <a:off x="5510160" y="57340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62"/>
          <p:cNvSpPr/>
          <p:nvPr/>
        </p:nvSpPr>
        <p:spPr>
          <a:xfrm>
            <a:off x="4573440" y="37162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63"/>
          <p:cNvSpPr/>
          <p:nvPr/>
        </p:nvSpPr>
        <p:spPr>
          <a:xfrm>
            <a:off x="4789440" y="573408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64"/>
          <p:cNvSpPr/>
          <p:nvPr/>
        </p:nvSpPr>
        <p:spPr>
          <a:xfrm>
            <a:off x="2412720" y="4724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65"/>
          <p:cNvSpPr/>
          <p:nvPr/>
        </p:nvSpPr>
        <p:spPr>
          <a:xfrm>
            <a:off x="2628720" y="566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амооц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чите предлож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______________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(очень, не очень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доволен(льна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выполнением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морфологического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разбора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мени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прилагательного,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который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сделал(а)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____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(самостоятельно, с помощью …)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потому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что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выполнил(а)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работу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____________________ 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____________________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(правильно, неправильно)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(красиво, некрасиво)</a:t>
            </a: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692360" y="1628640"/>
            <a:ext cx="5975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6868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е часть речи каждого слова и напишите их по группам: </a:t>
            </a:r>
            <a:br>
              <a:rPr sz="2800"/>
            </a:br>
            <a:br>
              <a:rPr sz="1200"/>
            </a:b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Шелест, навредили, перевозка, улыбчивые, бездарный, потерпеть, говорлива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472428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мена прилаг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9640" y="5516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гол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5400" y="414972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мена существи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48360" y="4149720"/>
            <a:ext cx="38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шелест, перевоз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932360" y="4724280"/>
            <a:ext cx="439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улыбчивые, бездарный, говорлив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411280" y="5516640"/>
            <a:ext cx="48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навредили, потерп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1052640"/>
            <a:ext cx="864216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Диагностическое задание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br>
              <a:rPr sz="1200"/>
            </a:br>
            <a:r>
              <a:rPr b="1" lang="ru-RU" sz="2600" spc="-1" strike="noStrike">
                <a:solidFill>
                  <a:srgbClr val="000066"/>
                </a:solidFill>
                <a:latin typeface="Calibri"/>
                <a:ea typeface="Times New Roman"/>
              </a:rPr>
              <a:t>Образуйте от данных слов однокоренные слова других частей речи и напишите в соответствующую строку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Times New Roman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68"/>
          <p:cNvGrpSpPr/>
          <p:nvPr/>
        </p:nvGrpSpPr>
        <p:grpSpPr>
          <a:xfrm>
            <a:off x="1600200" y="2133720"/>
            <a:ext cx="6247800" cy="4005000"/>
            <a:chOff x="1600200" y="2133720"/>
            <a:chExt cx="6247800" cy="4005000"/>
          </a:xfrm>
        </p:grpSpPr>
        <p:grpSp>
          <p:nvGrpSpPr>
            <p:cNvPr id="142" name="Group 66"/>
            <p:cNvGrpSpPr/>
            <p:nvPr/>
          </p:nvGrpSpPr>
          <p:grpSpPr>
            <a:xfrm>
              <a:off x="1608480" y="2136600"/>
              <a:ext cx="6228720" cy="3998160"/>
              <a:chOff x="1608480" y="2136600"/>
              <a:chExt cx="6228720" cy="3998160"/>
            </a:xfrm>
          </p:grpSpPr>
          <p:grpSp>
            <p:nvGrpSpPr>
              <p:cNvPr id="143" name="Group 25"/>
              <p:cNvGrpSpPr/>
              <p:nvPr/>
            </p:nvGrpSpPr>
            <p:grpSpPr>
              <a:xfrm>
                <a:off x="1608480" y="2136600"/>
                <a:ext cx="2075400" cy="549000"/>
                <a:chOff x="1608480" y="2136600"/>
                <a:chExt cx="2075400" cy="549000"/>
              </a:xfrm>
            </p:grpSpPr>
            <p:sp>
              <p:nvSpPr>
                <p:cNvPr id="144" name="Rectangle 3"/>
                <p:cNvSpPr/>
                <p:nvPr/>
              </p:nvSpPr>
              <p:spPr>
                <a:xfrm>
                  <a:off x="1789200" y="21366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Сущ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24"/>
                <p:cNvSpPr/>
                <p:nvPr/>
              </p:nvSpPr>
              <p:spPr>
                <a:xfrm>
                  <a:off x="1608480" y="21366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27"/>
              <p:cNvGrpSpPr/>
              <p:nvPr/>
            </p:nvGrpSpPr>
            <p:grpSpPr>
              <a:xfrm>
                <a:off x="3684600" y="2136600"/>
                <a:ext cx="2076480" cy="549000"/>
                <a:chOff x="3684600" y="2136600"/>
                <a:chExt cx="2076480" cy="549000"/>
              </a:xfrm>
            </p:grpSpPr>
            <p:sp>
              <p:nvSpPr>
                <p:cNvPr id="147" name="Rectangle 4"/>
                <p:cNvSpPr/>
                <p:nvPr/>
              </p:nvSpPr>
              <p:spPr>
                <a:xfrm>
                  <a:off x="3865320" y="21366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Прил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26"/>
                <p:cNvSpPr/>
                <p:nvPr/>
              </p:nvSpPr>
              <p:spPr>
                <a:xfrm>
                  <a:off x="3684600" y="2136600"/>
                  <a:ext cx="2076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29"/>
              <p:cNvGrpSpPr/>
              <p:nvPr/>
            </p:nvGrpSpPr>
            <p:grpSpPr>
              <a:xfrm>
                <a:off x="5761800" y="2136600"/>
                <a:ext cx="2075400" cy="549000"/>
                <a:chOff x="5761800" y="2136600"/>
                <a:chExt cx="2075400" cy="549000"/>
              </a:xfrm>
            </p:grpSpPr>
            <p:sp>
              <p:nvSpPr>
                <p:cNvPr id="150" name="Rectangle 5"/>
                <p:cNvSpPr/>
                <p:nvPr/>
              </p:nvSpPr>
              <p:spPr>
                <a:xfrm>
                  <a:off x="5941800" y="2136600"/>
                  <a:ext cx="17150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800080"/>
                      </a:solidFill>
                      <a:latin typeface="Arial"/>
                      <a:ea typeface="Times New Roman"/>
                    </a:rPr>
                    <a:t>Глаг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28"/>
                <p:cNvSpPr/>
                <p:nvPr/>
              </p:nvSpPr>
              <p:spPr>
                <a:xfrm>
                  <a:off x="5761800" y="21366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31"/>
              <p:cNvGrpSpPr/>
              <p:nvPr/>
            </p:nvGrpSpPr>
            <p:grpSpPr>
              <a:xfrm>
                <a:off x="1608480" y="2685600"/>
                <a:ext cx="2075400" cy="549000"/>
                <a:chOff x="1608480" y="2685600"/>
                <a:chExt cx="2075400" cy="549000"/>
              </a:xfrm>
            </p:grpSpPr>
            <p:sp>
              <p:nvSpPr>
                <p:cNvPr id="153" name="Rectangle 6"/>
                <p:cNvSpPr/>
                <p:nvPr/>
              </p:nvSpPr>
              <p:spPr>
                <a:xfrm>
                  <a:off x="1789200" y="26856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0"/>
                <p:cNvSpPr/>
                <p:nvPr/>
              </p:nvSpPr>
              <p:spPr>
                <a:xfrm>
                  <a:off x="1608480" y="26856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3"/>
              <p:cNvGrpSpPr/>
              <p:nvPr/>
            </p:nvGrpSpPr>
            <p:grpSpPr>
              <a:xfrm>
                <a:off x="3684600" y="2685600"/>
                <a:ext cx="2076480" cy="549000"/>
                <a:chOff x="3684600" y="2685600"/>
                <a:chExt cx="2076480" cy="549000"/>
              </a:xfrm>
            </p:grpSpPr>
            <p:sp>
              <p:nvSpPr>
                <p:cNvPr id="156" name="Rectangle 7"/>
                <p:cNvSpPr/>
                <p:nvPr/>
              </p:nvSpPr>
              <p:spPr>
                <a:xfrm>
                  <a:off x="3865320" y="26856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зимни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2"/>
                <p:cNvSpPr/>
                <p:nvPr/>
              </p:nvSpPr>
              <p:spPr>
                <a:xfrm>
                  <a:off x="3684600" y="2685600"/>
                  <a:ext cx="2076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5"/>
              <p:cNvGrpSpPr/>
              <p:nvPr/>
            </p:nvGrpSpPr>
            <p:grpSpPr>
              <a:xfrm>
                <a:off x="5761800" y="2685600"/>
                <a:ext cx="2075400" cy="549000"/>
                <a:chOff x="5761800" y="2685600"/>
                <a:chExt cx="2075400" cy="549000"/>
              </a:xfrm>
            </p:grpSpPr>
            <p:sp>
              <p:nvSpPr>
                <p:cNvPr id="159" name="Rectangle 8"/>
                <p:cNvSpPr/>
                <p:nvPr/>
              </p:nvSpPr>
              <p:spPr>
                <a:xfrm>
                  <a:off x="5941800" y="2685600"/>
                  <a:ext cx="17150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5761800" y="26856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7"/>
              <p:cNvGrpSpPr/>
              <p:nvPr/>
            </p:nvGrpSpPr>
            <p:grpSpPr>
              <a:xfrm>
                <a:off x="1608480" y="3234960"/>
                <a:ext cx="2075400" cy="548640"/>
                <a:chOff x="1608480" y="3234960"/>
                <a:chExt cx="2075400" cy="548640"/>
              </a:xfrm>
            </p:grpSpPr>
            <p:sp>
              <p:nvSpPr>
                <p:cNvPr id="162" name="Rectangle 9"/>
                <p:cNvSpPr/>
                <p:nvPr/>
              </p:nvSpPr>
              <p:spPr>
                <a:xfrm>
                  <a:off x="1789200" y="3234960"/>
                  <a:ext cx="171432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радост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36"/>
                <p:cNvSpPr/>
                <p:nvPr/>
              </p:nvSpPr>
              <p:spPr>
                <a:xfrm>
                  <a:off x="1608480" y="3234960"/>
                  <a:ext cx="20754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684600" y="3234960"/>
                <a:ext cx="2076480" cy="548640"/>
                <a:chOff x="3684600" y="3234960"/>
                <a:chExt cx="2076480" cy="548640"/>
              </a:xfrm>
            </p:grpSpPr>
            <p:sp>
              <p:nvSpPr>
                <p:cNvPr id="165" name="Rectangle 10"/>
                <p:cNvSpPr/>
                <p:nvPr/>
              </p:nvSpPr>
              <p:spPr>
                <a:xfrm>
                  <a:off x="3865320" y="3234960"/>
                  <a:ext cx="171432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38"/>
                <p:cNvSpPr/>
                <p:nvPr/>
              </p:nvSpPr>
              <p:spPr>
                <a:xfrm>
                  <a:off x="3684600" y="3234960"/>
                  <a:ext cx="207648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1"/>
              <p:cNvGrpSpPr/>
              <p:nvPr/>
            </p:nvGrpSpPr>
            <p:grpSpPr>
              <a:xfrm>
                <a:off x="5761800" y="3234960"/>
                <a:ext cx="2075400" cy="548640"/>
                <a:chOff x="5761800" y="3234960"/>
                <a:chExt cx="2075400" cy="548640"/>
              </a:xfrm>
            </p:grpSpPr>
            <p:sp>
              <p:nvSpPr>
                <p:cNvPr id="168" name="Rectangle 11"/>
                <p:cNvSpPr/>
                <p:nvPr/>
              </p:nvSpPr>
              <p:spPr>
                <a:xfrm>
                  <a:off x="5941800" y="3234960"/>
                  <a:ext cx="171504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40"/>
                <p:cNvSpPr/>
                <p:nvPr/>
              </p:nvSpPr>
              <p:spPr>
                <a:xfrm>
                  <a:off x="5761800" y="3234960"/>
                  <a:ext cx="20754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43"/>
              <p:cNvGrpSpPr/>
              <p:nvPr/>
            </p:nvGrpSpPr>
            <p:grpSpPr>
              <a:xfrm>
                <a:off x="1608480" y="3783960"/>
                <a:ext cx="2075400" cy="703080"/>
                <a:chOff x="1608480" y="3783960"/>
                <a:chExt cx="2075400" cy="703080"/>
              </a:xfrm>
            </p:grpSpPr>
            <p:sp>
              <p:nvSpPr>
                <p:cNvPr id="171" name="Rectangle 12"/>
                <p:cNvSpPr/>
                <p:nvPr/>
              </p:nvSpPr>
              <p:spPr>
                <a:xfrm>
                  <a:off x="1789200" y="3783960"/>
                  <a:ext cx="171432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42"/>
                <p:cNvSpPr/>
                <p:nvPr/>
              </p:nvSpPr>
              <p:spPr>
                <a:xfrm>
                  <a:off x="1608480" y="3783960"/>
                  <a:ext cx="2075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45"/>
              <p:cNvGrpSpPr/>
              <p:nvPr/>
            </p:nvGrpSpPr>
            <p:grpSpPr>
              <a:xfrm>
                <a:off x="3684600" y="3783960"/>
                <a:ext cx="2076480" cy="703080"/>
                <a:chOff x="3684600" y="3783960"/>
                <a:chExt cx="2076480" cy="703080"/>
              </a:xfrm>
            </p:grpSpPr>
            <p:sp>
              <p:nvSpPr>
                <p:cNvPr id="174" name="Rectangle 13"/>
                <p:cNvSpPr/>
                <p:nvPr/>
              </p:nvSpPr>
              <p:spPr>
                <a:xfrm>
                  <a:off x="3865320" y="3783960"/>
                  <a:ext cx="171432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44"/>
                <p:cNvSpPr/>
                <p:nvPr/>
              </p:nvSpPr>
              <p:spPr>
                <a:xfrm>
                  <a:off x="3684600" y="3783960"/>
                  <a:ext cx="207648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47"/>
              <p:cNvGrpSpPr/>
              <p:nvPr/>
            </p:nvGrpSpPr>
            <p:grpSpPr>
              <a:xfrm>
                <a:off x="5761800" y="3783960"/>
                <a:ext cx="2075400" cy="703080"/>
                <a:chOff x="5761800" y="3783960"/>
                <a:chExt cx="2075400" cy="703080"/>
              </a:xfrm>
            </p:grpSpPr>
            <p:sp>
              <p:nvSpPr>
                <p:cNvPr id="177" name="Rectangle 14"/>
                <p:cNvSpPr/>
                <p:nvPr/>
              </p:nvSpPr>
              <p:spPr>
                <a:xfrm>
                  <a:off x="5941800" y="3783960"/>
                  <a:ext cx="17150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зеленет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46"/>
                <p:cNvSpPr/>
                <p:nvPr/>
              </p:nvSpPr>
              <p:spPr>
                <a:xfrm>
                  <a:off x="5761800" y="3783960"/>
                  <a:ext cx="2075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49"/>
              <p:cNvGrpSpPr/>
              <p:nvPr/>
            </p:nvGrpSpPr>
            <p:grpSpPr>
              <a:xfrm>
                <a:off x="1608480" y="4487400"/>
                <a:ext cx="2075400" cy="549000"/>
                <a:chOff x="1608480" y="4487400"/>
                <a:chExt cx="2075400" cy="549000"/>
              </a:xfrm>
            </p:grpSpPr>
            <p:sp>
              <p:nvSpPr>
                <p:cNvPr id="180" name="Rectangle 15"/>
                <p:cNvSpPr/>
                <p:nvPr/>
              </p:nvSpPr>
              <p:spPr>
                <a:xfrm>
                  <a:off x="1789200" y="44874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ноч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48"/>
                <p:cNvSpPr/>
                <p:nvPr/>
              </p:nvSpPr>
              <p:spPr>
                <a:xfrm>
                  <a:off x="1608480" y="44874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51"/>
              <p:cNvGrpSpPr/>
              <p:nvPr/>
            </p:nvGrpSpPr>
            <p:grpSpPr>
              <a:xfrm>
                <a:off x="3684600" y="4487400"/>
                <a:ext cx="2076480" cy="549000"/>
                <a:chOff x="3684600" y="4487400"/>
                <a:chExt cx="2076480" cy="549000"/>
              </a:xfrm>
            </p:grpSpPr>
            <p:sp>
              <p:nvSpPr>
                <p:cNvPr id="183" name="Rectangle 16"/>
                <p:cNvSpPr/>
                <p:nvPr/>
              </p:nvSpPr>
              <p:spPr>
                <a:xfrm>
                  <a:off x="3865320" y="448740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50"/>
                <p:cNvSpPr/>
                <p:nvPr/>
              </p:nvSpPr>
              <p:spPr>
                <a:xfrm>
                  <a:off x="3684600" y="4487400"/>
                  <a:ext cx="2076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53"/>
              <p:cNvGrpSpPr/>
              <p:nvPr/>
            </p:nvGrpSpPr>
            <p:grpSpPr>
              <a:xfrm>
                <a:off x="5761800" y="4487400"/>
                <a:ext cx="2075400" cy="549000"/>
                <a:chOff x="5761800" y="4487400"/>
                <a:chExt cx="2075400" cy="549000"/>
              </a:xfrm>
            </p:grpSpPr>
            <p:sp>
              <p:nvSpPr>
                <p:cNvPr id="186" name="Rectangle 17"/>
                <p:cNvSpPr/>
                <p:nvPr/>
              </p:nvSpPr>
              <p:spPr>
                <a:xfrm>
                  <a:off x="5941800" y="4487400"/>
                  <a:ext cx="17150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52"/>
                <p:cNvSpPr/>
                <p:nvPr/>
              </p:nvSpPr>
              <p:spPr>
                <a:xfrm>
                  <a:off x="5761800" y="448740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55"/>
              <p:cNvGrpSpPr/>
              <p:nvPr/>
            </p:nvGrpSpPr>
            <p:grpSpPr>
              <a:xfrm>
                <a:off x="1608480" y="5036760"/>
                <a:ext cx="2075400" cy="548640"/>
                <a:chOff x="1608480" y="5036760"/>
                <a:chExt cx="2075400" cy="548640"/>
              </a:xfrm>
            </p:grpSpPr>
            <p:sp>
              <p:nvSpPr>
                <p:cNvPr id="189" name="Rectangle 18"/>
                <p:cNvSpPr/>
                <p:nvPr/>
              </p:nvSpPr>
              <p:spPr>
                <a:xfrm>
                  <a:off x="1789200" y="5036760"/>
                  <a:ext cx="171432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54"/>
                <p:cNvSpPr/>
                <p:nvPr/>
              </p:nvSpPr>
              <p:spPr>
                <a:xfrm>
                  <a:off x="1608480" y="5036760"/>
                  <a:ext cx="20754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57"/>
              <p:cNvGrpSpPr/>
              <p:nvPr/>
            </p:nvGrpSpPr>
            <p:grpSpPr>
              <a:xfrm>
                <a:off x="3684600" y="5036760"/>
                <a:ext cx="2076480" cy="548640"/>
                <a:chOff x="3684600" y="5036760"/>
                <a:chExt cx="2076480" cy="548640"/>
              </a:xfrm>
            </p:grpSpPr>
            <p:sp>
              <p:nvSpPr>
                <p:cNvPr id="192" name="Rectangle 19"/>
                <p:cNvSpPr/>
                <p:nvPr/>
              </p:nvSpPr>
              <p:spPr>
                <a:xfrm>
                  <a:off x="3865320" y="5036760"/>
                  <a:ext cx="171432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верны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56"/>
                <p:cNvSpPr/>
                <p:nvPr/>
              </p:nvSpPr>
              <p:spPr>
                <a:xfrm>
                  <a:off x="3684600" y="5036760"/>
                  <a:ext cx="207648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59"/>
              <p:cNvGrpSpPr/>
              <p:nvPr/>
            </p:nvGrpSpPr>
            <p:grpSpPr>
              <a:xfrm>
                <a:off x="5761800" y="5036760"/>
                <a:ext cx="2075400" cy="548640"/>
                <a:chOff x="5761800" y="5036760"/>
                <a:chExt cx="2075400" cy="548640"/>
              </a:xfrm>
            </p:grpSpPr>
            <p:sp>
              <p:nvSpPr>
                <p:cNvPr id="195" name="Rectangle 20"/>
                <p:cNvSpPr/>
                <p:nvPr/>
              </p:nvSpPr>
              <p:spPr>
                <a:xfrm>
                  <a:off x="5941800" y="5036760"/>
                  <a:ext cx="171504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58"/>
                <p:cNvSpPr/>
                <p:nvPr/>
              </p:nvSpPr>
              <p:spPr>
                <a:xfrm>
                  <a:off x="5761800" y="5036760"/>
                  <a:ext cx="20754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61"/>
              <p:cNvGrpSpPr/>
              <p:nvPr/>
            </p:nvGrpSpPr>
            <p:grpSpPr>
              <a:xfrm>
                <a:off x="1608480" y="5585760"/>
                <a:ext cx="2075400" cy="549000"/>
                <a:chOff x="1608480" y="5585760"/>
                <a:chExt cx="2075400" cy="549000"/>
              </a:xfrm>
            </p:grpSpPr>
            <p:sp>
              <p:nvSpPr>
                <p:cNvPr id="198" name="Rectangle 21"/>
                <p:cNvSpPr/>
                <p:nvPr/>
              </p:nvSpPr>
              <p:spPr>
                <a:xfrm>
                  <a:off x="1789200" y="558576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60"/>
                <p:cNvSpPr/>
                <p:nvPr/>
              </p:nvSpPr>
              <p:spPr>
                <a:xfrm>
                  <a:off x="1608480" y="558576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3"/>
              <p:cNvGrpSpPr/>
              <p:nvPr/>
            </p:nvGrpSpPr>
            <p:grpSpPr>
              <a:xfrm>
                <a:off x="3684600" y="5585760"/>
                <a:ext cx="2076480" cy="549000"/>
                <a:chOff x="3684600" y="5585760"/>
                <a:chExt cx="2076480" cy="549000"/>
              </a:xfrm>
            </p:grpSpPr>
            <p:sp>
              <p:nvSpPr>
                <p:cNvPr id="201" name="Rectangle 22"/>
                <p:cNvSpPr/>
                <p:nvPr/>
              </p:nvSpPr>
              <p:spPr>
                <a:xfrm>
                  <a:off x="3865320" y="5585760"/>
                  <a:ext cx="1714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62"/>
                <p:cNvSpPr/>
                <p:nvPr/>
              </p:nvSpPr>
              <p:spPr>
                <a:xfrm>
                  <a:off x="3684600" y="5585760"/>
                  <a:ext cx="2076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65"/>
              <p:cNvGrpSpPr/>
              <p:nvPr/>
            </p:nvGrpSpPr>
            <p:grpSpPr>
              <a:xfrm>
                <a:off x="5761800" y="5585760"/>
                <a:ext cx="2075400" cy="549000"/>
                <a:chOff x="5761800" y="5585760"/>
                <a:chExt cx="2075400" cy="549000"/>
              </a:xfrm>
            </p:grpSpPr>
            <p:sp>
              <p:nvSpPr>
                <p:cNvPr id="204" name="Rectangle 23"/>
                <p:cNvSpPr/>
                <p:nvPr/>
              </p:nvSpPr>
              <p:spPr>
                <a:xfrm>
                  <a:off x="5941800" y="5585760"/>
                  <a:ext cx="17150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66"/>
                      </a:solidFill>
                      <a:latin typeface="Arial"/>
                      <a:ea typeface="Times New Roman"/>
                    </a:rPr>
                    <a:t>завит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64"/>
                <p:cNvSpPr/>
                <p:nvPr/>
              </p:nvSpPr>
              <p:spPr>
                <a:xfrm>
                  <a:off x="5761800" y="5585760"/>
                  <a:ext cx="20754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" name="Rectangle 67"/>
            <p:cNvSpPr/>
            <p:nvPr/>
          </p:nvSpPr>
          <p:spPr>
            <a:xfrm>
              <a:off x="1600200" y="2133720"/>
              <a:ext cx="6247800" cy="4005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3"/>
          <p:cNvGrpSpPr/>
          <p:nvPr/>
        </p:nvGrpSpPr>
        <p:grpSpPr>
          <a:xfrm>
            <a:off x="1828800" y="2637000"/>
            <a:ext cx="5856120" cy="3458880"/>
            <a:chOff x="1828800" y="2637000"/>
            <a:chExt cx="5856120" cy="3458880"/>
          </a:xfrm>
        </p:grpSpPr>
        <p:sp>
          <p:nvSpPr>
            <p:cNvPr id="208" name="Rectangle 69"/>
            <p:cNvSpPr/>
            <p:nvPr/>
          </p:nvSpPr>
          <p:spPr>
            <a:xfrm>
              <a:off x="1828800" y="2743200"/>
              <a:ext cx="175248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0"/>
            <p:cNvSpPr/>
            <p:nvPr/>
          </p:nvSpPr>
          <p:spPr>
            <a:xfrm>
              <a:off x="1908000" y="2637000"/>
              <a:ext cx="160020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им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1"/>
            <p:cNvSpPr/>
            <p:nvPr/>
          </p:nvSpPr>
          <p:spPr>
            <a:xfrm>
              <a:off x="6084720" y="2637000"/>
              <a:ext cx="160020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имова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2"/>
            <p:cNvSpPr/>
            <p:nvPr/>
          </p:nvSpPr>
          <p:spPr>
            <a:xfrm>
              <a:off x="3995640" y="321300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радост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6012000" y="321300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радоватьс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4"/>
            <p:cNvSpPr/>
            <p:nvPr/>
          </p:nvSpPr>
          <p:spPr>
            <a:xfrm>
              <a:off x="1905120" y="3962520"/>
              <a:ext cx="1600200" cy="474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елен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3886200" y="3962520"/>
              <a:ext cx="160020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елё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6"/>
            <p:cNvSpPr/>
            <p:nvPr/>
          </p:nvSpPr>
          <p:spPr>
            <a:xfrm>
              <a:off x="3886200" y="457200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ночн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7"/>
            <p:cNvSpPr/>
            <p:nvPr/>
          </p:nvSpPr>
          <p:spPr>
            <a:xfrm>
              <a:off x="6019920" y="449568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80"/>
                  </a:solidFill>
                  <a:latin typeface="Arial"/>
                </a:rPr>
                <a:t>ночев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8"/>
            <p:cNvSpPr/>
            <p:nvPr/>
          </p:nvSpPr>
          <p:spPr>
            <a:xfrm>
              <a:off x="1905120" y="502920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вер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9"/>
            <p:cNvSpPr/>
            <p:nvPr/>
          </p:nvSpPr>
          <p:spPr>
            <a:xfrm>
              <a:off x="6019920" y="5029200"/>
              <a:ext cx="16002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вери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0"/>
            <p:cNvSpPr/>
            <p:nvPr/>
          </p:nvSpPr>
          <p:spPr>
            <a:xfrm>
              <a:off x="1828800" y="5562720"/>
              <a:ext cx="160020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авив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1"/>
            <p:cNvSpPr/>
            <p:nvPr/>
          </p:nvSpPr>
          <p:spPr>
            <a:xfrm>
              <a:off x="4038480" y="5562720"/>
              <a:ext cx="160020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80"/>
                  </a:solidFill>
                  <a:latin typeface="Arial"/>
                </a:rPr>
                <a:t>завит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82"/>
          <p:cNvSpPr/>
          <p:nvPr/>
        </p:nvSpPr>
        <p:spPr>
          <a:xfrm>
            <a:off x="179280" y="836640"/>
            <a:ext cx="8785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Admin</cp:lastModifiedBy>
  <dcterms:modified xsi:type="dcterms:W3CDTF">2013-01-09T11:25:52Z</dcterms:modified>
  <cp:revision>88</cp:revision>
  <dc:subject/>
  <dc:title>Слайд 1</dc:title>
</cp:coreProperties>
</file>