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17C-28A1-4A82-80C0-0AAB092D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8F7D-F5AC-4896-B111-88C7E72F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188-0672-418C-81FD-C34DFE54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BF3-0782-4C50-A470-B4934D36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466-F33D-4BB6-AC41-72F3CB97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5DB-7DE1-47C3-A453-164CEA45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582-D39F-4B2F-9CA8-47A4A6A9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5B1-DE1E-4386-9A58-FBA15C3C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43CD-2761-4B82-9BAB-1B3027D7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53E-2967-4AD5-ADB5-5E873B26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585-BE31-4FDE-AC68-FB727C06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E8C-7FCC-4819-B4BF-2EA92ACB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D11C-923B-43F9-AF36-80D9AF8FB7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63680" y="3352680"/>
            <a:ext cx="8242200" cy="115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0" y="188640"/>
            <a:ext cx="8866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БОУ СОШ №549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сносельского рай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К «Начальная школа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XX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к русского языка, 4 кл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Тема : «Мягкий знак после шипящих в глаголах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 : Виноградова Виктория Анатол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нкт-Петербур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Краткая форма при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гучий - могу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хучий - паху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гожий - приго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ороший - хоро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вежий - све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28760" y="1143000"/>
          <a:ext cx="8229600" cy="52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кая форма при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щ. 1 скл., мн. 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щ. 2 ск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щ. 3 ск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857160" y="35712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авописание мягкого знака после шипя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28760" y="1143000"/>
          <a:ext cx="8229600" cy="52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кая форма при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щ. 1 скл., мн. 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щ. 2 ск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щ. 3 ск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857160" y="35712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авописание мягкого знака после шипя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Прямая со стрелкой 6"/>
          <p:cNvCxnSpPr/>
          <p:nvPr/>
        </p:nvCxnSpPr>
        <p:spPr>
          <a:xfrm flipV="1">
            <a:off x="2142720" y="4285800"/>
            <a:ext cx="1786680" cy="9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Диагностическое задание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рощ?, карандаш?, удач?, ноч?, луч?, без туч?, колюч?, могуч?, кирпич?, вещ?, товарищ?, свеж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Диагностическое задание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рощ, карандаш, удач, ночь, луч, без туч, колюч, могуч, кирпич, вещ, товарищ, све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676440" y="-49320"/>
            <a:ext cx="7785000" cy="1268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50920" y="1412640"/>
            <a:ext cx="7921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вумя зайцами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погонишь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 одного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поймаеш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ше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едеш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дальше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будеш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 теста пирога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испечёш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о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береч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латье снову, а честь смоло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мь раз отмерь, один раз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отреж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Times New Roman"/>
              </a:rPr>
              <a:t>Во всех глагольных формах после шипящих пишется мягкий знак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-360"/>
            <a:ext cx="254304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еч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еч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ч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ич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леч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Багетная рамка 3"/>
          <p:cNvSpPr/>
          <p:nvPr/>
        </p:nvSpPr>
        <p:spPr>
          <a:xfrm>
            <a:off x="3429000" y="2786040"/>
            <a:ext cx="1928880" cy="1000080"/>
          </a:xfrm>
          <a:prstGeom prst="bevel">
            <a:avLst>
              <a:gd name="adj" fmla="val 125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ь знак после шипящих в глаго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5857920" y="0"/>
            <a:ext cx="254304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д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вори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ди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чи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одержимое 2"/>
          <p:cNvSpPr/>
          <p:nvPr/>
        </p:nvSpPr>
        <p:spPr>
          <a:xfrm>
            <a:off x="5857920" y="3809880"/>
            <a:ext cx="254304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одержимое 2"/>
          <p:cNvSpPr/>
          <p:nvPr/>
        </p:nvSpPr>
        <p:spPr>
          <a:xfrm>
            <a:off x="6000840" y="3214800"/>
            <a:ext cx="254304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пла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ъ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е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ма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28760" y="-360"/>
            <a:ext cx="254304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еч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еч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ч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ич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леч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Багетная рамка 3"/>
          <p:cNvSpPr/>
          <p:nvPr/>
        </p:nvSpPr>
        <p:spPr>
          <a:xfrm>
            <a:off x="3071880" y="2786040"/>
            <a:ext cx="2500200" cy="1285920"/>
          </a:xfrm>
          <a:prstGeom prst="bevel">
            <a:avLst>
              <a:gd name="adj" fmla="val 125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ь знак после шипящих в глаго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одержимое 2"/>
          <p:cNvSpPr/>
          <p:nvPr/>
        </p:nvSpPr>
        <p:spPr>
          <a:xfrm>
            <a:off x="5857920" y="0"/>
            <a:ext cx="254304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д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вори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ди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чи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одержимое 2"/>
          <p:cNvSpPr/>
          <p:nvPr/>
        </p:nvSpPr>
        <p:spPr>
          <a:xfrm>
            <a:off x="5857920" y="3809880"/>
            <a:ext cx="254304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6000840" y="3214800"/>
            <a:ext cx="254304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пла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ъ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е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ма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7"/>
          <p:cNvCxnSpPr/>
          <p:nvPr/>
        </p:nvCxnSpPr>
        <p:spPr>
          <a:xfrm flipH="1" flipV="1">
            <a:off x="2214000" y="1285560"/>
            <a:ext cx="1143720" cy="1286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10"/>
          <p:cNvCxnSpPr/>
          <p:nvPr/>
        </p:nvCxnSpPr>
        <p:spPr>
          <a:xfrm flipV="1">
            <a:off x="4929120" y="1428480"/>
            <a:ext cx="1286640" cy="1286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Прямая со стрелкой 12"/>
          <p:cNvCxnSpPr/>
          <p:nvPr/>
        </p:nvCxnSpPr>
        <p:spPr>
          <a:xfrm>
            <a:off x="4286160" y="4428720"/>
            <a:ext cx="1858320" cy="114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TextBox 19"/>
          <p:cNvSpPr/>
          <p:nvPr/>
        </p:nvSpPr>
        <p:spPr>
          <a:xfrm rot="2944200">
            <a:off x="2513160" y="182052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н.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 rot="1923600">
            <a:off x="4748760" y="448632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со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1"/>
          <p:cNvSpPr/>
          <p:nvPr/>
        </p:nvSpPr>
        <p:spPr>
          <a:xfrm rot="1857000">
            <a:off x="4024080" y="5050080"/>
            <a:ext cx="212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овелит. на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2"/>
          <p:cNvSpPr/>
          <p:nvPr/>
        </p:nvSpPr>
        <p:spPr>
          <a:xfrm rot="19002600">
            <a:off x="4251960" y="1461960"/>
            <a:ext cx="19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2 л., ед.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28760" y="1143000"/>
          <a:ext cx="8229600" cy="52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кая форма при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Ь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.   н.ф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щ. 1 скл., мн. 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.  2л.,ед.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щ. 2 ск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. повелит. наклон. (совет, просьба, приказ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щ. 3 ск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Box 4"/>
          <p:cNvSpPr/>
          <p:nvPr/>
        </p:nvSpPr>
        <p:spPr>
          <a:xfrm>
            <a:off x="857160" y="35712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авописание мягкого знака после шипя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6"/>
          <p:cNvCxnSpPr/>
          <p:nvPr/>
        </p:nvCxnSpPr>
        <p:spPr>
          <a:xfrm flipV="1">
            <a:off x="2142720" y="4285800"/>
            <a:ext cx="1786680" cy="9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Прямая со стрелкой 5"/>
          <p:cNvCxnSpPr/>
          <p:nvPr/>
        </p:nvCxnSpPr>
        <p:spPr>
          <a:xfrm flipH="1">
            <a:off x="4857480" y="1643040"/>
            <a:ext cx="1000800" cy="1572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" name="Прямая со стрелкой 9"/>
          <p:cNvCxnSpPr/>
          <p:nvPr/>
        </p:nvCxnSpPr>
        <p:spPr>
          <a:xfrm flipH="1">
            <a:off x="5071320" y="2928960"/>
            <a:ext cx="1715400" cy="7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4" name="Прямая со стрелкой 11"/>
          <p:cNvCxnSpPr/>
          <p:nvPr/>
        </p:nvCxnSpPr>
        <p:spPr>
          <a:xfrm flipH="1" flipV="1">
            <a:off x="5000040" y="4357440"/>
            <a:ext cx="85788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425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аня, ты можеш? мне помоч? ? Возьми, пожалуйста,  у дедушки ключ?, сходи в гараж? и принеси мой багаж?. Когда придеш?, позвони! Спасибо. Ан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лчу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ву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гу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ду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есу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лету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ью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беру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ю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ью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таю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у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лчу – молчи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ву – живе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гу – бежи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ду – веде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есу – отнесе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лету – сплете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ью – налье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беру – забере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ю – дае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ью – пье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таю – встае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у - бере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Диагностическое задание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яч, удач, прячься, туч, чертеж, вещь, помощь, мяч, могуч, листаешь, съешьте, похож, обруч, кирпич, забываешь, трубач, полночь, дочь, калач, брошь, пахуч, испечь, пишешь, отвечаешь, пейзаж, готовишься, береч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Диагностическое задание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чься, листаешь, съешьте, забываешь, испечь, пишешь, отвечаешь, готовишься, береч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33440" y="55440"/>
            <a:ext cx="8386560" cy="129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яю часть ре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ествитель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11"/>
          <p:cNvSpPr/>
          <p:nvPr/>
        </p:nvSpPr>
        <p:spPr>
          <a:xfrm>
            <a:off x="357120" y="1571760"/>
            <a:ext cx="8215560" cy="50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33440" y="55440"/>
            <a:ext cx="8386560" cy="1297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яю часть ре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ествитель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яю скло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скл.,2 скл.                 3 ск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 пишу Ь                    Пишу Ь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571680" y="3214800"/>
            <a:ext cx="2000160" cy="92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3714840" y="3214800"/>
            <a:ext cx="2000160" cy="92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357120" y="1571760"/>
            <a:ext cx="8215560" cy="50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Прямая со стрелкой 14"/>
          <p:cNvCxnSpPr/>
          <p:nvPr/>
        </p:nvCxnSpPr>
        <p:spPr>
          <a:xfrm flipH="1">
            <a:off x="2700000" y="3141720"/>
            <a:ext cx="216720" cy="2880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Прямая со стрелкой 15"/>
          <p:cNvCxnSpPr/>
          <p:nvPr/>
        </p:nvCxnSpPr>
        <p:spPr>
          <a:xfrm>
            <a:off x="3418560" y="3141720"/>
            <a:ext cx="216360" cy="358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33440" y="55440"/>
            <a:ext cx="8386560" cy="129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яю часть ре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ествитель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яю скло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скл.,2 скл.                 3 ск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 пишу Ь                    Пишу Ь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ткая форма прилагатель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 пишу 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571680" y="3214800"/>
            <a:ext cx="2000160" cy="92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3714840" y="3214800"/>
            <a:ext cx="2000160" cy="92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1"/>
          <p:cNvSpPr/>
          <p:nvPr/>
        </p:nvSpPr>
        <p:spPr>
          <a:xfrm>
            <a:off x="357120" y="1571760"/>
            <a:ext cx="8215560" cy="50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Прямая со стрелкой 14"/>
          <p:cNvCxnSpPr/>
          <p:nvPr/>
        </p:nvCxnSpPr>
        <p:spPr>
          <a:xfrm flipH="1">
            <a:off x="2700000" y="3141720"/>
            <a:ext cx="216720" cy="2880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Прямая со стрелкой 15"/>
          <p:cNvCxnSpPr/>
          <p:nvPr/>
        </p:nvCxnSpPr>
        <p:spPr>
          <a:xfrm>
            <a:off x="3418560" y="3141720"/>
            <a:ext cx="216360" cy="358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33440" y="55440"/>
            <a:ext cx="8386560" cy="1297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яю часть ре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ествитель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яю скло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скл.,2 скл.                 3 ск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 пишу Ь                    Пишу Ь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ткая форма прилагатель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 пишу 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лагол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ишу Ь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571680" y="3214800"/>
            <a:ext cx="2000160" cy="92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3714840" y="3214800"/>
            <a:ext cx="2000160" cy="92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357120" y="1571760"/>
            <a:ext cx="8215560" cy="50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14"/>
          <p:cNvCxnSpPr/>
          <p:nvPr/>
        </p:nvCxnSpPr>
        <p:spPr>
          <a:xfrm flipH="1">
            <a:off x="2700000" y="3141720"/>
            <a:ext cx="216720" cy="2880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15"/>
          <p:cNvCxnSpPr/>
          <p:nvPr/>
        </p:nvCxnSpPr>
        <p:spPr>
          <a:xfrm>
            <a:off x="3418560" y="3141720"/>
            <a:ext cx="216360" cy="358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281160" y="128520"/>
            <a:ext cx="8697600" cy="1444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57120" y="15001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чь, карандаш, мышь, вещ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ыш, свеж, хорош, паху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 луж, нет крыш, спелая рожь, нет ту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ечь, дремуч, приедешь, назнач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281160" y="128520"/>
            <a:ext cx="8697600" cy="1444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357120" y="15001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чь, карандаш, мышь, вещ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ыш, свеж, хорош, паху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 луж, нет крыш, спелая рожь, нет ту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ечь, дремуч, приедешь, назнач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ая соединительная линия 4"/>
          <p:cNvSpPr/>
          <p:nvPr/>
        </p:nvSpPr>
        <p:spPr>
          <a:xfrm>
            <a:off x="2357280" y="1500120"/>
            <a:ext cx="914400" cy="9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5"/>
          <p:cNvSpPr/>
          <p:nvPr/>
        </p:nvSpPr>
        <p:spPr>
          <a:xfrm>
            <a:off x="999360" y="2428920"/>
            <a:ext cx="995400" cy="995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6"/>
          <p:cNvSpPr/>
          <p:nvPr/>
        </p:nvSpPr>
        <p:spPr>
          <a:xfrm>
            <a:off x="5286240" y="3571920"/>
            <a:ext cx="914400" cy="9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7"/>
          <p:cNvSpPr/>
          <p:nvPr/>
        </p:nvSpPr>
        <p:spPr>
          <a:xfrm>
            <a:off x="2357280" y="4572000"/>
            <a:ext cx="914400" cy="9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0"/>
            <a:ext cx="540072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          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н.ч., Р.п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ужа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уча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ща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дача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дача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стреча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ыша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Диагностическое задание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ч?, луч?, береч?, кирпич?, карандаш?, знаеш?, чертиш?, заплач?, без туч?, колюч?, отреж?те, хорош?, вещ?, дремлеш?, могуч?, сидиш?, съеш?, товарищ? помощ?, помоч?, зажеч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214200" y="1857240"/>
          <a:ext cx="8821800" cy="3949920"/>
        </p:xfrm>
        <a:graphic>
          <a:graphicData uri="http://schemas.openxmlformats.org/drawingml/2006/table">
            <a:tbl>
              <a:tblPr/>
              <a:tblGrid>
                <a:gridCol w="1244880"/>
                <a:gridCol w="1398600"/>
                <a:gridCol w="1091880"/>
                <a:gridCol w="1408320"/>
                <a:gridCol w="1214280"/>
                <a:gridCol w="1112760"/>
                <a:gridCol w="1351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щ. 1 с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щ. 2 с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л. н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л. 2л, ед.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л. в повелит. 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щ. мн.ч., Р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.ф.при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еш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ла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 ту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ю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щ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рп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тиш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ежь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щ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анда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ж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емлеш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ъеш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гу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ари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диш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4"/>
          <p:cNvSpPr/>
          <p:nvPr/>
        </p:nvSpPr>
        <p:spPr>
          <a:xfrm>
            <a:off x="3143160" y="642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Провер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425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Ваня, ты можешь мне помочь? Возьми, пожалуйста,  у дедушки ключ, сходи в гараж и принеси мой багаж. Когда придешь, позвони! Спасибо. Аня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0"/>
            <a:ext cx="56865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н.ч., Р.п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ужа - лу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уча - ту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ща - ро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дача - зада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дача - уда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стреча – встре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ыша - кры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сной в лесу расцвел душистый 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нним утром в окно заглянул солнечный …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м Сойер и Гекльберри Финн построили из веток замечательный  …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детской площадке гулял счастливый …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сной в лесу расцвел душистый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ландыш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нним утром в окно заглянул солнечный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лу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м Сойер и Гекльберри Финн построили из веток замечательный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шалаш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детской площадке гулял счастливый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малыш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1384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ирпич, тишь, глушь, дочь, калач, камыш, речь, плащ, печь, мышь, кумач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1384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Существительные 3-го ск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ишь, глушь, дочь, речь, печь, мыш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Краткая форма при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гучий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хучий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гожий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ороший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вежий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9:24:56Z</dcterms:created>
  <dc:creator/>
  <dc:description/>
  <dc:language>en-US</dc:language>
  <cp:lastModifiedBy>Victory</cp:lastModifiedBy>
  <dcterms:modified xsi:type="dcterms:W3CDTF">2017-12-13T13:12:55Z</dcterms:modified>
  <cp:revision>40</cp:revision>
  <dc:subject/>
  <dc:title>Урок  русского языка в 4 классе по теме «Мягкий знак после шипящих в глаголах».</dc:title>
</cp:coreProperties>
</file>