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D9A37-C4AE-4622-A1C5-A5AEF122131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5098C-B746-4E52-9755-969DBABD044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B9D9B-F1FC-46F7-B061-F773DA9CE5C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9748F-DADC-445A-87E9-B922577103F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94D96-18D4-4731-B8C4-2CC5D60EEDF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7E152-4806-4596-B170-34E5BC3DFC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CF72E-16C5-4637-9F21-5837E410A49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AB5D1-D075-4E47-AA56-DA817BEA558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DDB8A-1EAA-412F-A9B3-0794FB2367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0F1FD-7D36-47DC-8FF2-FBD3364A463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B3DE2-9BF2-4FC3-8310-2A17CB7D355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171F8-5D15-4550-B293-2076AA540B9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6D4BF-421A-45B0-A444-A974870B19D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557B1-1DA0-4E0D-B508-63E04AC3137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845EE-F8D5-4719-ABD5-E97E8339BDA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D18BC-267E-4F4E-81DC-9462DED93BD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6D2DB-508D-457A-94EA-27302CD1545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361-7232-4A49-B060-4D6B482E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4360"/>
            <a:ext cx="82231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52D-0A0C-4C3D-B97D-D9D307ED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436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640" y="392436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D73-07DA-4505-BA23-FA04EC7D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436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480" y="392436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92436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3EB-1BCF-453F-AB40-4D8029C1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DFA3-01EA-40DB-8ADE-4D4FE7F6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5F6F-B553-4848-A7B5-B17530C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491E-CAD0-478F-80EF-1A0145DB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3052-6439-402A-829E-D11ADBD6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9454-F1FD-4417-B635-30753AE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3752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F315-4C89-4F9C-8376-D4C0AC6C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436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AC62-0943-4429-9D34-DF0E568A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F01-0F66-4F82-8B69-0AC8C5C8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640" y="392436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0D22-6354-4BC7-AAF9-D065E530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4360"/>
            <a:ext cx="82231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264E-5C00-4A18-9564-4B6CD1F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4360"/>
            <a:ext cx="82231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E715-71FF-4698-B955-19C8E760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436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640" y="392436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2000-516D-4257-B3AB-C880A9AD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436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7480" y="392436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7760" y="3924360"/>
            <a:ext cx="2647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DA83-67BE-4007-83EB-68D5BED6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A45-C530-411B-A6B7-C79C1C24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9F3-949A-4A44-AD6F-62E03D16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EBB-65EF-49DE-AF41-E962D6B4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3752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1E0-E842-4E34-85BB-2A77966C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436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753-31D1-45BD-91D6-F15F481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640" y="392436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FC2-32F2-44FE-AB36-C6A32259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4360"/>
            <a:ext cx="82231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6F5-9B33-48C6-976D-1132767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550800" y="-470160"/>
            <a:ext cx="3521520" cy="7369560"/>
            <a:chOff x="-550800" y="-470160"/>
            <a:chExt cx="3521520" cy="7369560"/>
          </a:xfrm>
        </p:grpSpPr>
        <p:sp>
          <p:nvSpPr>
            <p:cNvPr id="1" name="Freeform 2"/>
            <p:cNvSpPr/>
            <p:nvPr/>
          </p:nvSpPr>
          <p:spPr>
            <a:xfrm>
              <a:off x="-87480" y="5085360"/>
              <a:ext cx="765360" cy="133632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-177480" y="3537360"/>
              <a:ext cx="1438560" cy="1120680"/>
              <a:chOff x="-177480" y="3537360"/>
              <a:chExt cx="1438560" cy="1120680"/>
            </a:xfrm>
          </p:grpSpPr>
          <p:sp>
            <p:nvSpPr>
              <p:cNvPr id="3" name="Freeform 4"/>
              <p:cNvSpPr/>
              <p:nvPr/>
            </p:nvSpPr>
            <p:spPr>
              <a:xfrm flipH="1" rot="14940000">
                <a:off x="-92160" y="3564360"/>
                <a:ext cx="348120" cy="42192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 flipH="1" rot="14940000">
                <a:off x="168840" y="4138200"/>
                <a:ext cx="605160" cy="34920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 flipH="1" rot="14940000">
                <a:off x="749880" y="3899520"/>
                <a:ext cx="633600" cy="17244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" name="Freeform 7"/>
            <p:cNvSpPr/>
            <p:nvPr/>
          </p:nvSpPr>
          <p:spPr>
            <a:xfrm>
              <a:off x="68400" y="2529000"/>
              <a:ext cx="1153800" cy="127980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Group 8"/>
            <p:cNvGrpSpPr/>
            <p:nvPr/>
          </p:nvGrpSpPr>
          <p:grpSpPr>
            <a:xfrm>
              <a:off x="-550800" y="1917000"/>
              <a:ext cx="3521520" cy="3745440"/>
              <a:chOff x="-550800" y="1917000"/>
              <a:chExt cx="3521520" cy="3745440"/>
            </a:xfrm>
          </p:grpSpPr>
          <p:sp>
            <p:nvSpPr>
              <p:cNvPr id="8" name="Freeform 9"/>
              <p:cNvSpPr/>
              <p:nvPr/>
            </p:nvSpPr>
            <p:spPr>
              <a:xfrm flipH="1" rot="780000">
                <a:off x="-86760" y="2031840"/>
                <a:ext cx="1159560" cy="119808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 flipH="1" rot="780000">
                <a:off x="-426240" y="2202840"/>
                <a:ext cx="968400" cy="122004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 flipH="1" rot="780000">
                <a:off x="-119520" y="2454840"/>
                <a:ext cx="337320" cy="61416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 flipH="1" rot="780000">
                <a:off x="509760" y="3345120"/>
                <a:ext cx="309600" cy="36324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 flipH="1" rot="780000">
                <a:off x="414720" y="3418200"/>
                <a:ext cx="72360" cy="21060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" name="Group 14"/>
              <p:cNvGrpSpPr/>
              <p:nvPr/>
            </p:nvGrpSpPr>
            <p:grpSpPr>
              <a:xfrm>
                <a:off x="77400" y="2233080"/>
                <a:ext cx="2893320" cy="3429360"/>
                <a:chOff x="77400" y="2233080"/>
                <a:chExt cx="2893320" cy="3429360"/>
              </a:xfrm>
            </p:grpSpPr>
            <p:sp>
              <p:nvSpPr>
                <p:cNvPr id="14" name="Freeform 15"/>
                <p:cNvSpPr/>
                <p:nvPr/>
              </p:nvSpPr>
              <p:spPr>
                <a:xfrm flipH="1" rot="7140000">
                  <a:off x="615960" y="2208600"/>
                  <a:ext cx="1026360" cy="1837080"/>
                </a:xfrm>
                <a:prstGeom prst="pie">
                  <a:avLst/>
                </a:prstGeom>
                <a:solidFill>
                  <a:srgbClr val="ebf7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 flipH="1" rot="7140000">
                  <a:off x="2358000" y="4218840"/>
                  <a:ext cx="230040" cy="750960"/>
                </a:xfrm>
                <a:prstGeom prst="pie">
                  <a:avLst/>
                </a:prstGeom>
                <a:solidFill>
                  <a:srgbClr val="ebf7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7"/>
                <p:cNvSpPr/>
                <p:nvPr/>
              </p:nvSpPr>
              <p:spPr>
                <a:xfrm flipH="1" rot="7140000">
                  <a:off x="2603160" y="5388480"/>
                  <a:ext cx="424080" cy="119160"/>
                </a:xfrm>
                <a:prstGeom prst="pie">
                  <a:avLst/>
                </a:prstGeom>
                <a:solidFill>
                  <a:srgbClr val="ebf7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8"/>
            <p:cNvGrpSpPr/>
            <p:nvPr/>
          </p:nvGrpSpPr>
          <p:grpSpPr>
            <a:xfrm>
              <a:off x="194400" y="5995800"/>
              <a:ext cx="1116720" cy="903600"/>
              <a:chOff x="194400" y="5995800"/>
              <a:chExt cx="1116720" cy="903600"/>
            </a:xfrm>
          </p:grpSpPr>
          <p:sp>
            <p:nvSpPr>
              <p:cNvPr id="18" name="Freeform 19"/>
              <p:cNvSpPr/>
              <p:nvPr/>
            </p:nvSpPr>
            <p:spPr>
              <a:xfrm rot="6240000">
                <a:off x="965160" y="5999040"/>
                <a:ext cx="281520" cy="35208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 rot="6240000">
                <a:off x="612000" y="6484320"/>
                <a:ext cx="484560" cy="28944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 rot="6240000">
                <a:off x="70560" y="6332040"/>
                <a:ext cx="508680" cy="14292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2"/>
            <p:cNvGrpSpPr/>
            <p:nvPr/>
          </p:nvGrpSpPr>
          <p:grpSpPr>
            <a:xfrm>
              <a:off x="143280" y="1414800"/>
              <a:ext cx="957960" cy="868320"/>
              <a:chOff x="143280" y="1414800"/>
              <a:chExt cx="957960" cy="868320"/>
            </a:xfrm>
          </p:grpSpPr>
          <p:sp>
            <p:nvSpPr>
              <p:cNvPr id="22" name="Freeform 23"/>
              <p:cNvSpPr/>
              <p:nvPr/>
            </p:nvSpPr>
            <p:spPr>
              <a:xfrm rot="4980000">
                <a:off x="780480" y="1384920"/>
                <a:ext cx="255960" cy="35676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4980000">
                <a:off x="594360" y="1896480"/>
                <a:ext cx="444960" cy="29520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4980000">
                <a:off x="11880" y="1956600"/>
                <a:ext cx="463680" cy="14580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6"/>
            <p:cNvGrpSpPr/>
            <p:nvPr/>
          </p:nvGrpSpPr>
          <p:grpSpPr>
            <a:xfrm>
              <a:off x="1252440" y="-379440"/>
              <a:ext cx="555840" cy="605520"/>
              <a:chOff x="1252440" y="-379440"/>
              <a:chExt cx="555840" cy="605520"/>
            </a:xfrm>
          </p:grpSpPr>
          <p:sp>
            <p:nvSpPr>
              <p:cNvPr id="26" name="Freeform 27"/>
              <p:cNvSpPr/>
              <p:nvPr/>
            </p:nvSpPr>
            <p:spPr>
              <a:xfrm>
                <a:off x="1252440" y="-379440"/>
                <a:ext cx="171720" cy="22464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509840" y="-270000"/>
                <a:ext cx="298440" cy="18288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1447920" y="134640"/>
                <a:ext cx="311040" cy="9144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Freeform 30"/>
            <p:cNvSpPr/>
            <p:nvPr/>
          </p:nvSpPr>
          <p:spPr>
            <a:xfrm>
              <a:off x="61920" y="-221760"/>
              <a:ext cx="1135080" cy="125892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 rot="840000">
              <a:off x="317520" y="5320440"/>
              <a:ext cx="209520" cy="27180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 rot="840000">
              <a:off x="358920" y="5637240"/>
              <a:ext cx="101520" cy="6408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-60480" y="6505560"/>
              <a:ext cx="185760" cy="3441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-79200" y="6267600"/>
              <a:ext cx="206280" cy="20880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-79200" y="6237000"/>
              <a:ext cx="69840" cy="13644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-79200" y="5045400"/>
              <a:ext cx="804600" cy="12315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rot="1560000">
              <a:off x="-42480" y="302040"/>
              <a:ext cx="555480" cy="40176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rot="1560000">
              <a:off x="320400" y="884160"/>
              <a:ext cx="266760" cy="1832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rot="1560000">
              <a:off x="860040" y="96120"/>
              <a:ext cx="233280" cy="2602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rot="1560000">
              <a:off x="307440" y="822960"/>
              <a:ext cx="95400" cy="1544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 rot="1560000">
              <a:off x="879480" y="395280"/>
              <a:ext cx="111240" cy="6120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-79200" y="1104480"/>
              <a:ext cx="580680" cy="108216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 rot="1560000">
              <a:off x="15840" y="-240840"/>
              <a:ext cx="1308240" cy="114156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3752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00B102-98AB-4506-BB87-B0F54E4A5CC2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257400" y="-2244960"/>
            <a:ext cx="10708560" cy="9096480"/>
            <a:chOff x="-257400" y="-2244960"/>
            <a:chExt cx="10708560" cy="9096480"/>
          </a:xfrm>
        </p:grpSpPr>
        <p:grpSp>
          <p:nvGrpSpPr>
            <p:cNvPr id="85" name="Group 2"/>
            <p:cNvGrpSpPr/>
            <p:nvPr/>
          </p:nvGrpSpPr>
          <p:grpSpPr>
            <a:xfrm>
              <a:off x="2861640" y="-2244960"/>
              <a:ext cx="7589520" cy="8616240"/>
              <a:chOff x="2861640" y="-2244960"/>
              <a:chExt cx="7589520" cy="8616240"/>
            </a:xfrm>
          </p:grpSpPr>
          <p:sp>
            <p:nvSpPr>
              <p:cNvPr id="86" name="Freeform 3"/>
              <p:cNvSpPr/>
              <p:nvPr/>
            </p:nvSpPr>
            <p:spPr>
              <a:xfrm flipV="1" rot="12000000">
                <a:off x="5085000" y="-1487520"/>
                <a:ext cx="4980960" cy="313020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4"/>
              <p:cNvSpPr/>
              <p:nvPr/>
            </p:nvSpPr>
            <p:spPr>
              <a:xfrm flipV="1" rot="12000000">
                <a:off x="7069320" y="655200"/>
                <a:ext cx="2124720" cy="111348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 flipV="1" rot="12000000">
                <a:off x="5667120" y="1499040"/>
                <a:ext cx="1026000" cy="51768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V="1" rot="12000000">
                <a:off x="6668640" y="-1053360"/>
                <a:ext cx="905760" cy="72288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 flipV="1" rot="12000000">
                <a:off x="6441120" y="1564920"/>
                <a:ext cx="371880" cy="43524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8"/>
              <p:cNvSpPr/>
              <p:nvPr/>
            </p:nvSpPr>
            <p:spPr>
              <a:xfrm flipV="1" rot="12000000">
                <a:off x="6411600" y="-299160"/>
                <a:ext cx="435600" cy="18108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 flipV="1" rot="12000000">
                <a:off x="3567960" y="1947600"/>
                <a:ext cx="1224720" cy="4344840"/>
              </a:xfrm>
              <a:prstGeom prst="pie">
                <a:avLst/>
              </a:prstGeom>
              <a:solidFill>
                <a:srgbClr val="ebf7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Freeform 10"/>
            <p:cNvSpPr/>
            <p:nvPr/>
          </p:nvSpPr>
          <p:spPr>
            <a:xfrm flipH="1" rot="360000">
              <a:off x="-31680" y="3112920"/>
              <a:ext cx="509400" cy="10245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206280" y="2000160"/>
              <a:ext cx="2003400" cy="242568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-60480" y="4143240"/>
              <a:ext cx="1273320" cy="72252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 flipH="1" rot="360000">
              <a:off x="1372680" y="4538160"/>
              <a:ext cx="560520" cy="73044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 flipH="1" rot="360000">
              <a:off x="1207800" y="4730400"/>
              <a:ext cx="131760" cy="42840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1839960" y="5195880"/>
              <a:ext cx="1762200" cy="165564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Group 16"/>
            <p:cNvGrpSpPr/>
            <p:nvPr/>
          </p:nvGrpSpPr>
          <p:grpSpPr>
            <a:xfrm>
              <a:off x="3459600" y="355320"/>
              <a:ext cx="2167560" cy="2037600"/>
              <a:chOff x="3459600" y="355320"/>
              <a:chExt cx="2167560" cy="2037600"/>
            </a:xfrm>
          </p:grpSpPr>
          <p:sp>
            <p:nvSpPr>
              <p:cNvPr id="100" name="Freeform 17"/>
              <p:cNvSpPr/>
              <p:nvPr/>
            </p:nvSpPr>
            <p:spPr>
              <a:xfrm rot="3240000">
                <a:off x="4455720" y="339120"/>
                <a:ext cx="421200" cy="90432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8"/>
              <p:cNvSpPr/>
              <p:nvPr/>
            </p:nvSpPr>
            <p:spPr>
              <a:xfrm rot="3240000">
                <a:off x="4744080" y="1173960"/>
                <a:ext cx="730800" cy="74844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 rot="3240000">
                <a:off x="3453840" y="1785960"/>
                <a:ext cx="763200" cy="37512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5518440" y="217440"/>
              <a:ext cx="1260360" cy="1207440"/>
              <a:chOff x="5518440" y="217440"/>
              <a:chExt cx="1260360" cy="1207440"/>
            </a:xfrm>
          </p:grpSpPr>
          <p:sp>
            <p:nvSpPr>
              <p:cNvPr id="104" name="Freeform 21"/>
              <p:cNvSpPr/>
              <p:nvPr/>
            </p:nvSpPr>
            <p:spPr>
              <a:xfrm rot="14880000">
                <a:off x="5674680" y="960120"/>
                <a:ext cx="250920" cy="50652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14880000">
                <a:off x="5598360" y="491760"/>
                <a:ext cx="438840" cy="41796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3"/>
              <p:cNvSpPr/>
              <p:nvPr/>
            </p:nvSpPr>
            <p:spPr>
              <a:xfrm rot="14880000">
                <a:off x="6365880" y="365400"/>
                <a:ext cx="460080" cy="20844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4"/>
            <p:cNvGrpSpPr/>
            <p:nvPr/>
          </p:nvGrpSpPr>
          <p:grpSpPr>
            <a:xfrm>
              <a:off x="835560" y="4699080"/>
              <a:ext cx="1709640" cy="1861920"/>
              <a:chOff x="835560" y="4699080"/>
              <a:chExt cx="1709640" cy="1861920"/>
            </a:xfrm>
          </p:grpSpPr>
          <p:sp>
            <p:nvSpPr>
              <p:cNvPr id="108" name="Freeform 25"/>
              <p:cNvSpPr/>
              <p:nvPr/>
            </p:nvSpPr>
            <p:spPr>
              <a:xfrm rot="8520000">
                <a:off x="1980720" y="5250240"/>
                <a:ext cx="367920" cy="76428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8520000">
                <a:off x="1208880" y="5797080"/>
                <a:ext cx="632160" cy="63648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 rot="8520000">
                <a:off x="863640" y="4868280"/>
                <a:ext cx="660960" cy="31860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8"/>
            <p:cNvGrpSpPr/>
            <p:nvPr/>
          </p:nvGrpSpPr>
          <p:grpSpPr>
            <a:xfrm>
              <a:off x="-257400" y="133560"/>
              <a:ext cx="2495520" cy="1731960"/>
              <a:chOff x="-257400" y="133560"/>
              <a:chExt cx="2495520" cy="1731960"/>
            </a:xfrm>
          </p:grpSpPr>
          <p:sp>
            <p:nvSpPr>
              <p:cNvPr id="112" name="Freeform 29"/>
              <p:cNvSpPr/>
              <p:nvPr/>
            </p:nvSpPr>
            <p:spPr>
              <a:xfrm flipH="1" rot="4140000">
                <a:off x="1510920" y="1085760"/>
                <a:ext cx="534600" cy="77976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 flipH="1" rot="4140000">
                <a:off x="680760" y="355680"/>
                <a:ext cx="921240" cy="64728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1"/>
              <p:cNvSpPr/>
              <p:nvPr/>
            </p:nvSpPr>
            <p:spPr>
              <a:xfrm flipH="1" rot="4140000">
                <a:off x="-413640" y="1137600"/>
                <a:ext cx="962280" cy="32724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2"/>
            <p:cNvGrpSpPr/>
            <p:nvPr/>
          </p:nvGrpSpPr>
          <p:grpSpPr>
            <a:xfrm>
              <a:off x="7122960" y="3352680"/>
              <a:ext cx="1609200" cy="2109960"/>
              <a:chOff x="7122960" y="3352680"/>
              <a:chExt cx="1609200" cy="2109960"/>
            </a:xfrm>
          </p:grpSpPr>
          <p:sp>
            <p:nvSpPr>
              <p:cNvPr id="116" name="Freeform 33"/>
              <p:cNvSpPr/>
              <p:nvPr/>
            </p:nvSpPr>
            <p:spPr>
              <a:xfrm flipH="1" rot="10020000">
                <a:off x="7193520" y="4729680"/>
                <a:ext cx="492120" cy="68616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4"/>
              <p:cNvSpPr/>
              <p:nvPr/>
            </p:nvSpPr>
            <p:spPr>
              <a:xfrm flipH="1" rot="10020000">
                <a:off x="7826400" y="4332960"/>
                <a:ext cx="852120" cy="56880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 flipH="1" rot="10020000">
                <a:off x="7400520" y="3448800"/>
                <a:ext cx="888120" cy="287640"/>
              </a:xfrm>
              <a:prstGeom prst="pi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Freeform 36"/>
            <p:cNvSpPr/>
            <p:nvPr/>
          </p:nvSpPr>
          <p:spPr>
            <a:xfrm>
              <a:off x="1882800" y="3240"/>
              <a:ext cx="1371600" cy="14000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 flipV="1" rot="9840000">
              <a:off x="3389040" y="163080"/>
              <a:ext cx="1079280" cy="9356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flipV="1" rot="9840000">
              <a:off x="3135240" y="1364040"/>
              <a:ext cx="519120" cy="43560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V="1" rot="9840000">
              <a:off x="3497040" y="1283400"/>
              <a:ext cx="188640" cy="36360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>
              <a:off x="2500200" y="0"/>
              <a:ext cx="190440" cy="18576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flipV="1" rot="9840000">
              <a:off x="3412800" y="1964160"/>
              <a:ext cx="622440" cy="36446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>
              <a:off x="-60480" y="2933640"/>
              <a:ext cx="51120" cy="20340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AA71D3-F4A4-422D-B438-F8C18635FDE0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560" y="596520"/>
            <a:ext cx="618660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2489040" y="4280040"/>
            <a:ext cx="61405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Для добавления текста щёлкните мыш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28692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Буквы о, а на конце наречий с приставками из, до,с, за, на, в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9280" y="3429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Урок в 7 классе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0000" y="836280"/>
            <a:ext cx="82407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8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8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31640" y="320760"/>
            <a:ext cx="8251920" cy="59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2"/>
          <a:stretch/>
        </p:blipFill>
        <p:spPr>
          <a:xfrm>
            <a:off x="1042920" y="5373720"/>
            <a:ext cx="714600" cy="10382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440" y="293760"/>
            <a:ext cx="82393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93840" y="1541520"/>
            <a:ext cx="83660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b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Constantia"/>
              </a:rPr>
              <a:t>Свернуть вправо, пойти налево, приехать издалека, навещать изредка, приходить запросто, сказать сгоряча, учиться заочно, раскалилось докрасна, переписать набело, подойти справа, начать сначала, наскоро пое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12840" y="431640"/>
            <a:ext cx="8366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nstantia"/>
              </a:rPr>
              <a:t>Комментированный дикта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44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12840" y="6854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a8"/>
                </a:solidFill>
                <a:latin typeface="Georgia"/>
              </a:rPr>
              <a:t>Задание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b2bd2"/>
                </a:solidFill>
                <a:latin typeface="Constantia"/>
              </a:rPr>
              <a:t>Замените словосочетания одним синонимом-наречием на наше правил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Constantia"/>
              </a:rPr>
              <a:t>Образец</a:t>
            </a:r>
            <a:r>
              <a:rPr b="0" lang="ru-RU" sz="2200" spc="-1" strike="noStrike">
                <a:solidFill>
                  <a:srgbClr val="0000a8"/>
                </a:solidFill>
                <a:latin typeface="Constantia"/>
                <a:ea typeface="Verdana"/>
              </a:rPr>
              <a:t>: </a:t>
            </a:r>
            <a:r>
              <a:rPr b="0" lang="ru-RU" sz="2200" spc="-1" strike="noStrike">
                <a:solidFill>
                  <a:srgbClr val="006699"/>
                </a:solidFill>
                <a:latin typeface="Constantia"/>
                <a:ea typeface="Verdana"/>
              </a:rPr>
              <a:t>расстаться на долгое время=надолго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onstantia"/>
                <a:ea typeface="Verdana"/>
              </a:rPr>
              <a:t>1. Плотно, вдоволь, вволю, всласть поесть=досыта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onstantia"/>
                <a:ea typeface="Verdana"/>
              </a:rPr>
              <a:t>2. Выехать, пока еще светло=засветло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onstantia"/>
                <a:ea typeface="Verdana"/>
              </a:rPr>
              <a:t>3. Навещать нечасто, редко=изредка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onstantia"/>
                <a:ea typeface="Verdana"/>
              </a:rPr>
              <a:t>4. Приходить в гости без стеснений=запросто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onstantia"/>
                <a:ea typeface="Verdana"/>
              </a:rPr>
              <a:t>5. В пылу спора, под горячую руку обидеть=сгоряча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onstantia"/>
                <a:ea typeface="Verdana"/>
              </a:rPr>
              <a:t>6. С давних пор, с незапамятных времен сеять=издавна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onstantia"/>
                <a:ea typeface="Verdana"/>
              </a:rPr>
              <a:t>7. Встретить гостеприимно=радушно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7613640" y="1808280"/>
            <a:ext cx="131292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82393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Творческий диктан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Constantia"/>
              </a:rPr>
              <a:t>Задание</a:t>
            </a:r>
            <a:r>
              <a:rPr b="1" lang="ru-RU" sz="2400" spc="-1" strike="noStrike">
                <a:solidFill>
                  <a:srgbClr val="0000a8"/>
                </a:solidFill>
                <a:latin typeface="Constantia"/>
                <a:ea typeface="Verdana"/>
              </a:rPr>
              <a:t>:</a:t>
            </a:r>
            <a:r>
              <a:rPr b="0" lang="ru-RU" sz="2400" spc="-1" strike="noStrike">
                <a:solidFill>
                  <a:srgbClr val="0000a8"/>
                </a:solidFill>
                <a:latin typeface="Constantia"/>
                <a:ea typeface="Verdana"/>
              </a:rPr>
              <a:t> </a:t>
            </a:r>
            <a:r>
              <a:rPr b="0" lang="ru-RU" sz="2200" spc="-1" strike="noStrike">
                <a:solidFill>
                  <a:srgbClr val="0000a8"/>
                </a:solidFill>
                <a:latin typeface="Constantia"/>
                <a:ea typeface="Verdana"/>
              </a:rPr>
              <a:t>по лексическому значению определить слово-наречие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a8"/>
                </a:solidFill>
                <a:latin typeface="Constantia"/>
                <a:ea typeface="Verdana"/>
              </a:rPr>
              <a:t>(задание выполняется устно)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Constantia"/>
                <a:ea typeface="Verdana"/>
              </a:rPr>
              <a:t>1. </a:t>
            </a:r>
            <a:r>
              <a:rPr b="0" lang="ru-RU" sz="2400" spc="-1" strike="noStrike">
                <a:solidFill>
                  <a:srgbClr val="006699"/>
                </a:solidFill>
                <a:latin typeface="Constantia"/>
                <a:ea typeface="Verdana"/>
              </a:rPr>
              <a:t>Друзья, оставшиеся в классе один на один(наедине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nstantia"/>
                <a:ea typeface="Verdana"/>
              </a:rPr>
              <a:t>2. Лист бумаги, сложенный в четыре раза(вчетверо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nstantia"/>
                <a:ea typeface="Verdana"/>
              </a:rPr>
              <a:t>3. Равнина, разделенная оврагом пополам(надвое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nstantia"/>
                <a:ea typeface="Verdana"/>
              </a:rPr>
              <a:t>4. Дежурные, убиравшие класс два раза(дважды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nstantia"/>
                <a:ea typeface="Verdana"/>
              </a:rPr>
              <a:t>5. Брошюры, купленные попутно с книгами(заодно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 rot="240000">
            <a:off x="7508520" y="5041800"/>
            <a:ext cx="110160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82393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бота с фразеологизма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e80"/>
                </a:solidFill>
                <a:latin typeface="Constantia"/>
              </a:rPr>
              <a:t>Задание</a:t>
            </a:r>
            <a:r>
              <a:rPr b="1" lang="ru-RU" sz="3200" spc="-1" strike="noStrike">
                <a:solidFill>
                  <a:srgbClr val="007e80"/>
                </a:solidFill>
                <a:latin typeface="Constantia"/>
                <a:ea typeface="Verdana"/>
              </a:rPr>
              <a:t>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e80"/>
                </a:solidFill>
                <a:latin typeface="Constantia"/>
                <a:ea typeface="Verdana"/>
              </a:rPr>
              <a:t>замените фразеологизм наречие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  <a:ea typeface="Verdana"/>
              </a:rPr>
              <a:t>Спит как убитый — крепко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  <a:ea typeface="Verdana"/>
              </a:rPr>
              <a:t>Знать как свои пять пальцев — хорошо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  <a:ea typeface="Verdana"/>
              </a:rPr>
              <a:t>Кот наплакал — мало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  <a:ea typeface="Verdana"/>
              </a:rPr>
              <a:t>Ни свет, ни заря — рано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44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Verdana"/>
              </a:rPr>
              <a:t>Подведём итоги.</a:t>
            </a:r>
            <a:br>
              <a:rPr sz="5400"/>
            </a:b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2160360"/>
            <a:ext cx="822960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6699"/>
                </a:solidFill>
                <a:latin typeface="Constantia"/>
              </a:rPr>
              <a:t>Достигли ли мы цели урока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6699"/>
                </a:solidFill>
                <a:latin typeface="Constantia"/>
              </a:rPr>
              <a:t>Научились выбирать гласные на конце наречий с </a:t>
            </a:r>
            <a:r>
              <a:rPr b="1" lang="ru-RU" sz="2600" spc="-1" strike="noStrike">
                <a:solidFill>
                  <a:srgbClr val="006699"/>
                </a:solidFill>
                <a:latin typeface="Constantia"/>
                <a:ea typeface="Verdana"/>
              </a:rPr>
              <a:t>¬из,-до,-с,-в,-на,-за</a:t>
            </a:r>
            <a:r>
              <a:rPr b="1" lang="ru-RU" sz="2600" spc="-1" strike="noStrike">
                <a:solidFill>
                  <a:srgbClr val="006699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1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</a:rPr>
              <a:t>Давайте пожелаем друг другу с помощью наречий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Constantia"/>
              </a:rPr>
              <a:t>Никогда</a:t>
            </a:r>
            <a:r>
              <a:rPr b="0" lang="ru-RU" sz="2600" spc="-1" strike="noStrike">
                <a:solidFill>
                  <a:srgbClr val="006699"/>
                </a:solidFill>
                <a:latin typeface="Constantia"/>
              </a:rPr>
              <a:t> не болеть,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a8"/>
                </a:solidFill>
                <a:latin typeface="Constantia"/>
              </a:rPr>
              <a:t>Отлично</a:t>
            </a:r>
            <a:r>
              <a:rPr b="0" lang="ru-RU" sz="2600" spc="-1" strike="noStrike">
                <a:solidFill>
                  <a:srgbClr val="006699"/>
                </a:solidFill>
                <a:latin typeface="Constantia"/>
              </a:rPr>
              <a:t> выглядеть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Constantia"/>
              </a:rPr>
              <a:t>Чаще</a:t>
            </a:r>
            <a:r>
              <a:rPr b="0" lang="ru-RU" sz="2600" spc="-1" strike="noStrike">
                <a:solidFill>
                  <a:srgbClr val="006699"/>
                </a:solidFill>
                <a:latin typeface="Constantia"/>
              </a:rPr>
              <a:t> улыбаться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1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ВЫСТАВЛЕНИЕ ОЦЕНОК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1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1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160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60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60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6948360" y="4508640"/>
            <a:ext cx="139716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82393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  <a:ea typeface="Verdana"/>
              </a:rPr>
              <a:t>§ 20 (правило)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  <a:ea typeface="Verdana"/>
              </a:rPr>
              <a:t>Упражнение 277,27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nstantia"/>
                <a:ea typeface="Verdana"/>
              </a:rPr>
              <a:t>У нас все получилось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nstantia"/>
                <a:ea typeface="Verdana"/>
              </a:rPr>
              <a:t>СПАСИБО!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6408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Verdana"/>
              </a:rPr>
              <a:t>Цели и задачи урока:</a:t>
            </a:r>
            <a:br>
              <a:rPr sz="4000"/>
            </a:b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9152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6080" indent="-316080" algn="just"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развитие у учащихся ассоциативного и образного мышления, интеллектуальных способностей, позволяющих учиться самостоятельно; познакомить учащихся с условиями выбора и написания букв о и а на конце наречий с приставками из -, до - , с -; формирование умения находить наречия на изученную орфограмму и правильно писать их; воспитание познавательного интереса к изучаемому материал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608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7091280" y="216000"/>
            <a:ext cx="1403280" cy="2016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44440" y="2232000"/>
            <a:ext cx="32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7360" y="2557440"/>
            <a:ext cx="32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395280" y="472428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5148360" y="4724280"/>
            <a:ext cx="26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800520" y="2708280"/>
            <a:ext cx="154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462560" y="563256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47640" y="1197000"/>
            <a:ext cx="496908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42800" y="103320"/>
            <a:ext cx="824256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 О, сколько нам открытий чудных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товит просвещенья ду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 опыт — сын ошибок трудны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 гений — парадоксов друг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 rot="21540000">
            <a:off x="3922200" y="232920"/>
            <a:ext cx="1727280" cy="20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178 0 L 0.25 0.16133 L 0.072 0.16133 L 0 0 Z">
                                      <p:cBhvr>
                                        <p:cTn id="2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178 0 L 0.25 0.16133 L 0.072 0.16133 L 0 0 Z">
                                      <p:cBhvr>
                                        <p:cTn id="2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4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2.5E-006 1.48148E-006 L 0.04219 1.48148E-006 C 0.06111 1.48148E-006 0.08455 -0.03195 0.08455 -0.05787 L 0.08455 -0.11551 E">
                                      <p:cBhvr>
                                        <p:cTn id="37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Freeform 2"/>
          <p:cNvSpPr/>
          <p:nvPr/>
        </p:nvSpPr>
        <p:spPr>
          <a:xfrm>
            <a:off x="401760" y="3000240"/>
            <a:ext cx="1440" cy="1800"/>
          </a:xfrm>
          <a:prstGeom prst="pie">
            <a:avLst/>
          </a:prstGeom>
          <a:noFill/>
          <a:ln cap="rnd" w="3492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839880" y="3000240"/>
            <a:ext cx="1440" cy="1800"/>
          </a:xfrm>
          <a:prstGeom prst="pie">
            <a:avLst/>
          </a:prstGeom>
          <a:noFill/>
          <a:ln cap="rnd" w="3492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reeform 4"/>
          <p:cNvSpPr/>
          <p:nvPr/>
        </p:nvSpPr>
        <p:spPr>
          <a:xfrm>
            <a:off x="1295280" y="3009960"/>
            <a:ext cx="1800" cy="1440"/>
          </a:xfrm>
          <a:prstGeom prst="pie">
            <a:avLst/>
          </a:prstGeom>
          <a:noFill/>
          <a:ln cap="rnd" w="3492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nstantia"/>
              </a:rPr>
              <a:t>Какой способ образовани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</a:rPr>
              <a:t>Беспомощно ← беспомощный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</a:rPr>
              <a:t>(суффиксальный)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</a:rPr>
              <a:t>Добела ←</a:t>
            </a:r>
            <a:r>
              <a:rPr b="0" lang="ru-RU" sz="2600" spc="-1" strike="noStrike">
                <a:solidFill>
                  <a:srgbClr val="006699"/>
                </a:solidFill>
                <a:latin typeface="Constantia"/>
                <a:ea typeface="Constantia"/>
              </a:rPr>
              <a:t> белый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  <a:ea typeface="Constantia"/>
              </a:rPr>
              <a:t>(приставочно-суффиксальный)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b2bd2"/>
                </a:solidFill>
                <a:latin typeface="Constantia"/>
                <a:ea typeface="Constantia"/>
              </a:rPr>
              <a:t>ВЫВОД: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  <a:ea typeface="Constantia"/>
              </a:rPr>
              <a:t>наречия образуются от прилагательных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  <a:ea typeface="Constantia"/>
              </a:rPr>
              <a:t>суффиксальным и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Constantia"/>
                <a:ea typeface="Constantia"/>
              </a:rPr>
              <a:t>приставочно-суффиксальным способом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84240" y="928800"/>
            <a:ext cx="6103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онаблюдаем вмес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660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53a8"/>
                </a:solidFill>
                <a:latin typeface="Constantia"/>
              </a:rPr>
              <a:t>Навечно            докрасн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660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53a8"/>
                </a:solidFill>
                <a:latin typeface="Constantia"/>
              </a:rPr>
              <a:t>Запросто           снов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660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53a8"/>
                </a:solidFill>
                <a:latin typeface="Constantia"/>
              </a:rPr>
              <a:t>Вправо              изредк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7812000" y="4941720"/>
            <a:ext cx="800280" cy="1467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3141720" y="509760"/>
            <a:ext cx="2636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57200" y="49320"/>
            <a:ext cx="81630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42800" y="503280"/>
            <a:ext cx="816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О или а на конце наречий</a:t>
            </a:r>
            <a:r>
              <a:rPr b="1" lang="ru-RU" sz="4000" spc="-1" strike="noStrike">
                <a:solidFill>
                  <a:srgbClr val="cc99ff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9590040" y="-19080"/>
            <a:ext cx="81630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7164360" y="4508640"/>
            <a:ext cx="166680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1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729fcf">
              <a:alpha val="50000"/>
            </a:srgbClr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5240" y="216000"/>
            <a:ext cx="79088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апомним!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2440" y="647640"/>
            <a:ext cx="799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720720" y="287280"/>
            <a:ext cx="77756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82407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97164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36720" y="503280"/>
            <a:ext cx="21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287280" y="2352600"/>
            <a:ext cx="1435320" cy="13906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792000" y="530280"/>
            <a:ext cx="7531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Подумаем! Приставки -из, -до,-с, а пишем -о на конце. Почему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  <a:ea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7760" y="1022400"/>
            <a:ext cx="902016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a8"/>
                </a:solidFill>
                <a:latin typeface="Verdana"/>
              </a:rPr>
              <a:t>Посмотрим способ образова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b7ed2"/>
                </a:solidFill>
                <a:latin typeface="Verdana"/>
                <a:ea typeface="Verdana"/>
              </a:rPr>
              <a:t>Изнеженно</a:t>
            </a:r>
            <a:r>
              <a:rPr b="1" lang="ru-RU" sz="2600" spc="-1" strike="noStrike">
                <a:solidFill>
                  <a:srgbClr val="2b7ed2"/>
                </a:solidFill>
                <a:latin typeface="Verdana"/>
                <a:ea typeface="Verdana"/>
              </a:rPr>
              <a:t>←изнеженный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b7ed2"/>
                </a:solidFill>
                <a:latin typeface="Verdana"/>
                <a:ea typeface="Verdana"/>
              </a:rPr>
              <a:t>дословно← дословный,</a:t>
            </a:r>
            <a:r>
              <a:rPr b="1" lang="ru-RU" sz="2600" spc="-1" strike="noStrike">
                <a:solidFill>
                  <a:srgbClr val="2b7ed2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b7ed2"/>
                </a:solidFill>
                <a:latin typeface="Verdana"/>
                <a:ea typeface="Verdana"/>
              </a:rPr>
              <a:t>связно← связны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6699"/>
                </a:solidFill>
                <a:latin typeface="Verdana"/>
                <a:ea typeface="Verdana"/>
              </a:rPr>
              <a:t>(суффиксальный способ образован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nstantia"/>
              </a:rPr>
              <a:t>Эти наречия образованы от прилагательных, у которых уже были пристав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1342 L -0.13385 0.00301 E">
                                      <p:cBhvr>
                                        <p:cTn id="5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0.00301 L -0.10243 -0.13958 E">
                                      <p:cBhvr>
                                        <p:cTn id="61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1806 L 0.054 0.01806 C 0.09601 0.01806 0.14757 -0.02847 0.14757 -0.06597 L 0.14757 -0.15 E">
                                      <p:cBhvr>
                                        <p:cTn id="65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792000" y="576360"/>
            <a:ext cx="748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985680" y="4616280"/>
            <a:ext cx="1675080" cy="2178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31640" y="515520"/>
            <a:ext cx="82267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76360" y="371520"/>
            <a:ext cx="763272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3f40"/>
                </a:solidFill>
                <a:uFillTx/>
                <a:latin typeface="Monotype Corsiva"/>
              </a:rPr>
              <a:t>Вывод</a:t>
            </a:r>
            <a:r>
              <a:rPr b="1" lang="ru-RU" sz="4400" spc="-1" strike="noStrike" u="sng">
                <a:solidFill>
                  <a:srgbClr val="003f40"/>
                </a:solidFill>
                <a:uFillTx/>
                <a:latin typeface="Segoe UI"/>
                <a:ea typeface="Segoe UI"/>
              </a:rPr>
              <a:t>:</a:t>
            </a:r>
            <a:r>
              <a:rPr b="1" lang="ru-RU" sz="4400" spc="-1" strike="noStrike" u="sng">
                <a:solidFill>
                  <a:srgbClr val="007e80"/>
                </a:solidFill>
                <a:uFillTx/>
                <a:latin typeface="Monotype Corsiva"/>
                <a:ea typeface="Segoe UI"/>
              </a:rPr>
              <a:t> если наречие с</a:t>
            </a:r>
            <a:r>
              <a:rPr b="1" lang="ru-RU" sz="4400" spc="-1" strike="noStrike" u="sng">
                <a:solidFill>
                  <a:srgbClr val="007e80"/>
                </a:solidFill>
                <a:uFillTx/>
                <a:latin typeface="Segoe UI"/>
                <a:ea typeface="Segoe UI"/>
              </a:rPr>
              <a:t>¬</a:t>
            </a:r>
            <a:r>
              <a:rPr b="1" lang="ru-RU" sz="4400" spc="-1" strike="noStrike" u="sng">
                <a:solidFill>
                  <a:srgbClr val="007e80"/>
                </a:solidFill>
                <a:uFillTx/>
                <a:latin typeface="Monotype Corsiva"/>
                <a:ea typeface="Segoe UI"/>
              </a:rPr>
              <a:t>из,-до,-с образовано от бесприставочного прилагательного, то пишем А, если от прилагательного с приставкой пишу 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78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84000" y="2771280"/>
            <a:ext cx="714996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87280" y="287280"/>
            <a:ext cx="854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Constantia"/>
              </a:rPr>
              <a:t>Наречия с</a:t>
            </a:r>
            <a:r>
              <a:rPr b="0" lang="ru-RU" sz="2600" spc="-1" strike="noStrike">
                <a:solidFill>
                  <a:srgbClr val="006666"/>
                </a:solidFill>
                <a:latin typeface="Constantia"/>
                <a:ea typeface="Verdana"/>
              </a:rPr>
              <a:t>¬в,-на,-за,-из, -до,-с — это застывшие формы винительного и родительного падежей, краткие прилагательные, которые в древнерусском языке склонялись, как до сих пор склоняется слово ОК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09680" y="1008000"/>
            <a:ext cx="848340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1368360" y="2567160"/>
            <a:ext cx="7188120" cy="4022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66600" y="3873600"/>
            <a:ext cx="1228680" cy="159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47:26Z</dcterms:created>
  <dc:creator>ROMAN</dc:creator>
  <dc:description/>
  <dc:language>en-US</dc:language>
  <cp:lastModifiedBy>дом </cp:lastModifiedBy>
  <dcterms:modified xsi:type="dcterms:W3CDTF">2017-12-16T17:23:28Z</dcterms:modified>
  <cp:revision>40</cp:revision>
  <dc:subject/>
  <dc:title>Четырнадцатое апреля. Классная работа. </dc:title>
</cp:coreProperties>
</file>