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815-77B3-4EB1-B750-B28380464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885B-E7E5-4A44-8D86-23A8817EF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8B96-9D81-48BE-8A41-F7BF95A27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66EF-CA22-4C23-922F-491AA7861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B0D4-4B01-42D0-A13D-870D1F7EE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FB8A-9E0A-45FA-95A3-26C3F7E7E9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2E29-434B-4F0C-8CAB-54F45F836D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EDFB-8481-4E35-80A5-588EA9A8E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3845-D23B-49ED-8FCA-022A75D1A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E43C-567A-4E6C-AB23-66825C7B0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0E4-5352-45AE-9DC9-7247C7A52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DE7E-37FD-4215-ABC4-840C795F9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1AFB4-751D-4277-97DD-1C9BF1D9BD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800000"/>
              </a:gs>
              <a:gs pos="100000">
                <a:srgbClr val="eb61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9720" y="503280"/>
            <a:ext cx="860436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0360" y="317520"/>
            <a:ext cx="9070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рограммы воспитательной работы „я – это мы“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в 6 А классе МБОУ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„Средняя общеобразовательная школа №9“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г. Чебокса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00360" y="2519280"/>
            <a:ext cx="6300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30080" y="236520"/>
            <a:ext cx="8609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Общешкольные мероприятия 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„Приключения Красной шапочки“, декабрь 2012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„</a:t>
            </a: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Новый год по всему свету“, декабрь 2013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179280" y="2519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1303200"/>
            <a:ext cx="4435560" cy="589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оздание сказочной елки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519280"/>
            <a:ext cx="4610160" cy="362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00520" y="1800360"/>
            <a:ext cx="484020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Декабрь 2014 год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40000" y="179280"/>
            <a:ext cx="7740360" cy="738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79280" y="-1173240"/>
            <a:ext cx="860904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тартины „Танцуй, пока молодой“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89996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Я – и мое ЭГО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Цель: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азвитие у детей потребности к самопознанию, самосовершенствованию, ориентация каждого ребенка на развитие умения строить себя и свои отношения в классе,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680" y="1800360"/>
            <a:ext cx="86086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ы 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43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диагностика (анкеты, тесты, эссе, наблюден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43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беседы, часы общ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43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одительские всеобу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ружки школьные и внешкольные по развитию творческого потенц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„</a:t>
            </a: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амые вредные и противные“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январь 2014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30080" y="236520"/>
            <a:ext cx="8609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Участие в дистанционных олимпиадах</a:t>
            </a:r>
            <a:br>
              <a:rPr sz="4700"/>
            </a:b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179280" y="15368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879640" y="1901880"/>
            <a:ext cx="8080560" cy="565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0960" y="-1484280"/>
            <a:ext cx="860904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ограмма „я – это мы“ рассчитана на реализацию в 5-6 классах, когда дети переходят из начального звена в среднее, для обучающихся характерен упадок успеваемости, чувство одиночества или, наоборот, повышенная активность. В этот момент важно сплотить их, нацелить на результаты как в учебе, внешкольных мероприятиях, так и на успех в общении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80000" y="351648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38120" y="4106880"/>
            <a:ext cx="604044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оздание учащимися табеля успеваемости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резентации портфолио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анкетирования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60360" y="4297320"/>
            <a:ext cx="4260960" cy="362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879640" y="1693800"/>
            <a:ext cx="735984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ружок „Грамотеи“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оманда 6 А класса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ружок „Умелые ручки“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828880" y="23400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0360" y="336600"/>
            <a:ext cx="4481640" cy="632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39800" y="1440000"/>
            <a:ext cx="8439120" cy="605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Я и Россия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Цель: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Создание условий для патриотического, гражданского и духовно- нравственного воспитания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Цель программы : создание условий для становления образованной, целеустремленной, социально-адаптированной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68277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30080" y="-2651040"/>
            <a:ext cx="8609040" cy="78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Задачи: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- развитие ребёнка как члена общества;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- формирование уважительного отношения к малой и большой Родине, к своему народу, к его традициям и обычаям;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формирование чувства гордости за свою Родину, свой край, свой город, свою школу;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- воспитание чувства долга, любви и ответственности перед своим Отечеств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Уголок „Сохраним родной край“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ентябрь 2014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 музее  изучаем историю и культуру Чувашии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00360" y="2700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60360" y="1619280"/>
            <a:ext cx="61196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 библиотеке А.Барто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9 мая 2013 г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0360" y="2340000"/>
            <a:ext cx="82598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0080" y="-784080"/>
            <a:ext cx="860904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 конкурсе-фестивале „Великие сыны России- Кузьма Минин и Дмитрий Пожарский“ победитель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Ракова Аделина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160720" y="3780000"/>
            <a:ext cx="683388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30080" y="-1123920"/>
            <a:ext cx="86090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Маленький Даниил в конкурсе „Великие сыны России – Династия Романовых , триста лет истории России“</a:t>
            </a:r>
            <a:br>
              <a:rPr sz="4700"/>
            </a:b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0720" y="4140360"/>
            <a:ext cx="860904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30080" y="-947880"/>
            <a:ext cx="86090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br>
              <a:rPr sz="4700"/>
            </a:br>
            <a:br>
              <a:rPr sz="47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 конкурсе „Великие сыны России- Катуков, Маресьев, Судаев...“  1 место занял Кириллов Евгений с темой „Великая Отечественная война в топонимике Чувашской Республики“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47720" y="279720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05520" y="2700360"/>
            <a:ext cx="353520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30080" y="-1123920"/>
            <a:ext cx="86090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ириллов Евгений, занял III место в городской научно-практической конференции школьников «Открытие юных-2014» (секция «Топонимика»).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09960" y="351648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30080" y="236520"/>
            <a:ext cx="8609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9 мая 2013 года в библиотеке А. Барто ребятам 6 А класса читали письма с войны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81360" y="2100240"/>
            <a:ext cx="63086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0080" y="-1976400"/>
            <a:ext cx="86090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Задачи программы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осознание ребенком своего потенциала, возможностей роста и самореализации в различных сферах деятельности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развитие культурных навыков общения, поведения, приобретение знаний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расширение познавательного и культурного кругозора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оказание педагогической поддержки в области здоровья, чения, досуга, общения, семьи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пробуждение гражданственности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59040" y="4140360"/>
            <a:ext cx="3720960" cy="272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79640" y="239760"/>
            <a:ext cx="86090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 канун открытия олимпиады в Сочи 6 А подготовил театрализованный классный час „Спорт в искусстве Древней Греции“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-230040" y="3240000"/>
            <a:ext cx="6349680" cy="4762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00720" y="3959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0080" y="-104760"/>
            <a:ext cx="860904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ебята не только болели за спортсменами, но и на память  сфотографировались с олимпийским факелом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759280" y="216072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144440" y="3060720"/>
            <a:ext cx="389412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92400" y="-73080"/>
            <a:ext cx="860868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21 февраля 2014 года участвовали в смотре строя и песни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2235240"/>
            <a:ext cx="9899640" cy="496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30080" y="-3008160"/>
            <a:ext cx="8609040" cy="85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700"/>
            </a:br>
            <a:br>
              <a:rPr sz="4700"/>
            </a:br>
            <a:br>
              <a:rPr sz="4700"/>
            </a:br>
            <a:br>
              <a:rPr sz="4700"/>
            </a:br>
            <a:r>
              <a:rPr b="1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«Я и моё здоровье»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Цель: 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воспитание здорового образа жизни и высокого уровня физической культуры.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Акция против вредных привычек март 2013 г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30080" y="-539640"/>
            <a:ext cx="8609040" cy="36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3.10. «Я и моя безопасность»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Цель: 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формирование культуры безопасного поведения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30080" y="-2679840"/>
            <a:ext cx="8609040" cy="79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Воспитание в каждом ученике порядочности, трудолюбия, милосердия, гражданственности, толерантности, активной жизненной позиции, бережного отношения к природе, охране культурного наследия – вот ведущие ценности, которыми я руководствуюсь в своей работ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оэтому в воспитательном процессе планирую реализацию следующих направлений программы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30080" y="-3995640"/>
            <a:ext cx="8609040" cy="10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</a:t>
            </a:r>
            <a:r>
              <a:rPr b="1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ы работы: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тематические классные часы, беседы, лекции;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просмотр видеофильмов;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участие в конкурсах, викторинах;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выпуск тематических газет , плакатов;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встречи с представителями ГБДД и медицинских работников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оздаем ПДД уголок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53960" y="3060720"/>
            <a:ext cx="3506760" cy="4484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НАШ ПДД  УГОЛОК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46480" y="2100240"/>
            <a:ext cx="357660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Конкурс стенгазет ПДД </a:t>
            </a:r>
            <a:br>
              <a:rPr sz="4700"/>
            </a:b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евраль 2014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9280" y="2519280"/>
            <a:ext cx="4680000" cy="4343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219640" y="2160720"/>
            <a:ext cx="4500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тенгазета мальчиков 6 А о правилах дорожного движения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20720" y="-841320"/>
            <a:ext cx="86090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„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Моё отношение к труду“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Цели: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формирование трудовых навыков школьников;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- воспитание добросовестного отношения к труду и народному достоянию как к источнику благополучия общества в целом и личности в част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30080" y="-2222640"/>
            <a:ext cx="8609040" cy="69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ы работы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организация дежурства по классу и школе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организация трудовых десантов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 профориентационная работа (знакомство с профессиями, экскурсии, встречи с интересными людьми)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-беседы, тематические классные ча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убботник октябрь 2014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859040" y="21002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30080" y="636480"/>
            <a:ext cx="860904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пасибо за внимание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„</a:t>
            </a: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Я – это мы“</a:t>
            </a:r>
            <a:br>
              <a:rPr sz="4700"/>
            </a:b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0080" y="210024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Цель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:  создание сплоченного классного коллектива, как основы развития  индивидуальности каждого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43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43000"/>
              </a:lnSpc>
              <a:spcAft>
                <a:spcPts val="1412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0000" y="306072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0080" y="-2006640"/>
            <a:ext cx="86090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ы деятельности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                 беседы, часы общения;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        классные мероприятия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       участие классного коллектива в общешкольных мероприят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080" y="2100240"/>
            <a:ext cx="8609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30080" y="576360"/>
            <a:ext cx="8609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сихологические тренинги на сплочение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2496960"/>
            <a:ext cx="4621320" cy="4343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940360" y="2160720"/>
            <a:ext cx="414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7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День рождения, чаепития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09440" y="3419640"/>
            <a:ext cx="4789440" cy="3840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00720" y="1619280"/>
            <a:ext cx="4140000" cy="3598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59280" y="3780000"/>
            <a:ext cx="55594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>русский</dc:creator>
  <dc:description/>
  <dc:language>en-US</dc:language>
  <cp:lastModifiedBy>русский</cp:lastModifiedBy>
  <dcterms:modified xsi:type="dcterms:W3CDTF">2017-12-16T10:12:14Z</dcterms:modified>
  <cp:revision>14</cp:revision>
  <dc:subject/>
  <dc:title>Программы воспитательной работы „я – это мы“  в 6 А классе МБОУ  „Средняя общеобразовательная школа №9“  г. Чебоксары </dc:title>
</cp:coreProperties>
</file>