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F01A-BE62-46AF-B967-194684B7DE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A3FE-EFDC-4A13-AECE-7C879032B4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6FFC-45F3-4516-A7C2-EA5258308A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FFB1-5317-481E-9B12-AD3DA827EB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1CF7-318E-47FA-AF1B-FCD47FC81F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7688-1F9E-43D0-AB3F-43BC083A6F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5B64-06CC-4923-B2EA-04F07B1787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8F10-B105-4A7F-A743-DB66D001CF0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C37C-8882-49C5-A10C-0884E32358A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99B1-332D-432A-AFC4-0ABDF1DD1B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A7AD-314B-44D7-A697-EA5009877F5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EA43-B249-4394-A04F-388BAE213F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6FF0-0DC5-4C9F-9B08-32CB140C9F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513E-B3F3-4036-AF4D-6F717AF20C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97D9-BD94-4B3D-95AE-52E95E9161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133-8898-46AB-AC42-0D865E5A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5FB8-7ABE-4D59-9A52-3DF356E8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2104-14F6-4FEB-8DC5-312F7CB8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3B78-2F29-488D-9CB0-96D5471F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BE1-79D6-4A58-8C79-BF3B87E3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284-6656-49E6-A4F9-A6B31A90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BF5-AEC6-41D2-879E-94F315E4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C1F-0F30-49EE-8FF4-61F81DDD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777-4863-4AE2-857D-94984B13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659C-C427-4676-9300-C426C3FD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9FF7-8518-4E16-9E52-DDC1580A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B6B-B723-48C5-B219-39DA57FD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629F-F37F-4F64-AAA7-C639C510E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ОУ « ДС №3 г. Благовещенска «Надежда»</a:t>
            </a:r>
            <a:br>
              <a:rPr sz="2800"/>
            </a:br>
            <a:br>
              <a:rPr sz="1400"/>
            </a:b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Русский лес, полон тайн и чудес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 высшей катег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истенко Светла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175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ы и экспери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E:\УРОКИ\Фото уроки апрель 2016\Фото уроки апрель 2016\IMG_6421.JPG"/>
          <p:cNvPicPr/>
          <p:nvPr/>
        </p:nvPicPr>
        <p:blipFill>
          <a:blip r:embed="rId2"/>
          <a:stretch/>
        </p:blipFill>
        <p:spPr>
          <a:xfrm>
            <a:off x="468360" y="620640"/>
            <a:ext cx="4032360" cy="244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E:\УРОКИ\Фото уроки апрель 2016\Фото уроки апрель 2016\IMG_6388.JPG"/>
          <p:cNvPicPr/>
          <p:nvPr/>
        </p:nvPicPr>
        <p:blipFill>
          <a:blip r:embed="rId3"/>
          <a:stretch/>
        </p:blipFill>
        <p:spPr>
          <a:xfrm>
            <a:off x="5148360" y="620640"/>
            <a:ext cx="3744720" cy="525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E:\УРОКИ\Фото уроки апрель 2016\Фото уроки апрель 2016\IMG_6555.JPG"/>
          <p:cNvPicPr/>
          <p:nvPr/>
        </p:nvPicPr>
        <p:blipFill>
          <a:blip r:embed="rId4"/>
          <a:stretch/>
        </p:blipFill>
        <p:spPr>
          <a:xfrm>
            <a:off x="395280" y="3573360"/>
            <a:ext cx="4032360" cy="244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250920" y="31417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прозрачная, не имеет вкуса, запа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5076720" y="616572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 - невиди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дерев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E:\УРОКИ\Фото уроки апрель 2016\Фото уроки апрель 2016\IMG_6523.JPG"/>
          <p:cNvPicPr/>
          <p:nvPr/>
        </p:nvPicPr>
        <p:blipFill>
          <a:blip r:embed="rId2"/>
          <a:stretch/>
        </p:blipFill>
        <p:spPr>
          <a:xfrm>
            <a:off x="539640" y="981000"/>
            <a:ext cx="3384720" cy="2952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E:\УРОКИ\Фото уроки апрель 2016\Фото уроки апрель 2016\IMG_6526.JPG"/>
          <p:cNvPicPr/>
          <p:nvPr/>
        </p:nvPicPr>
        <p:blipFill>
          <a:blip r:embed="rId3"/>
          <a:stretch/>
        </p:blipFill>
        <p:spPr>
          <a:xfrm>
            <a:off x="4859280" y="3429000"/>
            <a:ext cx="3960720" cy="274320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4788000" y="1844640"/>
            <a:ext cx="381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4284720" y="1125360"/>
            <a:ext cx="449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точнили с детьми представления о деревь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ении дерева: корень, ствол, ветки, почки, листья, цветы, се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9"/>
          <p:cNvSpPr/>
          <p:nvPr/>
        </p:nvSpPr>
        <p:spPr>
          <a:xfrm>
            <a:off x="324000" y="4221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ревесина имеет светло-желтую окрас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приятно пах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теплая на ощуп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ы и эксперименты с раст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4000" y="5300640"/>
            <a:ext cx="39589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УРОКИ\Фото уроки апрель 2016\Фото уроки апрель 2016\IMG_6500.JPG"/>
          <p:cNvPicPr/>
          <p:nvPr/>
        </p:nvPicPr>
        <p:blipFill>
          <a:blip r:embed="rId2"/>
          <a:stretch/>
        </p:blipFill>
        <p:spPr>
          <a:xfrm>
            <a:off x="250920" y="3716280"/>
            <a:ext cx="4265640" cy="230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:\УРОКИ\Фото уроки апрель 2016\Фото уроки апрель 2016\IMG_6349.JPG"/>
          <p:cNvPicPr/>
          <p:nvPr/>
        </p:nvPicPr>
        <p:blipFill>
          <a:blip r:embed="rId3"/>
          <a:stretch/>
        </p:blipFill>
        <p:spPr>
          <a:xfrm>
            <a:off x="4932360" y="3716280"/>
            <a:ext cx="388764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E:\УРОКИ\Фото уроки апрель 2016\Фото уроки апрель 2016\IMG_6369.JPG"/>
          <p:cNvPicPr/>
          <p:nvPr/>
        </p:nvPicPr>
        <p:blipFill>
          <a:blip r:embed="rId4"/>
          <a:stretch/>
        </p:blipFill>
        <p:spPr>
          <a:xfrm>
            <a:off x="4932360" y="907920"/>
            <a:ext cx="3887640" cy="2376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E:\УРОКИ\Фото уроки апрель 2016\Фото уроки апрель 2016\IMG_6324.JPG"/>
          <p:cNvPicPr/>
          <p:nvPr/>
        </p:nvPicPr>
        <p:blipFill>
          <a:blip r:embed="rId5"/>
          <a:stretch/>
        </p:blipFill>
        <p:spPr>
          <a:xfrm>
            <a:off x="324000" y="836640"/>
            <a:ext cx="4248000" cy="252108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611280" y="3357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дыш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324000" y="6237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пьют в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4859280" y="3284640"/>
            <a:ext cx="42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 крепко удерживает  рас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643280" y="626652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любят тепло и с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06616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древес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E:\УРОКИ\Фото уроки апрель 2016\Фото уроки апрель 2016\IMG_6576.JPG"/>
          <p:cNvPicPr/>
          <p:nvPr/>
        </p:nvPicPr>
        <p:blipFill>
          <a:blip r:embed="rId2"/>
          <a:stretch/>
        </p:blipFill>
        <p:spPr>
          <a:xfrm>
            <a:off x="684360" y="1197000"/>
            <a:ext cx="3348000" cy="223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E:\УРОКИ\Фото уроки апрель 2016\Фото уроки апрель 2016\IMG_6610.JPG"/>
          <p:cNvPicPr/>
          <p:nvPr/>
        </p:nvPicPr>
        <p:blipFill>
          <a:blip r:embed="rId3"/>
          <a:stretch/>
        </p:blipFill>
        <p:spPr>
          <a:xfrm>
            <a:off x="4932360" y="1052640"/>
            <a:ext cx="3325680" cy="221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E:\УРОКИ\Фото уроки апрель 2016\Фото уроки апрель 2016\IMG_6638.JPG"/>
          <p:cNvPicPr/>
          <p:nvPr/>
        </p:nvPicPr>
        <p:blipFill>
          <a:blip r:embed="rId4"/>
          <a:stretch/>
        </p:blipFill>
        <p:spPr>
          <a:xfrm>
            <a:off x="539640" y="3860640"/>
            <a:ext cx="3311640" cy="2211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E:\УРОКИ\Фото уроки апрель 2016\Фото уроки апрель 2016\IMG_6558.JPG"/>
          <p:cNvPicPr/>
          <p:nvPr/>
        </p:nvPicPr>
        <p:blipFill>
          <a:blip r:embed="rId5"/>
          <a:stretch/>
        </p:blipFill>
        <p:spPr>
          <a:xfrm>
            <a:off x="4932360" y="3933720"/>
            <a:ext cx="3111480" cy="2075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755640" y="342900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ерево мяг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364000" y="3357720"/>
            <a:ext cx="27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ево лёг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755640" y="623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раст дер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5219640" y="6237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ево твёрд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E:\УРОКИ\фото\Плакат 1.jpg"/>
          <p:cNvPicPr/>
          <p:nvPr/>
        </p:nvPicPr>
        <p:blipFill>
          <a:blip r:embed="rId2"/>
          <a:stretch/>
        </p:blipFill>
        <p:spPr>
          <a:xfrm>
            <a:off x="324000" y="260280"/>
            <a:ext cx="4319280" cy="62643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6" descr="E:\УРОКИ\фото\IMG_6438.JPG"/>
          <p:cNvPicPr/>
          <p:nvPr/>
        </p:nvPicPr>
        <p:blipFill>
          <a:blip r:embed="rId3"/>
          <a:stretch/>
        </p:blipFill>
        <p:spPr>
          <a:xfrm>
            <a:off x="4788000" y="260280"/>
            <a:ext cx="3816360" cy="28814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9" descr="E:\УРОКИ\фото\IMG_6406.JPG"/>
          <p:cNvPicPr/>
          <p:nvPr/>
        </p:nvPicPr>
        <p:blipFill>
          <a:blip r:embed="rId4"/>
          <a:stretch/>
        </p:blipFill>
        <p:spPr>
          <a:xfrm>
            <a:off x="5292720" y="3429000"/>
            <a:ext cx="2519280" cy="287964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е основ экологического мышления ребенка-дошкольника, проявляющегося в гуманном отношении к представителям животного и  растительного мира как живым, неповторимым организма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ать представление о взаимосвязях живых организмов в природе , приспособления их к среде об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азвивать эстетический вкус; умение видеть, ценить и беречь красоту русской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оспитывать любовь к родному краю, вызвать чувство ответственности за сохранение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92088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минирующей в проекте деятельно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ознавательно-рече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держанию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сследовательский, художественно-творческ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участник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рупп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ремени проведения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срочный (сентябрь 2016-май 2019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контакт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ДОУ, посещение Амурского краеведческого      музея и областного эколого-биологического цент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участия воспитанника в проект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частник от зарождения идеи до получения результ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ники, родители, педаг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троится на общепринятых принципа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истематичности и последова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ифференци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интегр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агляд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аучности и доступ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е технолог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исследователь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 техн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технология интелектуально-творческ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: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знаний о многообразии растительного и животного мира; успешное развитие познавательных и коммуникативных способностей, инициативы, самостоятельности; формирование личност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едаго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рофессионализма; внедрение новых технологий в работе с детьми и родителями; самореализ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д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семей воспитанников в образовательном процессе и в создание развивающей среды группы; укрепление взаимоотношений между детьми и роди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включает в себя 3 этап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 этап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тратегии реализации проекта. Подбор и изучение методической литературы, дидактических пособий, демонстрационного материала. Составление плана основного этапа. Оформление родительского уголка с рекомендациями по теме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этап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приятия по реализации проекта, работа с 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й этап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олученных знаний; оформление альбомов: «опыты и эксперименты», «явления природы», «экологические цепочки», гербарии «Деревья родного края»; коллекции: семян, коры деревьев, спилы стволов. Макет «Этажи лес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лабора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E:\УРОКИ\Фото уроки апрель 2016\Фото уроки апрель 2016\IMG_6514.JPG"/>
          <p:cNvPicPr/>
          <p:nvPr/>
        </p:nvPicPr>
        <p:blipFill>
          <a:blip r:embed="rId2"/>
          <a:stretch/>
        </p:blipFill>
        <p:spPr>
          <a:xfrm>
            <a:off x="250920" y="907920"/>
            <a:ext cx="3865320" cy="532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5003640" y="981000"/>
            <a:ext cx="3672000" cy="2675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E:\УРОКИ\Фото уроки апрель 2016\Фото уроки апрель 2016\IMG_6518.JPG"/>
          <p:cNvPicPr/>
          <p:nvPr/>
        </p:nvPicPr>
        <p:blipFill>
          <a:blip r:embed="rId4"/>
          <a:stretch/>
        </p:blipFill>
        <p:spPr>
          <a:xfrm>
            <a:off x="5003640" y="378936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424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ое обесп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:\УРОКИ\Фото уроки апрель 2016\Фото уроки апрель 2016\IMG_6530.JPG"/>
          <p:cNvPicPr/>
          <p:nvPr/>
        </p:nvPicPr>
        <p:blipFill>
          <a:blip r:embed="rId2"/>
          <a:stretch/>
        </p:blipFill>
        <p:spPr>
          <a:xfrm>
            <a:off x="611280" y="1052640"/>
            <a:ext cx="3301920" cy="4951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E:\УРОКИ\Фото уроки апрель 2016\Фото уроки апрель 2016\IMG_6535.JPG"/>
          <p:cNvPicPr/>
          <p:nvPr/>
        </p:nvPicPr>
        <p:blipFill>
          <a:blip r:embed="rId3"/>
          <a:stretch/>
        </p:blipFill>
        <p:spPr>
          <a:xfrm>
            <a:off x="4716360" y="1052640"/>
            <a:ext cx="3076560" cy="2050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0" y="691920"/>
            <a:ext cx="9144000" cy="6165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E:\УРОКИ\Фото уроки апрель 2016\Фото уроки апрель 2016\IMG_6537.JPG"/>
          <p:cNvPicPr/>
          <p:nvPr/>
        </p:nvPicPr>
        <p:blipFill>
          <a:blip r:embed="rId5"/>
          <a:stretch/>
        </p:blipFill>
        <p:spPr>
          <a:xfrm>
            <a:off x="4500720" y="3429000"/>
            <a:ext cx="3687480" cy="245916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E:\УРОКИ\Фото уроки апрель 2016\Фото уроки апрель 2016\IMG_666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0:11:32Z</dcterms:created>
  <dc:creator/>
  <dc:description/>
  <cp:keywords/>
  <dc:language>en-US</dc:language>
  <cp:lastModifiedBy>ПРОКСИМО</cp:lastModifiedBy>
  <dcterms:modified xsi:type="dcterms:W3CDTF">2017-12-16T08:25:25Z</dcterms:modified>
  <cp:revision>81</cp:revision>
  <dc:subject/>
  <dc:title>Слайд 1</dc:title>
</cp:coreProperties>
</file>