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20A-41B0-4CC8-8775-BB89CFB7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D61-97FC-465C-A8A4-5DFE599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F27-8FB5-4B35-A2A5-4BF0080C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EDE-8BE2-448A-8181-65B9E1D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2170-CBA9-4DF4-B9D1-A2A3C1B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B12-25C9-4296-9B8B-745DC45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293-FD3D-4917-89DB-D1F0C8D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24C-DED1-40A9-83A7-1E85E1B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5BE0-14AD-430D-B0D2-582C321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3B5F-E4B8-453C-9DD4-B0C9CEB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2CD-F16F-4FD4-B548-D175902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479-E086-48FB-87B8-9E3C7086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B23F-A861-4570-91E6-AE13B34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A3F7-13B8-42BD-B0DC-0DDC8B1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510-6702-4E1D-985E-E732195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FF7-41D2-45BD-80EF-EE869BE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97EE-174C-4D31-83A1-8B08AAC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983-EAEC-4F5D-A283-0855626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C5B-CA21-41E7-9EF5-2642722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577-B1B9-4BC1-8105-59AB4506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0BE-050E-499E-972C-12813A3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82B-F842-4561-8AC1-103E5D2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7AF-F51A-4F7F-B7F3-2CA0BC4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F1F-AF8A-4980-ADBF-0F2434F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C20-DA24-42C1-A2A0-13BC9B808D8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0C7B-18BA-43CE-881A-636C58E49E0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9041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МАСТЕР-КЛАСС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40000" y="5516640"/>
            <a:ext cx="4896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914400" y="1125360"/>
            <a:ext cx="799308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КВЕЙН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ЭФФЕКТИВНОЕ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СТВО КОРРЕКЦИИ РЕЧИ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ШКОЛЬНИКОВ С ОНР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5162400" y="3833640"/>
          <a:ext cx="3672000" cy="244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62400" y="3833640"/>
                    <a:ext cx="367200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1"/>
          <p:cNvSpPr/>
          <p:nvPr/>
        </p:nvSpPr>
        <p:spPr>
          <a:xfrm>
            <a:off x="826920" y="5157720"/>
            <a:ext cx="777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Кравцова И.С. учитель-логопед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ДОУ «Детский сад  комбинированного вида № 56» Октябрьского района г. Сарато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нализ неполного синквейна для определения отсутствующей част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49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лоствольная, строй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ёт, стоит, зелене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 любуюсь стройной  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ре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Берёзаjpg"/>
          <p:cNvPicPr/>
          <p:nvPr/>
        </p:nvPicPr>
        <p:blipFill>
          <a:blip r:embed="rId1"/>
          <a:stretch/>
        </p:blipFill>
        <p:spPr>
          <a:xfrm>
            <a:off x="5364000" y="1916280"/>
            <a:ext cx="360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оставление синквейн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 прослушанному рассказу, сказ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43280" y="2145240"/>
            <a:ext cx="4321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ушок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лый, храбрый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ёт, несёт, выгнал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нравится смелый петушок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очный герой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1240406696_1237096287_artlib_gallery-125659-b"/>
          <p:cNvPicPr/>
          <p:nvPr/>
        </p:nvPicPr>
        <p:blipFill>
          <a:blip r:embed="rId1"/>
          <a:stretch/>
        </p:blipFill>
        <p:spPr>
          <a:xfrm>
            <a:off x="1042920" y="234936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езультатив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071720" y="1806480"/>
            <a:ext cx="778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50720"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легчился процесс усвоения понятий и их содержания, расширился и актуализировался словарный запас; дети научились выражать свои мысли, подбирать нужные слова, выработалась способность к анализу;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50720"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50720"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и учатся выражать свое мнение, соглашаться или нет с мнением других, договариваться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50720"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гармоничное сочетание в работе элементов трех основных образовательных систем: информационной, деятельностной и личностно-ориентированной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50720"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Цель: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 дать представление об инновационной технологии развития речи «Синквейн»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значение этой технологии в обогащении и активизаци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гольного словар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ловаря прилагатель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грамматическом оформлении фраз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развитии ассоциативного  и наглядно-образного мыш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значимость данной технологии и в других видах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476280"/>
            <a:ext cx="7710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инквей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лово французск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ереводе означает «стихотво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 пяти стр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рма синквейна была разработана американской поэтессой Аделаидой Крэпси, которая опиралась на японские стихи — хоку (хайку),  маленький стих, без рифмы, отличающееся краткостью, которое читается очень медл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ктуальность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спользования синквейн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567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первых, его самое главное достоинство – просто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вторых, это новая технология – открывающая новые возможности; помогающая оптимизировать работу учителя -логопе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ретьих - является диагностическим инструмент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твертых – он гармонично вписывается в работу по развитию лексико-грамматической стороны речи, использование синквейна не нарушает общепринятую систему воздействия на речевую патологию и обеспечивает её логическую завершен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 пятых – носит характер комплексного воздействия, не только развивает речь, но способствует развитию памяти, внимания, мыш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авил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ления синквейна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77058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ая строка – заголовок, тема, состоящие из одного слова (обычно существительно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ая строка – два слова. Прилагательные. Это описание признаков предмета или его сво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ья строка обычно состоит из трёх глаголов или деепричастий, описывающих действия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вёртая строка – это словосочетание или предложение, которые отражают личное отношение автора синквей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ая строка — одно слово-резюме, характеризующее суть предмета или объ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ления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15" descr="C:\Users\HOTREIN\Desktop\схема.JPG"/>
          <p:cNvPicPr/>
          <p:nvPr/>
        </p:nvPicPr>
        <p:blipFill>
          <a:blip r:embed="rId1"/>
          <a:stretch/>
        </p:blipFill>
        <p:spPr>
          <a:xfrm>
            <a:off x="1903320" y="1981080"/>
            <a:ext cx="587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ставление синквейна по предметной картинк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Picture 5" descr="medium_20100601091920359161"/>
          <p:cNvPicPr/>
          <p:nvPr/>
        </p:nvPicPr>
        <p:blipFill>
          <a:blip r:embed="rId1"/>
          <a:stretch/>
        </p:blipFill>
        <p:spPr>
          <a:xfrm>
            <a:off x="900000" y="1844640"/>
            <a:ext cx="3959280" cy="3232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5003640" y="1916280"/>
            <a:ext cx="41403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ельсин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глый,оранжевый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ёт,весит, зреет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любл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ельсин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укт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5" descr="C:\Users\HOTREIN\Desktop\схема.JPG"/>
          <p:cNvPicPr/>
          <p:nvPr/>
        </p:nvPicPr>
        <p:blipFill>
          <a:blip r:embed="rId1"/>
          <a:stretch/>
        </p:blipFill>
        <p:spPr>
          <a:xfrm>
            <a:off x="3059280" y="0"/>
            <a:ext cx="3673440" cy="184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ошка"/>
          <p:cNvPicPr/>
          <p:nvPr/>
        </p:nvPicPr>
        <p:blipFill>
          <a:blip r:embed="rId2"/>
          <a:stretch/>
        </p:blipFill>
        <p:spPr>
          <a:xfrm>
            <a:off x="971640" y="1916280"/>
            <a:ext cx="266364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помидор"/>
          <p:cNvPicPr/>
          <p:nvPr/>
        </p:nvPicPr>
        <p:blipFill>
          <a:blip r:embed="rId3"/>
          <a:stretch/>
        </p:blipFill>
        <p:spPr>
          <a:xfrm>
            <a:off x="3492360" y="2637000"/>
            <a:ext cx="264348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Волк"/>
          <p:cNvPicPr/>
          <p:nvPr/>
        </p:nvPicPr>
        <p:blipFill>
          <a:blip r:embed="rId4"/>
          <a:stretch/>
        </p:blipFill>
        <p:spPr>
          <a:xfrm>
            <a:off x="6012000" y="3573360"/>
            <a:ext cx="2663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ррекция и совершенствование готового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жая, косолап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ыгает, скачет, во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равится ловкая 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кое живот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47713_PICT8245d"/>
          <p:cNvPicPr/>
          <p:nvPr/>
        </p:nvPicPr>
        <p:blipFill>
          <a:blip r:embed="rId1"/>
          <a:stretch/>
        </p:blipFill>
        <p:spPr>
          <a:xfrm>
            <a:off x="928800" y="2286000"/>
            <a:ext cx="40748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1:33:17Z</dcterms:created>
  <dc:creator>User</dc:creator>
  <dc:description/>
  <dc:language>en-US</dc:language>
  <cp:lastModifiedBy>TOSHIBA</cp:lastModifiedBy>
  <dcterms:modified xsi:type="dcterms:W3CDTF">2015-02-12T06:48:35Z</dcterms:modified>
  <cp:revision>13</cp:revision>
  <dc:subject/>
  <dc:title>Слайд 1</dc:title>
</cp:coreProperties>
</file>