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823-E38A-4C94-8437-BB2335DA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671-90EE-49EF-B8E2-B2CED1E1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F01-6344-4B91-9AAD-18E6EA01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AB6-20C1-45FD-8D26-068D3C8C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636C-D3AC-486F-B77B-A43344EB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BC5D-4328-4657-B6D4-2B18A2AE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FCDA-C079-4AD5-9BDC-19DD6D00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6A77-92C7-4558-B964-3C7E9763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6E2A-F536-4958-88A5-B6C992D5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165E-916C-4675-A544-CC3249EE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BEA8-58C4-4F18-9938-886066F6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BF6-8AC2-49EB-A3D4-3074B417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C441-DA39-48DE-A839-82C7B5CC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B02A-412F-4BB0-BD27-CDED552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D695-EA0F-4E47-AB03-86D489E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EA48-BBF0-4D9D-A5A4-EA6F5EF9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0142-0482-4AF1-97E4-76CD9EC8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930-2351-4EB6-97B4-47127BEA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99B-DDCE-4D23-B699-0921079A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55E-227A-4006-AD33-81F03864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FC6-7DC6-4818-97CA-989905F0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F2A-2AA3-42AF-BA38-0BB4CC7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C4F-66DE-4B7E-84FB-489C5DC8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007-CE22-4614-BEDC-E5D3C048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A312-8545-46D5-934E-188459DF09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398F-ED25-4D73-B614-4BEABD9A56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ubimoe-delo.ru/wp-content/uploads/2007/10/292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ubimoe-delo.ru/wp-content/uploads/2007/10/293.jpg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%B5&#1081;&amp;lr=215" TargetMode="External"/><Relationship Id="rId3" Type="http://schemas.openxmlformats.org/officeDocument/2006/relationships/hyperlink" Target="http://rus-artist.ru/2013-09-04-12-10-37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nens.ru/catalogue/vologda_laces/1611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linens.ru/catalogue/vologda_laces/356/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очинение по картине В.А.Тропинина «Кружевница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 класс, УМК Школа Росс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ль МБОУ СОШ №2 г. Дубны Московской об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вик Светлана Анатол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16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0360" y="3231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трет А.С. Пушки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7296120" cy="5572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"/>
          <p:cNvSpPr/>
          <p:nvPr/>
        </p:nvSpPr>
        <p:spPr>
          <a:xfrm>
            <a:off x="1908000" y="60634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ейный портрет графов Морк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24360" y="982440"/>
            <a:ext cx="34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едевр Тропинина В.А. – картина «Кружевниц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тина написана в 1823 году, находится в Государственной Третьяковской галерее, в Москв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агодаря этой картине и ещё двум работам Тропинин попал в Академию художест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териалы и инструменты для плетения круже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1253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выполнения кружевных изделий прежде всего требуются коклюшки — деревянные палочки с шейкой, на которую наматываются  нит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оклюшки бывают разные, короткие и толстые, длинные и тон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ерево может быть разным. Береза, ёлка, клён, — самые популярные материалы для легких коклюш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Рисунок 4" descr="2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716280"/>
            <a:ext cx="5400720" cy="21132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508720" y="3429000"/>
            <a:ext cx="3485880" cy="3106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260280"/>
            <a:ext cx="856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етение на коклюшках также называют «подушечным кружев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исунок кружева наносят на плотную и достаточно эластичную бумагу или картон в виде точ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ушка, в виде валика, на которой производится плетение круж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8" descr="2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141720"/>
            <a:ext cx="4051080" cy="3024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003640" y="3284640"/>
            <a:ext cx="3708720" cy="27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imes New Roman"/>
              </a:rPr>
              <a:t>Чтобы удобно было работать, подушку надо класть на подстав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imes New Roman"/>
              </a:rPr>
              <a:t>Для закрепления переплетённых ниток в кружеве используют</a:t>
            </a:r>
            <a:r>
              <a:rPr b="1" lang="en-US" sz="2000" spc="-1" strike="noStrike">
                <a:solidFill>
                  <a:srgbClr val="e5ffff"/>
                </a:solidFill>
                <a:latin typeface="Times New Roman"/>
              </a:rPr>
              <a:t> булавки</a:t>
            </a:r>
            <a:r>
              <a:rPr b="0" lang="en-US" sz="2000" spc="-1" strike="noStrike">
                <a:solidFill>
                  <a:srgbClr val="e5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4" descr="294"/>
          <p:cNvPicPr/>
          <p:nvPr/>
        </p:nvPicPr>
        <p:blipFill>
          <a:blip r:embed="rId2"/>
          <a:stretch/>
        </p:blipFill>
        <p:spPr>
          <a:xfrm>
            <a:off x="395280" y="1125360"/>
            <a:ext cx="3897360" cy="2322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Рисунок 5" descr="295"/>
          <p:cNvPicPr/>
          <p:nvPr/>
        </p:nvPicPr>
        <p:blipFill>
          <a:blip r:embed="rId3"/>
          <a:stretch/>
        </p:blipFill>
        <p:spPr>
          <a:xfrm>
            <a:off x="4643280" y="2462040"/>
            <a:ext cx="4176720" cy="2924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Рисунок 6" descr="296"/>
          <p:cNvPicPr/>
          <p:nvPr/>
        </p:nvPicPr>
        <p:blipFill>
          <a:blip r:embed="rId4"/>
          <a:stretch/>
        </p:blipFill>
        <p:spPr>
          <a:xfrm>
            <a:off x="1042920" y="3645000"/>
            <a:ext cx="2675160" cy="3070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седа по картин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нравилась ли вам карти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чему она так назва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настроение она создаё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ую гамму красок использовал художник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Кто в центре картины? Чем занята девушк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ем привлекла ваше внимание кружевниц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какие детали следует обратить внима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и синонимами можно заменить слово девушк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мерный план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ворчество портретиста В.А.Тропин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лорит карт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исание девушки: её лицо, взгляд, вол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уки кружевн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дежда работн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уд мастер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ё впечат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воей работой на уроке 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атериал урока мне был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не больше всего удалос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огу похвалить своих одноклассников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цените свою работу на урок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-46440"/>
            <a:ext cx="4897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. Юд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ли тонкий морозный узо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ли ветер над полем пшеницы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дивляют весь мир до сих п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дельем своим кружев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то слышится пение птиц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хий звон родников потаённых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живает в руках мастер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что каждому сердцу знаком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огодские кружева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 коклюшками пальцы летаю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узоры, как песни сл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ти тонкие выплета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жева – к узелку узело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м родные рисуют карт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евой расцветает цвето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качает ветвями ряб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но сказка, они хорош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их умелой работы прилеж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ота нашей русской душ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рпеливая женская неж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огодские кружева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 коклюшками пальцы летаю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узоры, как песни сл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ти тонкие выплетаю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08720" y="2011320"/>
            <a:ext cx="338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О ком рассказывает поэ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Кого называют кружевниц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Что такое кружев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С чем можно сравнить узоры на кружеве?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рнет-ресурс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s://yandex.ru/search/?text=%D0%B2%D0%BE%D0%BB%D0%BE%D0%B3%D0%BE%D0%B4%D1%81%D0%BA%D0%B8%D0%B5%20%D0%BA%D1%80%D1%83%D0%B6%D0%B5%D0%B2%D0%B0%20%D0%BA%D0%B0%D1%80%D1%82%D0%B8%D0%BD%D0%BA%D0%B8%20%D0%B4%D0%BB%D1%8F%20%D0%B4%D0%B5%D1%82%D0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%B5%D0%B9&amp;lr=21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rus-artist.ru/2013-09-04-12-10-37.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s://yandex.ru/images/search?text=%D0%BA%D0%B0%D1%80%D1%82%D0%B8%D0%BD%D0%B0%20%D0%B2.%D0%B0.%D1%82%D1%80%D0%BE%D0%BF%D0%B8%D0%BD%D0%B8%D0%BD%D0%B0%20%D1%81%D0%B5%D0%BC%D1%8C%D1%8F%20%D0%BC%D0%BE%D1%80%D0%BA%D0%BE%D0%B2%D1%8B%D1%85&amp;noreask=1&amp;img_url=https%3A%2F%2Fupload.wikimedia.org%2Fwikipedia%2Fcommons%2Fthumb%2F3%2F39%2FTropinin_SemeyPtMorkovyxGTG.jpg%2F600px-Tropinin_SemeyPtMorkovyxGTG.jpg&amp;pos=1&amp;rpt=simage&amp;lr=21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s://yandex.ru/images/search?p=1&amp;text=%D0%B2%D0%BE%D0%BB%D0%BE%D0%B3%D0%BE%D0%B4%D1%81%D0%BA%D0%BE%D0%B5%20%D0%BA%D1%80%D1%83%D0%B6%D0%B5%D0%B2%D0%BE%20%D0%BA%D0%B0%D1%80%D1%82%D0%B8%D0%BD%D0%BA%D0%B8&amp;img_url=http%3A%2F%2Fimages.myshared.ru%2F10%2F959690%2Fslide_5.jpg&amp;pos=51&amp;rpt=simage&amp;lr=21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ологодские круже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Рисунок 12" descr="6НХП-118 Салфет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3360"/>
            <a:ext cx="2160720" cy="2122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Рисунок 13" descr="6НХП-406 Пелерина л/ш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1557360"/>
            <a:ext cx="3571920" cy="2663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Рисунок 9" descr="http://images.masters-gid.ru/UserImages/User_514/Albums/Album_812/Item_5313/m_Picture_1.jpg?var=1274277096"/>
          <p:cNvPicPr/>
          <p:nvPr/>
        </p:nvPicPr>
        <p:blipFill>
          <a:blip r:embed="rId6"/>
          <a:stretch/>
        </p:blipFill>
        <p:spPr>
          <a:xfrm>
            <a:off x="250920" y="4221000"/>
            <a:ext cx="2643120" cy="2428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Содержимое 10" descr="http://images.masters-gid.ru/UserImages/User_514/Albums/Album_812/Item_5312/m_Picture_1.jpg?var=628597004"/>
          <p:cNvPicPr/>
          <p:nvPr/>
        </p:nvPicPr>
        <p:blipFill>
          <a:blip r:embed="rId7"/>
          <a:stretch/>
        </p:blipFill>
        <p:spPr>
          <a:xfrm>
            <a:off x="6588000" y="4292640"/>
            <a:ext cx="2428920" cy="2357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6732720" y="1773360"/>
            <a:ext cx="2225520" cy="2178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987640" y="4869000"/>
            <a:ext cx="3521160" cy="1509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580000" y="1260720"/>
            <a:ext cx="33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опинин Василий Андреевич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учший портретист первой половины XIX 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75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651640" y="436716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втопортрет с кистями на фоне Московского Кремл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30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ография В. А. Тропи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знь известного художника В. А. Тропинина была несладкой. Родился он в 1776 г. в семье крепостного и был преподнесен в качестве приданого генералу Ираклию Морк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 сам решал судьбу своих крепостных. Решил он и судьбу будущего художника. Зная о страсти мальчика к рисованию, граф отправил его на учение к… кондите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енькому Тропинину часто доставалось от надзирательницы, так как он имел отвращение к кондитерским наукам, но беспрестанно рисовал – то на бумаге из-под торта, то на стенах кух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нувшись в деревню, Тропинин занимается тем, что нужно хозяину. Нужен обед – он спешит на кухню и готовит обед. Нужен маляр – красит графские кареты, колодцы, заборы. Нужен кондитер – печет великолепные торты. Да еще прислуживает хозяевам во время обедов. А в свободную минуту он совершенствует свое мастерство – пишет карт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вестна история, когда графа Моркова посетил гость – француз. Этот человек хорошо знал работы Тропинина и был счастлив познакомиться с ним, а потому, когда Тропинин вышел к обеду, галантный француз бросился усаживать его за стол, чем сильно сконфузил хозяина и ранил самого художника, потому что известный Тропинин всё еще продолжал оставаться подневольным человеком, исполняющим все прихоти хозяина, а во время обеда он должен был стоять за стулом графа и следить за сменой блюд на ст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гожданную свободу В. А. Тропинин получил в 47 л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668840" cy="6262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48360" y="2163960"/>
            <a:ext cx="38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тина «Портрет Арсения Тропинина, сына художника» написан около 1818 года, его можно увидеть в Государственной Третьяковской галерее, в Москве. На портрете мальчику около десяти лет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417600"/>
            <a:ext cx="39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ы худож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06800" cy="4969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2" name=""/>
          <p:cNvSpPr/>
          <p:nvPr/>
        </p:nvSpPr>
        <p:spPr>
          <a:xfrm>
            <a:off x="179280" y="57488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вушка с горшком ро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652920" cy="5032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4932360" y="57538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ьчик с жалей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6T10:54:15Z</dcterms:created>
  <dc:creator>Acer</dc:creator>
  <dc:description/>
  <dc:language>en-US</dc:language>
  <cp:lastModifiedBy>Acer</cp:lastModifiedBy>
  <dcterms:modified xsi:type="dcterms:W3CDTF">2017-12-16T16:00:04Z</dcterms:modified>
  <cp:revision>3</cp:revision>
  <dc:subject/>
  <dc:title>Сочинение по картине В.А.Тропинина «Кружевница» 4 класс, УМК Школа России</dc:title>
</cp:coreProperties>
</file>