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1.jpeg" ContentType="image/jpeg"/>
  <Override PartName="/ppt/media/image19.jpeg" ContentType="image/jpeg"/>
  <Override PartName="/ppt/media/image22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E406D-19EA-4882-A93A-34DE4BF20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BE6C1-DA76-4FD7-A9BC-D015F4865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C3E69-B702-4405-97CA-AF07369DA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DB8B6-C847-42FD-AC68-6FBF2217C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BFB7F-9842-4A43-A240-0231E9BBF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0E34F-6018-4531-B8FB-CD87F3620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E480E-6041-40D2-BAD9-EBD218E2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A99BF-E987-4FE9-B078-6C9FCD83D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35275-3CF0-4971-B866-5610C8013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D92E2-8F3F-410D-A4B4-8F0E1ABC8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8D570-AC0F-4E65-95E0-CCEFC0752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63B90-4A3F-4BBC-B818-723B771DA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A80F1-DDED-4DED-8665-BBE4E45E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FE782-404E-4754-AE5A-5DC32352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DD229-9E83-48FD-8BD0-189E23046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58B1C-D95A-4927-A78F-FF5D4A406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9734C-8E29-4EB7-B4F2-4D05329F7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41395-01EB-4C79-AB3E-1F5971EA6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51A44-38D3-4A51-8D9F-A0630FE6C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F96D3-F7E0-437D-9605-2528629AC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D019E-74E8-4E3D-99C0-262EFDA19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565A5-35D3-40E4-973B-20A2FE94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BD8AC-6230-4E8F-A32C-05F89A7D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CFF5C-8322-43A3-88C9-0CEB3C81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4D2B4-A3E3-4EFC-943A-9ACDB90B3DC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DDF78-2DCC-40F3-ADDD-6A3EC52BDD9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9.jpeg"/><Relationship Id="rId3" Type="http://schemas.openxmlformats.org/officeDocument/2006/relationships/image" Target="../media/image1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9.jpeg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1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9.jpeg"/><Relationship Id="rId6" Type="http://schemas.openxmlformats.org/officeDocument/2006/relationships/image" Target="../media/image29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Тематическая беседа-викторина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«Как уберечься от гриппа» (практикум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МБОУ СОШ №2 г. Дубны Московской обла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Классный руководитель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Новик Светлана Анатольев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79280" y="2781360"/>
            <a:ext cx="1755720" cy="17049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Times New Roman"/>
              </a:rPr>
              <a:t>Статистик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Ежегодно в мире заболевают гриппом 1,2 млрд.  человек, то есть 20% населения земного шара.  Более 500 тыс. из них умирают. В самых крупных эпидемиях последних ста лет погибло: 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в 1955 году — 2 млн. человек,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в 1968−м — 1 млн., 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в 1918−1920 годах, 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при известном испанском гриппе, — более 40 млн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" descr="Профилактика гриппа"/>
          <p:cNvPicPr/>
          <p:nvPr/>
        </p:nvPicPr>
        <p:blipFill>
          <a:blip r:embed="rId1"/>
          <a:stretch/>
        </p:blipFill>
        <p:spPr>
          <a:xfrm>
            <a:off x="7164360" y="3141720"/>
            <a:ext cx="1803600" cy="19890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6000" cy="1082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Times New Roman"/>
              </a:rPr>
              <a:t>Заразиться можно: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Находясь рядом с больным человеком, особенно если он кашляет  и чихает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Обмениваясь тетрадями и письменными принадлежностями  с больными учениками, сидя с ними за одной партой без защитной  повязки или пользуясь одной посудой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Не соблюдая правил личной гигиены,  таких как мытье рук перед едой, содержание в чистоте одежд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Профилактика гриппа"/>
          <p:cNvPicPr/>
          <p:nvPr/>
        </p:nvPicPr>
        <p:blipFill>
          <a:blip r:embed="rId1"/>
          <a:stretch/>
        </p:blipFill>
        <p:spPr>
          <a:xfrm>
            <a:off x="0" y="0"/>
            <a:ext cx="1411200" cy="1557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356000" y="5477040"/>
            <a:ext cx="2071800" cy="13809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7740720" y="0"/>
            <a:ext cx="1403280" cy="1362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Times New Roman"/>
              </a:rPr>
              <a:t>Как понять, что ты заболел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Озноб, слабость и вялость;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Сильная головная боль;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Высокая температура;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Боль в горле, насморк, сухой кашель;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Боль в животе, тошнота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" descr="Профилактика гриппа"/>
          <p:cNvPicPr/>
          <p:nvPr/>
        </p:nvPicPr>
        <p:blipFill>
          <a:blip r:embed="rId1"/>
          <a:stretch/>
        </p:blipFill>
        <p:spPr>
          <a:xfrm>
            <a:off x="7093080" y="4653000"/>
            <a:ext cx="1803240" cy="19890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79280" y="5589720"/>
            <a:ext cx="1116000" cy="1082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Профилактика грипп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413000"/>
            <a:ext cx="806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Одним из самых эффективных методов профилактики ГРИППА является ежегодная ВАКЦИНАЦ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Oбщecтвeннo - пoлитичecкая гaзeта Bязeмcкиe вecти Защита от …"/>
          <p:cNvPicPr/>
          <p:nvPr/>
        </p:nvPicPr>
        <p:blipFill>
          <a:blip r:embed="rId1"/>
          <a:stretch/>
        </p:blipFill>
        <p:spPr>
          <a:xfrm>
            <a:off x="324000" y="3141720"/>
            <a:ext cx="4572000" cy="33494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41" name="" descr="Профилактика гриппа"/>
          <p:cNvPicPr/>
          <p:nvPr/>
        </p:nvPicPr>
        <p:blipFill>
          <a:blip r:embed="rId2"/>
          <a:stretch/>
        </p:blipFill>
        <p:spPr>
          <a:xfrm>
            <a:off x="7920" y="0"/>
            <a:ext cx="1216080" cy="1341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5076720" y="3645000"/>
            <a:ext cx="3867120" cy="23778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7885080" y="189000"/>
            <a:ext cx="1116000" cy="1082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Профилактика гриппа в домашних условиях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"/>
          <p:cNvSpPr/>
          <p:nvPr/>
        </p:nvSpPr>
        <p:spPr>
          <a:xfrm>
            <a:off x="395280" y="141300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ключить в свой ежедневный рацион лук и чеснок - природные антибиотики, активно уничтожающие микробы и бактери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79280" y="2133720"/>
            <a:ext cx="1611360" cy="159048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47" name="" descr="ARVO"/>
          <p:cNvPicPr/>
          <p:nvPr/>
        </p:nvPicPr>
        <p:blipFill>
          <a:blip r:embed="rId2"/>
          <a:stretch/>
        </p:blipFill>
        <p:spPr>
          <a:xfrm>
            <a:off x="2050920" y="2349360"/>
            <a:ext cx="1905120" cy="14018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48" name="" descr="Халяль-про :: Каталог"/>
          <p:cNvPicPr/>
          <p:nvPr/>
        </p:nvPicPr>
        <p:blipFill>
          <a:blip r:embed="rId3"/>
          <a:stretch/>
        </p:blipFill>
        <p:spPr>
          <a:xfrm rot="20320800">
            <a:off x="250560" y="4797000"/>
            <a:ext cx="1903320" cy="171612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49" name="" descr="Обои Еда Цитрусы, обои для рабочего стола, фотографии еда, цитрусы Обои для рабочего стола, скачать обои картинки заставки на ра"/>
          <p:cNvPicPr/>
          <p:nvPr/>
        </p:nvPicPr>
        <p:blipFill>
          <a:blip r:embed="rId4"/>
          <a:stretch/>
        </p:blipFill>
        <p:spPr>
          <a:xfrm>
            <a:off x="4140360" y="2421000"/>
            <a:ext cx="1981080" cy="13269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50" name="" descr="Фрукты могут защитить от инсульта Красота и здоровье"/>
          <p:cNvPicPr/>
          <p:nvPr/>
        </p:nvPicPr>
        <p:blipFill>
          <a:blip r:embed="rId5"/>
          <a:stretch/>
        </p:blipFill>
        <p:spPr>
          <a:xfrm>
            <a:off x="6227640" y="2133720"/>
            <a:ext cx="2667240" cy="20001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51" name="" descr="Витамин с шипучие таблетки инструкция - Файловый Рай"/>
          <p:cNvPicPr/>
          <p:nvPr/>
        </p:nvPicPr>
        <p:blipFill>
          <a:blip r:embed="rId6"/>
          <a:stretch/>
        </p:blipFill>
        <p:spPr>
          <a:xfrm>
            <a:off x="6588000" y="4916520"/>
            <a:ext cx="2249640" cy="14936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52" name=""/>
          <p:cNvSpPr/>
          <p:nvPr/>
        </p:nvSpPr>
        <p:spPr>
          <a:xfrm>
            <a:off x="0" y="4149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ключать фрукты и овощи, содержащие большое количество витамина С: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71640" y="5157720"/>
            <a:ext cx="352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Можно начать принимать аптечные препараты - витамин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Профилактика гриппа"/>
          <p:cNvPicPr/>
          <p:nvPr/>
        </p:nvPicPr>
        <p:blipFill>
          <a:blip r:embed="rId7"/>
          <a:stretch/>
        </p:blipFill>
        <p:spPr>
          <a:xfrm>
            <a:off x="7920" y="0"/>
            <a:ext cx="1020960" cy="1125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55" name="" descr=""/>
          <p:cNvPicPr/>
          <p:nvPr/>
        </p:nvPicPr>
        <p:blipFill>
          <a:blip r:embed="rId8"/>
          <a:stretch/>
        </p:blipFill>
        <p:spPr>
          <a:xfrm>
            <a:off x="8028000" y="620640"/>
            <a:ext cx="1116000" cy="10828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Меры предосторожности при контакте с гриппующими – требования личной безопасности.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"/>
          <p:cNvSpPr/>
          <p:nvPr/>
        </p:nvSpPr>
        <p:spPr>
          <a:xfrm>
            <a:off x="3780000" y="1773360"/>
            <a:ext cx="51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еред выходом на улицу желательно смазывать ноздри оксолиновой мазью или испытанным народным средством – раствором мыл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Оксолиновая мазь - защита от вирусов - медицинский портал Citydoctor.ru"/>
          <p:cNvPicPr/>
          <p:nvPr/>
        </p:nvPicPr>
        <p:blipFill>
          <a:blip r:embed="rId1"/>
          <a:stretch/>
        </p:blipFill>
        <p:spPr>
          <a:xfrm>
            <a:off x="324000" y="1700280"/>
            <a:ext cx="3182760" cy="23940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59" name="" descr="Pharmaceutical Ointment - Diclofenac &amp; Linseed Oil Gel, Pharmaceutical Ointment Manufacturer, Diclofenac &amp; Linseed Oil Gel Expor"/>
          <p:cNvPicPr/>
          <p:nvPr/>
        </p:nvPicPr>
        <p:blipFill>
          <a:blip r:embed="rId2"/>
          <a:stretch/>
        </p:blipFill>
        <p:spPr>
          <a:xfrm>
            <a:off x="324000" y="4292640"/>
            <a:ext cx="4343400" cy="237168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8244000" y="907920"/>
            <a:ext cx="900000" cy="873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4854600" y="3860640"/>
            <a:ext cx="4289400" cy="284328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Меры предосторожности при контакте с гриппующими – требования личной безопасности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"/>
          <p:cNvSpPr/>
          <p:nvPr/>
        </p:nvSpPr>
        <p:spPr>
          <a:xfrm>
            <a:off x="3924360" y="2053440"/>
            <a:ext cx="496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о время эпидемии старайтесь поменьше посещать людные мест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Также в целях безопасности, передвигаясь на общественном транспорте, закрывайте шарфом рот и но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Свиной грипп. Украина в повязках (23 фото) &quot; Невседома - жиз…"/>
          <p:cNvPicPr/>
          <p:nvPr/>
        </p:nvPicPr>
        <p:blipFill>
          <a:blip r:embed="rId1"/>
          <a:stretch/>
        </p:blipFill>
        <p:spPr>
          <a:xfrm>
            <a:off x="468360" y="4365720"/>
            <a:ext cx="3330360" cy="222228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250920" y="1628640"/>
            <a:ext cx="3549600" cy="25736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4643280" y="3556080"/>
            <a:ext cx="4241880" cy="31622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7885080" y="1125360"/>
            <a:ext cx="1116000" cy="10828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Times New Roman"/>
              </a:rPr>
              <a:t>Десять шагов против гриппа: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 шаг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Тщательно мой руки перед едой. На твоих руках находится большое количество микробов и бактерий. Если ты не будешь мыть руки, микробы вместе с пищей попадут в твой организм и вызовут различные заболевания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2 шаг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Закаляйся. Закаливание – это специальная тренировка, которая помогает быть здоровым. Для того чтобы не бояться холода, нужно чаще бывать на свежем воздухе, обливаться прохладной водой, купаться. Закаливанием нужно заниматься только с родителями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3 шаг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Делай зарядку каждое утро. Для того чтобы тело было гибким, здоровым, сильным и красивым, надо регулярно делать зарядку, она поможет еще и защитить организм от болезней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" descr="Профилактика гриппа"/>
          <p:cNvPicPr/>
          <p:nvPr/>
        </p:nvPicPr>
        <p:blipFill>
          <a:blip r:embed="rId1"/>
          <a:stretch/>
        </p:blipFill>
        <p:spPr>
          <a:xfrm>
            <a:off x="7920" y="0"/>
            <a:ext cx="1803240" cy="1989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7956720" y="5846760"/>
            <a:ext cx="1042920" cy="1011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95280" y="722160"/>
            <a:ext cx="85694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4 шаг: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Ешь много овощей и фруктов. Они также помогают защититься от болезней, а еще укрепляют организм, потому что содержать витамины и полезные веществ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5 шаг: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Проветривай свою комнату. На вещах и предметах в твоей комнате оседает пыль, различные микробы и бактерии. Для того чтобы все это не попадало в твой организм, очень важно проветривать помещение, где ты спишь, играешь, учишь урок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6 шаг: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Береги свое здоровье. Если рядом с тобой кто-то болеет, надень специальную маску, она тебя защитит от заболеван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7 шаг: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Подружись с веселой тубой «Оксалиновая мазь». Вместе вы сможете победить простуду и грипп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8 шаг: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Не переохлаждайся, одевайся по погод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9 шаг: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Во время эпидемии гриппа откладывай посещение мест с большим скоплением люде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10 шаг: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В случае угрозы эпидемий, следуй советам врачей и не бойся делать привив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Профилактика гриппа"/>
          <p:cNvPicPr/>
          <p:nvPr/>
        </p:nvPicPr>
        <p:blipFill>
          <a:blip r:embed="rId1"/>
          <a:stretch/>
        </p:blipFill>
        <p:spPr>
          <a:xfrm>
            <a:off x="0" y="0"/>
            <a:ext cx="7570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817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e5e5ff"/>
                </a:solidFill>
                <a:latin typeface="Times New Roman"/>
              </a:rPr>
              <a:t>Что делать, если ты уже заболел?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"/>
          <p:cNvSpPr/>
          <p:nvPr/>
        </p:nvSpPr>
        <p:spPr>
          <a:xfrm>
            <a:off x="250920" y="1132920"/>
            <a:ext cx="8713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1. Не посещать школ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2. Лечь в постел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. Измерить температур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4. Вызвать врача на дом - только он сможет назначить правильное лечение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5. Пить сладкий горячий травяной или ягодный чай, можно с медо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6. До прихода врача стараться не принимать лекарств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7. Снижать температуру с помощью обтирания холодной водой с добавлением уксус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8. Ходить всем членам семьи в масках. Ёе проглаживать через два час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9. Посуду больного мыть отдельно с пищевой сод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Памятка маме. Детские болезни Хитрости жизни"/>
          <p:cNvPicPr/>
          <p:nvPr/>
        </p:nvPicPr>
        <p:blipFill>
          <a:blip r:embed="rId1"/>
          <a:stretch/>
        </p:blipFill>
        <p:spPr>
          <a:xfrm>
            <a:off x="3995640" y="119700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Профилактика гриппа"/>
          <p:cNvPicPr/>
          <p:nvPr/>
        </p:nvPicPr>
        <p:blipFill>
          <a:blip r:embed="rId2"/>
          <a:stretch/>
        </p:blipFill>
        <p:spPr>
          <a:xfrm>
            <a:off x="5867280" y="692280"/>
            <a:ext cx="1257480" cy="18856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Читинский Городской Форум :::.. * Просмотр темы - *С добрым утром господа"/>
          <p:cNvPicPr/>
          <p:nvPr/>
        </p:nvPicPr>
        <p:blipFill>
          <a:blip r:embed="rId3"/>
          <a:stretch/>
        </p:blipFill>
        <p:spPr>
          <a:xfrm>
            <a:off x="6588000" y="5705640"/>
            <a:ext cx="1152720" cy="11523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Тема: Эй, ДРУГ- не болей, чай-напитки от&quot;Х.Т.&quot;- пей! :) (1/1…"/>
          <p:cNvPicPr/>
          <p:nvPr/>
        </p:nvPicPr>
        <p:blipFill>
          <a:blip r:embed="rId4"/>
          <a:stretch/>
        </p:blipFill>
        <p:spPr>
          <a:xfrm>
            <a:off x="7885080" y="5759280"/>
            <a:ext cx="1258920" cy="10987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Профилактика гриппа"/>
          <p:cNvPicPr/>
          <p:nvPr/>
        </p:nvPicPr>
        <p:blipFill>
          <a:blip r:embed="rId5"/>
          <a:stretch/>
        </p:blipFill>
        <p:spPr>
          <a:xfrm>
            <a:off x="0" y="0"/>
            <a:ext cx="901800" cy="9954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7308720" y="949320"/>
            <a:ext cx="1654200" cy="14716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8101080" y="4005360"/>
            <a:ext cx="826920" cy="801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116000" y="244800"/>
            <a:ext cx="698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«Здравствуйте, доброго здоровья!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«Как ваше драгоценное здоровье?!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04840" y="3139200"/>
            <a:ext cx="7212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Пословиц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«Здоровье не купишь»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«Было бы здоровье и счастье найдёшь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75640" cy="65055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Times New Roman"/>
              </a:rPr>
              <a:t>Викторина «Что ты знаешь о гриппе»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)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Как передается вирус гриппа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а) через воду; в) воздушно-капельным путем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б) через пищу; г) через рукопожати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) Для профилактики заболевания гриппом необходимо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а) сделать прививку; в) есть овощи и фрукты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б) пить минеральную воду; г) принимать витамин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6" name="" descr="Профилактика гриппа"/>
          <p:cNvPicPr/>
          <p:nvPr/>
        </p:nvPicPr>
        <p:blipFill>
          <a:blip r:embed="rId1"/>
          <a:stretch/>
        </p:blipFill>
        <p:spPr>
          <a:xfrm>
            <a:off x="7920" y="0"/>
            <a:ext cx="1085760" cy="1197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740720" y="907920"/>
            <a:ext cx="1116000" cy="10828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50920" y="189000"/>
            <a:ext cx="86421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) Для того чтобы больной гриппом не заразил окружающих, ему необходимо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а) носить марлевую повязку; в) пить витамин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б) иметь отдельную посуду; г) есть лук и чесно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) Во время болезни врачи рекомендуют пить чай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а) с лимоном; в) с сахаром; д) с вишн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б) с малиной; г) с бутербродом; е) с черной смородин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) При первых признаках заболевания необходимо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а) вызвать врача; в) идти в школ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б) лечь в постель; г) принять лекарств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Профилактика гриппа"/>
          <p:cNvPicPr/>
          <p:nvPr/>
        </p:nvPicPr>
        <p:blipFill>
          <a:blip r:embed="rId1"/>
          <a:stretch/>
        </p:blipFill>
        <p:spPr>
          <a:xfrm>
            <a:off x="7862760" y="5445000"/>
            <a:ext cx="1281240" cy="14130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7812000" y="2997360"/>
            <a:ext cx="1116000" cy="1082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Практическая работа (изготовление амулета Здоровья)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900000" y="1558800"/>
            <a:ext cx="7382160" cy="52992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Times New Roman"/>
              </a:rPr>
              <a:t>Будьте здоровы!!!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84360" y="1000080"/>
            <a:ext cx="7812000" cy="585792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79280" y="135000"/>
            <a:ext cx="8785440" cy="65880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	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04000" cy="64548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Times New Roman"/>
              </a:rPr>
              <a:t>Мозговой штурм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1421640"/>
            <a:ext cx="842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Когда я здоровый…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(какой и что делаю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Когда я больной…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(какой и что делаю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203640" y="4381560"/>
            <a:ext cx="2595600" cy="24764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8748720" cy="60879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95280" y="599400"/>
            <a:ext cx="849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Грипп в переводе с французского означает "схватывать"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В начале века это опасное недомогание называли "испанской", а еще раньше - "русской болезнью".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79280" y="4437000"/>
            <a:ext cx="2590920" cy="22860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987640" y="4508640"/>
            <a:ext cx="2332080" cy="2158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435640" y="4724280"/>
            <a:ext cx="3419280" cy="17100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Times New Roman"/>
              </a:rPr>
              <a:t>Что такое грипп?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Острое инфекционное заболевание дыхательных путей, вызываемое вирусом гриппа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входит в группу острых респираторных вирусных инфекций (ОРВИ)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известен с конца XVI века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в настоящее время выявлено более 2000 вариантов вируса гриппа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613160" cy="149364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9" name="" descr="Профилактика гриппа"/>
          <p:cNvPicPr/>
          <p:nvPr/>
        </p:nvPicPr>
        <p:blipFill>
          <a:blip r:embed="rId2"/>
          <a:stretch/>
        </p:blipFill>
        <p:spPr>
          <a:xfrm>
            <a:off x="0" y="0"/>
            <a:ext cx="1281240" cy="1413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Times New Roman"/>
              </a:rPr>
              <a:t>ЧЕМ ОПАСЕН ГРИПП ДЛЯ ШКОЛЬНИКА?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Главная опасность гриппа в том, что он может приводить к серьезным осложнениям: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. Заболевания органов дыхания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. Болезни сосудов и сердца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. Заболевания центральной нервной системы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" descr="Профилактика гриппа"/>
          <p:cNvPicPr/>
          <p:nvPr/>
        </p:nvPicPr>
        <p:blipFill>
          <a:blip r:embed="rId1"/>
          <a:stretch/>
        </p:blipFill>
        <p:spPr>
          <a:xfrm>
            <a:off x="7340760" y="4869000"/>
            <a:ext cx="1803240" cy="19890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87280" cy="1152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2T10:47:26Z</dcterms:created>
  <dc:creator>Acer</dc:creator>
  <dc:description/>
  <dc:language>en-US</dc:language>
  <cp:lastModifiedBy>Acer</cp:lastModifiedBy>
  <dcterms:modified xsi:type="dcterms:W3CDTF">2017-12-06T20:09:55Z</dcterms:modified>
  <cp:revision>7</cp:revision>
  <dc:subject/>
  <dc:title>Тематическая беседа-викторина «Как уберечься от гриппа» (практикум)</dc:title>
</cp:coreProperties>
</file>