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2.png" ContentType="image/pn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6D92-E845-4F2D-8911-3B4B4380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0F00-8F5C-4535-AEE5-B40FAC07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7032-EBAF-4D4A-8BEA-585D86D93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8F8F-644B-4793-B0DC-7FD8FA1CF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814E-DD31-4A92-A78B-FBE51638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4A3E-6CB3-4F94-8DD3-A635B55D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5164-99E2-42FC-BFB8-C9000830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3A56-7941-4C0D-AFB4-E0BF8473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CB39-77AF-43E0-BB2E-FC6C0F1A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254C-6E6C-4F50-8E2F-7649543F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7AD6-EC02-4B9B-973A-28F47DB9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5D07-A759-4F0E-BBE2-7BBCCC5D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BBC1-AD53-4DF5-9D31-93EF70B433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 Тюльган- спортивны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00720" y="486900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структор по физической культу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имина Т.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11280" y="184464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лейб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3924360"/>
            <a:ext cx="4371840" cy="2933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564000" y="0"/>
            <a:ext cx="5580000" cy="3894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435640" y="4149720"/>
            <a:ext cx="233028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ы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о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3386160"/>
            <a:ext cx="5219640" cy="3471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780000" y="0"/>
            <a:ext cx="5364000" cy="3578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084720" y="3664080"/>
            <a:ext cx="227808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00000" y="127080"/>
            <a:ext cx="7691400" cy="67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4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Тюльгане находятся 2 спортивных учреждения: ФОК « Олимп» ; ДЮС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03236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00720" y="2349360"/>
            <a:ext cx="417672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 нашем районе развиты следующие виды спорт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7704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утб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3500280"/>
            <a:ext cx="5256360" cy="3357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059280" y="0"/>
            <a:ext cx="6084720" cy="3538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724360" y="3833640"/>
            <a:ext cx="3122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Хокк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3656160"/>
            <a:ext cx="5867280" cy="3201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059280" y="0"/>
            <a:ext cx="6084720" cy="3686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300720" y="3789360"/>
            <a:ext cx="22352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игур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159000"/>
            <a:ext cx="4932360" cy="3699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067280" y="0"/>
            <a:ext cx="5076720" cy="3384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932360" y="3429000"/>
            <a:ext cx="389880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ла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537000"/>
            <a:ext cx="5003640" cy="3321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140360" y="0"/>
            <a:ext cx="5003640" cy="3768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219640" y="3789360"/>
            <a:ext cx="35560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ль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орь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924360" y="0"/>
            <a:ext cx="5219640" cy="3486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084720" y="3860640"/>
            <a:ext cx="19875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920" y="-36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ап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544920"/>
            <a:ext cx="4968720" cy="3313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987640" y="0"/>
            <a:ext cx="6156360" cy="3971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651640" y="414972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4T09:26:15Z</dcterms:created>
  <dc:creator>1</dc:creator>
  <dc:description/>
  <dc:language>en-US</dc:language>
  <cp:lastModifiedBy>1</cp:lastModifiedBy>
  <dcterms:modified xsi:type="dcterms:W3CDTF">2017-12-17T14:11:46Z</dcterms:modified>
  <cp:revision>5</cp:revision>
  <dc:subject/>
  <dc:title>Презентация « Тюльган- спортивный»</dc:title>
</cp:coreProperties>
</file>