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964-FCA9-485A-8C0E-694413EB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23B-3D29-4A35-B418-0A2C3D0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07B-1332-4FA3-9F48-DB96145C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2F2-FCA9-4EA7-8022-6225F15C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5BB6-E8F1-4FA7-B8D4-91E234D9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2CA-538F-464F-A052-7D759AA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733F-B035-4E89-9C9E-9C0CDCB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163-E6F4-4956-8B2E-389E2AD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68E8-FAE0-4855-8790-19AFD28F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05B2-86F1-473D-8F61-335F826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0309-58FD-4054-8C5B-6322764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638-64F1-4F34-BD2B-C1762B5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293E-418D-4097-927F-7FD1325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B089-261E-456F-B565-1BF4FFC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0CD-D984-4127-8AB3-B4D4CF2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2950-7D74-4970-BC04-971B92BD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9769-C667-4022-A214-AB32D3A9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C207-49A2-49D1-986D-FB59AE3F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5FD2-4648-4FBD-A9BC-B8973BC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D404-81AD-474E-86D7-0262481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BD80-A583-4EB4-BE7E-9D4412F9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6A60-E9E8-4BE1-8DA9-E32B2070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6CA-3631-406D-AFE1-0BA8B883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1A79-5CE3-4F9B-B95D-66006FF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F71D-CECD-49E1-AB92-0A0426B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207D-E211-4958-9294-09672DC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10C8-688E-45F8-A261-0DCBB6D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80C0-A87B-47C1-9027-9CE52C3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2908-E6FB-441A-A7FC-8EA02E78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C6DD-E897-47E1-900D-457001AA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9C17-514B-46E4-A242-8D31648E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B336-0455-4EFA-AB52-B8528BE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0622-8F2F-48E1-873D-0596263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BCB-EAB7-4811-B950-3B762128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B5A7-0C43-4AD8-8C3E-977E957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FB88-40D7-4012-A0DC-58376289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8F8B-E1BA-4639-B6EB-DEB9AF1F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BB1F-F804-4C6F-99AF-E0654F8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1E7D-DF87-4568-BD87-69BA909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4A9D-5B28-49A2-9C7A-C50CB17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E278-08F5-45FA-BE50-F47BF73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B53C-E0D7-433F-9A1E-6C8DFB58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47F4-724C-45D1-81CD-0664800E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378D-FB23-45FA-9BDB-70E2168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E1A-C5E0-45BE-AADF-545C236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E9F19-5F94-4E6D-9D2D-D33522E4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7438-8F26-46A8-B208-2450900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ABCF-5975-4F10-9A8F-78FD060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A857-585B-453F-8985-09575D5E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C96C-60BF-4A94-9AD5-D84BCAA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638E-2B99-4828-8360-0BFBEB0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4F31-4000-43EA-B682-49E1B95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D538-4689-4E3D-8D3F-C6FEA5C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44DD-5AC1-4969-9B06-18A12653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D2C2-4452-48E5-8D66-67C5E225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7AF-8ACB-479F-9F6A-0CB1592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D629-EB07-4B72-B937-D2284481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9CC9-431D-48C3-AA82-157E53E1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F325-5C62-4FB8-8B98-FC64B9F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CB50-78CD-4208-9178-800847F0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1C87-DE02-4D98-BCDC-E489D5E7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5F86-F1E8-4CDD-8AAF-574CA6C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1E02-D19A-4DCB-BF81-45185A5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793B-73B7-431B-9571-628421D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57A83-8E36-47E3-8BBB-20F13B2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634B-ACCA-4125-9E5F-6B7A688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B2B-ACCE-46CA-BB56-B2D1C03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E5DC-5C28-4634-A29A-8C09C94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427C-8632-4485-83E3-21FA7EAE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9FDA-EC04-4A82-A77E-0801D048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18501-56EB-4CF5-B9F2-572CAF9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7E84-9FCD-4A35-B28D-AB5D6D3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B7DD-3899-4F6A-97AF-CFDD7DB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6C160-8568-49E8-A7AA-AB0D8855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D7FD-1DE8-4AB8-BA25-28702EB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F819-270B-485A-8174-8BF55E9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657D-F7DC-475C-AF6C-8412802F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681-79C7-4347-84AE-E0EE179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0D02-68E4-4574-9C5F-4EE7B20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61CF-BAD3-452C-938B-E1162DF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0F206-5523-4083-A076-96820FA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5723-DD81-4C3E-A2D0-A0A184A8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A680-7483-4D63-A163-DF870B01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B71-DDFA-4E87-837C-8B38D9F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FD6-BAC9-4981-AF09-01AA43967E4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011-23D5-417A-9285-237E78226B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ADA-B97D-4230-9DA7-2943CBC77BA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29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973-37E3-43B2-A633-86A71DF70BD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4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57D-98BC-44C8-AF56-E176C34F430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85E-EDE0-4BAD-94BD-EA1E6742885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1AC-D3C6-49C5-AFEE-321AEA537C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Урок математики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 3 класс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Verdana"/>
              </a:rPr>
              <a:t>Измерение време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Verdana"/>
              </a:rPr>
              <a:t>Виноградова В. 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4286160" cy="343224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3" descr="images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3432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338" name="Содержимое 3" descr="images.jpg"/>
          <p:cNvPicPr/>
          <p:nvPr/>
        </p:nvPicPr>
        <p:blipFill>
          <a:blip r:embed="rId3"/>
          <a:stretch/>
        </p:blipFill>
        <p:spPr>
          <a:xfrm>
            <a:off x="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images.jpg"/>
          <p:cNvPicPr/>
          <p:nvPr/>
        </p:nvPicPr>
        <p:blipFill>
          <a:blip r:embed="rId4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cxnSp>
        <p:nvCxnSpPr>
          <p:cNvPr id="340" name="Прямая со стрелкой 10"/>
          <p:cNvCxnSpPr/>
          <p:nvPr/>
        </p:nvCxnSpPr>
        <p:spPr>
          <a:xfrm flipH="1">
            <a:off x="1642680" y="1785960"/>
            <a:ext cx="572400" cy="3578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1" name="Прямая со стрелкой 12"/>
          <p:cNvCxnSpPr/>
          <p:nvPr/>
        </p:nvCxnSpPr>
        <p:spPr>
          <a:xfrm>
            <a:off x="2214360" y="1785960"/>
            <a:ext cx="1286280" cy="2865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2" name="Прямая со стрелкой 16"/>
          <p:cNvCxnSpPr/>
          <p:nvPr/>
        </p:nvCxnSpPr>
        <p:spPr>
          <a:xfrm flipH="1" flipV="1">
            <a:off x="6714720" y="1213920"/>
            <a:ext cx="357840" cy="57240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3" name="Прямая со стрелкой 18"/>
          <p:cNvCxnSpPr/>
          <p:nvPr/>
        </p:nvCxnSpPr>
        <p:spPr>
          <a:xfrm flipV="1">
            <a:off x="7072200" y="499680"/>
            <a:ext cx="215280" cy="12866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4" name="Прямая со стрелкой 20"/>
          <p:cNvCxnSpPr/>
          <p:nvPr/>
        </p:nvCxnSpPr>
        <p:spPr>
          <a:xfrm flipV="1">
            <a:off x="2214720" y="5071320"/>
            <a:ext cx="786240" cy="2149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5" name="Прямая со стрелкой 23"/>
          <p:cNvCxnSpPr/>
          <p:nvPr/>
        </p:nvCxnSpPr>
        <p:spPr>
          <a:xfrm flipH="1">
            <a:off x="1499400" y="5285880"/>
            <a:ext cx="715320" cy="10724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6" name="Прямая со стрелкой 25"/>
          <p:cNvCxnSpPr/>
          <p:nvPr/>
        </p:nvCxnSpPr>
        <p:spPr>
          <a:xfrm flipV="1">
            <a:off x="7071120" y="4714560"/>
            <a:ext cx="143640" cy="5738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7" name="Прямая со стрелкой 28"/>
          <p:cNvCxnSpPr/>
          <p:nvPr/>
        </p:nvCxnSpPr>
        <p:spPr>
          <a:xfrm flipH="1">
            <a:off x="6500160" y="5285880"/>
            <a:ext cx="572040" cy="10724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Час-ч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Минута-мин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Секунда-с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-360" y="499680"/>
            <a:ext cx="3071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сут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недел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ми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5500800" y="571680"/>
            <a:ext cx="30718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7 сут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24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Содержимое 2"/>
          <p:cNvSpPr/>
          <p:nvPr/>
        </p:nvSpPr>
        <p:spPr>
          <a:xfrm>
            <a:off x="0" y="500040"/>
            <a:ext cx="30718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сут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нед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одержимое 2"/>
          <p:cNvSpPr/>
          <p:nvPr/>
        </p:nvSpPr>
        <p:spPr>
          <a:xfrm>
            <a:off x="5500800" y="571680"/>
            <a:ext cx="30718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7 сут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24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Прямая со стрелкой 6"/>
          <p:cNvCxnSpPr/>
          <p:nvPr/>
        </p:nvCxnSpPr>
        <p:spPr>
          <a:xfrm>
            <a:off x="2499840" y="1071720"/>
            <a:ext cx="3072600" cy="292968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4" name="Прямая со стрелкой 8"/>
          <p:cNvCxnSpPr/>
          <p:nvPr/>
        </p:nvCxnSpPr>
        <p:spPr>
          <a:xfrm>
            <a:off x="2786040" y="2000160"/>
            <a:ext cx="2858400" cy="100080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5" name="Прямая со стрелкой 10"/>
          <p:cNvCxnSpPr/>
          <p:nvPr/>
        </p:nvCxnSpPr>
        <p:spPr>
          <a:xfrm flipV="1">
            <a:off x="1357200" y="2142720"/>
            <a:ext cx="4215600" cy="92952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6" name="Прямая со стрелкой 12"/>
          <p:cNvCxnSpPr/>
          <p:nvPr/>
        </p:nvCxnSpPr>
        <p:spPr>
          <a:xfrm flipV="1">
            <a:off x="2071800" y="1213920"/>
            <a:ext cx="3643920" cy="285840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3" descr="foto1202510492.jpg"/>
          <p:cNvPicPr/>
          <p:nvPr/>
        </p:nvPicPr>
        <p:blipFill>
          <a:blip r:embed="rId2"/>
          <a:stretch/>
        </p:blipFill>
        <p:spPr>
          <a:xfrm>
            <a:off x="1785960" y="1087560"/>
            <a:ext cx="60721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6a00e39824878f883300e551fb81e58834-800wi.jpg"/>
          <p:cNvPicPr/>
          <p:nvPr/>
        </p:nvPicPr>
        <p:blipFill>
          <a:blip r:embed="rId2"/>
          <a:stretch/>
        </p:blipFill>
        <p:spPr>
          <a:xfrm>
            <a:off x="1785960" y="1119240"/>
            <a:ext cx="59292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0.jpg"/>
          <p:cNvPicPr/>
          <p:nvPr/>
        </p:nvPicPr>
        <p:blipFill>
          <a:blip r:embed="rId2"/>
          <a:stretch/>
        </p:blipFill>
        <p:spPr>
          <a:xfrm>
            <a:off x="857160" y="1104840"/>
            <a:ext cx="75726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4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: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8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88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+5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(72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48)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: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2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5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Блок-схема: узел 5"/>
          <p:cNvSpPr/>
          <p:nvPr/>
        </p:nvSpPr>
        <p:spPr>
          <a:xfrm>
            <a:off x="1428840" y="42876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Блок-схема: узел 6"/>
          <p:cNvSpPr/>
          <p:nvPr/>
        </p:nvSpPr>
        <p:spPr>
          <a:xfrm>
            <a:off x="1500120" y="135720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Блок-схема: узел 7"/>
          <p:cNvSpPr/>
          <p:nvPr/>
        </p:nvSpPr>
        <p:spPr>
          <a:xfrm>
            <a:off x="1500120" y="23572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Блок-схема: узел 8"/>
          <p:cNvSpPr/>
          <p:nvPr/>
        </p:nvSpPr>
        <p:spPr>
          <a:xfrm>
            <a:off x="1500120" y="3357720"/>
            <a:ext cx="142920" cy="14256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Блок-схема: узел 9"/>
          <p:cNvSpPr/>
          <p:nvPr/>
        </p:nvSpPr>
        <p:spPr>
          <a:xfrm>
            <a:off x="1500120" y="53578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Блок-схема: узел 10"/>
          <p:cNvSpPr/>
          <p:nvPr/>
        </p:nvSpPr>
        <p:spPr>
          <a:xfrm>
            <a:off x="2143080" y="53578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4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: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8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88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6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0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+5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36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(72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48)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: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2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5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54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Блок-схема: узел 3"/>
          <p:cNvSpPr/>
          <p:nvPr/>
        </p:nvSpPr>
        <p:spPr>
          <a:xfrm>
            <a:off x="1500120" y="53578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Блок-схема: узел 4"/>
          <p:cNvSpPr/>
          <p:nvPr/>
        </p:nvSpPr>
        <p:spPr>
          <a:xfrm>
            <a:off x="1428840" y="42876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Блок-схема: узел 5"/>
          <p:cNvSpPr/>
          <p:nvPr/>
        </p:nvSpPr>
        <p:spPr>
          <a:xfrm>
            <a:off x="1500120" y="135720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Блок-схема: узел 6"/>
          <p:cNvSpPr/>
          <p:nvPr/>
        </p:nvSpPr>
        <p:spPr>
          <a:xfrm>
            <a:off x="1500120" y="23572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Блок-схема: узел 7"/>
          <p:cNvSpPr/>
          <p:nvPr/>
        </p:nvSpPr>
        <p:spPr>
          <a:xfrm>
            <a:off x="1500120" y="3357720"/>
            <a:ext cx="142920" cy="14256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Блок-схема: узел 8"/>
          <p:cNvSpPr/>
          <p:nvPr/>
        </p:nvSpPr>
        <p:spPr>
          <a:xfrm>
            <a:off x="1500120" y="53578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Блок-схема: узел 9"/>
          <p:cNvSpPr/>
          <p:nvPr/>
        </p:nvSpPr>
        <p:spPr>
          <a:xfrm>
            <a:off x="2143080" y="5357880"/>
            <a:ext cx="142920" cy="1429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43000" y="121392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Сча ямвре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луед етпоех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287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Метр,килограмм,час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антиметр,минута,литр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утки,дециметр,год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екунда,неделя,грам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месяц,век,квадратный метр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43000" y="121392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Делу – время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Потехе – час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00040" y="3567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Час,минута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утки,неделя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екунда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год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век,меся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-360" y="2143080"/>
            <a:ext cx="9644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1век  1год  1месяц  1сутки  1ч  1 мин  1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олилиния 9"/>
          <p:cNvSpPr/>
          <p:nvPr/>
        </p:nvSpPr>
        <p:spPr>
          <a:xfrm>
            <a:off x="42876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олилиния 10"/>
          <p:cNvSpPr/>
          <p:nvPr/>
        </p:nvSpPr>
        <p:spPr>
          <a:xfrm>
            <a:off x="1886040" y="291780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олилиния 11"/>
          <p:cNvSpPr/>
          <p:nvPr/>
        </p:nvSpPr>
        <p:spPr>
          <a:xfrm>
            <a:off x="335772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олилиния 12"/>
          <p:cNvSpPr/>
          <p:nvPr/>
        </p:nvSpPr>
        <p:spPr>
          <a:xfrm>
            <a:off x="485784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олилиния 13"/>
          <p:cNvSpPr/>
          <p:nvPr/>
        </p:nvSpPr>
        <p:spPr>
          <a:xfrm>
            <a:off x="628668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олилиния 14"/>
          <p:cNvSpPr/>
          <p:nvPr/>
        </p:nvSpPr>
        <p:spPr>
          <a:xfrm>
            <a:off x="7786800" y="2928960"/>
            <a:ext cx="10652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олилиния 15"/>
          <p:cNvSpPr/>
          <p:nvPr/>
        </p:nvSpPr>
        <p:spPr>
          <a:xfrm>
            <a:off x="1893960" y="1357200"/>
            <a:ext cx="3549600" cy="917640"/>
          </a:xfrm>
          <a:custGeom>
            <a:avLst/>
            <a:gdLst/>
            <a:ahLst/>
            <a:rect l="l" t="t" r="r" b="b"/>
            <a:pathLst>
              <a:path w="3548743" h="1643743">
                <a:moveTo>
                  <a:pt x="0" y="1643743"/>
                </a:moveTo>
                <a:cubicBezTo>
                  <a:pt x="531586" y="821871"/>
                  <a:pt x="1063172" y="0"/>
                  <a:pt x="1654629" y="0"/>
                </a:cubicBezTo>
                <a:cubicBezTo>
                  <a:pt x="2246086" y="0"/>
                  <a:pt x="3340100" y="1513114"/>
                  <a:pt x="3548743" y="1643743"/>
                </a:cubicBezTo>
              </a:path>
            </a:pathLst>
          </a:custGeom>
          <a:noFill/>
          <a:ln w="57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857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214308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8"/>
          <p:cNvSpPr/>
          <p:nvPr/>
        </p:nvSpPr>
        <p:spPr>
          <a:xfrm>
            <a:off x="307188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4286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52862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21"/>
          <p:cNvSpPr/>
          <p:nvPr/>
        </p:nvSpPr>
        <p:spPr>
          <a:xfrm>
            <a:off x="6572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7929720" y="37861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214720" y="6429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3786120" y="642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2928960" y="642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357192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2110232-n--n--n--n-n------n-n------n.jpg"/>
          <p:cNvPicPr/>
          <p:nvPr/>
        </p:nvPicPr>
        <p:blipFill>
          <a:blip r:embed="rId2"/>
          <a:stretch/>
        </p:blipFill>
        <p:spPr>
          <a:xfrm>
            <a:off x="328680" y="1143000"/>
            <a:ext cx="86011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2343240" y="642960"/>
            <a:ext cx="4457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0_5203a_f35cdb6e_XL.jpg"/>
          <p:cNvPicPr/>
          <p:nvPr/>
        </p:nvPicPr>
        <p:blipFill>
          <a:blip r:embed="rId2"/>
          <a:stretch/>
        </p:blipFill>
        <p:spPr>
          <a:xfrm>
            <a:off x="2286000" y="1141560"/>
            <a:ext cx="4572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Pocket_watch_with_chain.jpg"/>
          <p:cNvPicPr/>
          <p:nvPr/>
        </p:nvPicPr>
        <p:blipFill>
          <a:blip r:embed="rId2"/>
          <a:stretch/>
        </p:blipFill>
        <p:spPr>
          <a:xfrm>
            <a:off x="569880" y="1071720"/>
            <a:ext cx="78598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5:14:19Z</dcterms:created>
  <dc:creator>cmq</dc:creator>
  <dc:description/>
  <dc:language>en-US</dc:language>
  <cp:lastModifiedBy>Victory</cp:lastModifiedBy>
  <dcterms:modified xsi:type="dcterms:W3CDTF">2017-12-13T13:15:39Z</dcterms:modified>
  <cp:revision>8</cp:revision>
  <dc:subject/>
  <dc:title>Урок математики  в 3 классе</dc:title>
</cp:coreProperties>
</file>