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gif" ContentType="image/gif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deti-66.r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с "Мастер презентаций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C9C6-1789-4A58-97E8-532486856E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http://www.deti-66.ru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онкурс "Мастер презентаций"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8F8F-3671-4790-A32E-FF6FB7006FF7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72D-DF17-43BE-B3B0-B9F41561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54F-D3D0-4FF1-9F37-A13CB2AE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8AD5-EDEC-4198-8804-3ADEC0BE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8C7-E190-4DFD-8E55-A19FA4D4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3F71-01B1-4EA1-ABA8-63447E0F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8195-0B7D-4571-98AF-977C1581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51A7-885B-4A9D-B04C-A6E5225D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C637-4711-4CA6-B5D7-A06A7C4C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B1B3-EEF4-40EB-96A2-33C751DF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8F51-EB0D-43E6-86D1-2FC0EED0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BD0B-FE5E-487E-B919-EB4FF126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A21-04C7-45FC-96B6-696AAC58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1B56-2B51-4C66-B59C-5A75B05E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A3A0-A44F-49A0-8863-C30E9350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FBE2-A555-4F7F-B95B-22B0DE9C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02BF-8475-4DC1-968C-56FFF7BA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E02A-D9D3-404E-B551-107DFF2F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732-C8E5-49AE-891E-FA9012B7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15E4-73F9-49BD-9CBD-73857446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860-496A-4DA0-B498-05CDA41C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BD9-665D-467B-BF2F-C0E80377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D6B-514F-4922-9F4C-4C7945E4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65A-6B33-498B-A347-E50AB742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279-FF4B-4DB4-B24B-539069DF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28F9-F77A-4FA7-830E-798DBC5E76D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720" y="60120"/>
              <a:ext cx="3620880" cy="6132240"/>
              <a:chOff x="5409720" y="60120"/>
              <a:chExt cx="362088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8400"/>
                <a:ext cx="90576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24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64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3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764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080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16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20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560" y="5195880"/>
              <a:ext cx="175824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8640" y="1033560"/>
              <a:ext cx="1015200" cy="1261800"/>
              <a:chOff x="4148640" y="1033560"/>
              <a:chExt cx="1015200" cy="12618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2640" y="1071360"/>
                <a:ext cx="285840" cy="378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760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8680" y="1962000"/>
                <a:ext cx="511200" cy="159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480" y="295200"/>
              <a:ext cx="892800" cy="825840"/>
              <a:chOff x="564948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108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032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84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840" y="5259960"/>
              <a:ext cx="1059480" cy="830880"/>
              <a:chOff x="96984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52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56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56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480" y="443520"/>
              <a:ext cx="1689840" cy="1146600"/>
              <a:chOff x="375480" y="443520"/>
              <a:chExt cx="168984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5000" y="1062000"/>
                <a:ext cx="355320" cy="530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040" y="5871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280" y="11005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4320" y="3712320"/>
              <a:ext cx="1155600" cy="1607760"/>
              <a:chOff x="73843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90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7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23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400" y="3240"/>
              <a:ext cx="136764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3960" y="160560"/>
              <a:ext cx="108036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836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872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376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08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4216-75AC-45EA-9502-E3857FF49F2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Содержимое 2" descr=""/>
          <p:cNvPicPr/>
          <p:nvPr/>
        </p:nvPicPr>
        <p:blipFill>
          <a:blip r:embed="rId1"/>
          <a:stretch/>
        </p:blipFill>
        <p:spPr>
          <a:xfrm>
            <a:off x="-6480" y="420840"/>
            <a:ext cx="9156960" cy="5638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13-300x225"/>
          <p:cNvPicPr/>
          <p:nvPr/>
        </p:nvPicPr>
        <p:blipFill>
          <a:blip r:embed="rId2"/>
          <a:stretch/>
        </p:blipFill>
        <p:spPr>
          <a:xfrm>
            <a:off x="2571840" y="3286080"/>
            <a:ext cx="3616200" cy="271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Verdana"/>
              </a:rPr>
              <a:t>Благоприятная психологическая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Verdana"/>
              </a:rPr>
              <a:t>обстановка в семье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1" name="Picture 4" descr="658722416"/>
          <p:cNvPicPr/>
          <p:nvPr/>
        </p:nvPicPr>
        <p:blipFill>
          <a:blip r:embed="rId1"/>
          <a:stretch/>
        </p:blipFill>
        <p:spPr>
          <a:xfrm>
            <a:off x="285840" y="1714680"/>
            <a:ext cx="2009520" cy="2016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320126310"/>
          <p:cNvPicPr/>
          <p:nvPr/>
        </p:nvPicPr>
        <p:blipFill>
          <a:blip r:embed="rId2"/>
          <a:stretch/>
        </p:blipFill>
        <p:spPr>
          <a:xfrm>
            <a:off x="6929280" y="1928880"/>
            <a:ext cx="1839960" cy="17366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5"/>
          <p:cNvSpPr/>
          <p:nvPr/>
        </p:nvSpPr>
        <p:spPr>
          <a:xfrm>
            <a:off x="4786200" y="4214880"/>
            <a:ext cx="2737080" cy="5713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соры, развод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Rectangle 26"/>
          <p:cNvSpPr/>
          <p:nvPr/>
        </p:nvSpPr>
        <p:spPr>
          <a:xfrm>
            <a:off x="1071720" y="4143240"/>
            <a:ext cx="2736720" cy="5716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заимопонима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Rectangle 27"/>
          <p:cNvSpPr/>
          <p:nvPr/>
        </p:nvSpPr>
        <p:spPr>
          <a:xfrm>
            <a:off x="5214960" y="4929120"/>
            <a:ext cx="2736720" cy="5716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рань. крик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Rectangle 28"/>
          <p:cNvSpPr/>
          <p:nvPr/>
        </p:nvSpPr>
        <p:spPr>
          <a:xfrm>
            <a:off x="571680" y="4857840"/>
            <a:ext cx="2736720" cy="6429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овместно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ремяпровожде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Rectangle 29"/>
          <p:cNvSpPr/>
          <p:nvPr/>
        </p:nvSpPr>
        <p:spPr>
          <a:xfrm>
            <a:off x="5857920" y="5786280"/>
            <a:ext cx="2736720" cy="6429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отиворечия в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ребованиях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Rectangle 30"/>
          <p:cNvSpPr/>
          <p:nvPr/>
        </p:nvSpPr>
        <p:spPr>
          <a:xfrm>
            <a:off x="285840" y="5786280"/>
            <a:ext cx="2736720" cy="6429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ддержка и помощ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9" name="Picture 17" descr=""/>
          <p:cNvPicPr/>
          <p:nvPr/>
        </p:nvPicPr>
        <p:blipFill>
          <a:blip r:embed="rId3"/>
          <a:stretch/>
        </p:blipFill>
        <p:spPr>
          <a:xfrm>
            <a:off x="2643120" y="1357200"/>
            <a:ext cx="3405240" cy="25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Verdana"/>
              </a:rPr>
              <a:t>Вредные наклонности родителе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214200" y="2492280"/>
            <a:ext cx="2424240" cy="245592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232" name="AutoShape 6"/>
          <p:cNvSpPr/>
          <p:nvPr/>
        </p:nvSpPr>
        <p:spPr>
          <a:xfrm rot="20854200">
            <a:off x="2841480" y="2125800"/>
            <a:ext cx="1163880" cy="485640"/>
          </a:xfrm>
          <a:prstGeom prst="rightArrow">
            <a:avLst>
              <a:gd name="adj1" fmla="val 50000"/>
              <a:gd name="adj2" fmla="val 48231"/>
            </a:avLst>
          </a:prstGeom>
          <a:solidFill>
            <a:srgbClr val="b8e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7"/>
          <p:cNvSpPr/>
          <p:nvPr/>
        </p:nvSpPr>
        <p:spPr>
          <a:xfrm rot="21375600">
            <a:off x="2782800" y="3114360"/>
            <a:ext cx="1312920" cy="485640"/>
          </a:xfrm>
          <a:prstGeom prst="rightArrow">
            <a:avLst>
              <a:gd name="adj1" fmla="val 50000"/>
              <a:gd name="adj2" fmla="val 48225"/>
            </a:avLst>
          </a:prstGeom>
          <a:solidFill>
            <a:srgbClr val="b8e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AutoShape 8"/>
          <p:cNvSpPr/>
          <p:nvPr/>
        </p:nvSpPr>
        <p:spPr>
          <a:xfrm rot="424200">
            <a:off x="2882880" y="4073040"/>
            <a:ext cx="1222560" cy="486000"/>
          </a:xfrm>
          <a:prstGeom prst="rightArrow">
            <a:avLst>
              <a:gd name="adj1" fmla="val 50000"/>
              <a:gd name="adj2" fmla="val 48191"/>
            </a:avLst>
          </a:prstGeom>
          <a:solidFill>
            <a:srgbClr val="b8e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29040" y="198900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рушение сна у дете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4357800" y="2924280"/>
            <a:ext cx="45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бёнок капризный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дражительны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429080" y="392904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ронхиты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болевания сердц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4357800" y="4797360"/>
            <a:ext cx="45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ети плохо развиты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зическ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психичес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AutoShape 13"/>
          <p:cNvSpPr/>
          <p:nvPr/>
        </p:nvSpPr>
        <p:spPr>
          <a:xfrm rot="1231800">
            <a:off x="2757600" y="5075280"/>
            <a:ext cx="1330200" cy="485640"/>
          </a:xfrm>
          <a:prstGeom prst="rightArrow">
            <a:avLst>
              <a:gd name="adj1" fmla="val 50000"/>
              <a:gd name="adj2" fmla="val 48213"/>
            </a:avLst>
          </a:prstGeom>
          <a:solidFill>
            <a:srgbClr val="b8e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аливание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стойчивости организма к неблагоприятному воздействию ряда факторов окружающей среды путём систематического кратковременного воздействия на организм этих же факторов в малой доз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785880" y="2428920"/>
            <a:ext cx="7632720" cy="574560"/>
          </a:xfrm>
          <a:prstGeom prst="roundRect">
            <a:avLst>
              <a:gd name="adj" fmla="val 16667"/>
            </a:avLst>
          </a:prstGeom>
          <a:solidFill>
            <a:srgbClr val="bae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трастное воздушное закалива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785880" y="3429000"/>
            <a:ext cx="7632720" cy="574560"/>
          </a:xfrm>
          <a:prstGeom prst="roundRect">
            <a:avLst>
              <a:gd name="adj" fmla="val 16667"/>
            </a:avLst>
          </a:prstGeom>
          <a:solidFill>
            <a:srgbClr val="ffff9e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ождение босиком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AutoShape 6"/>
          <p:cNvSpPr/>
          <p:nvPr/>
        </p:nvSpPr>
        <p:spPr>
          <a:xfrm>
            <a:off x="785880" y="4286160"/>
            <a:ext cx="7632720" cy="5749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трастный душ (обливание ног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785880" y="5286240"/>
            <a:ext cx="7632720" cy="574920"/>
          </a:xfrm>
          <a:prstGeom prst="roundRect">
            <a:avLst>
              <a:gd name="adj" fmla="val 16667"/>
            </a:avLst>
          </a:prstGeom>
          <a:solidFill>
            <a:srgbClr val="c6f07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лоскание горла прохладной водо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3"/>
          <p:cNvSpPr/>
          <p:nvPr/>
        </p:nvSpPr>
        <p:spPr>
          <a:xfrm>
            <a:off x="642960" y="500040"/>
            <a:ext cx="792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Arial"/>
              </a:rPr>
              <a:t>Современные здоровьесберегающие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Arial"/>
              </a:rPr>
              <a:t>технологии в детском саду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7" name="Picture 6" descr="физра2"/>
          <p:cNvPicPr/>
          <p:nvPr/>
        </p:nvPicPr>
        <p:blipFill>
          <a:blip r:embed="rId1"/>
          <a:stretch/>
        </p:blipFill>
        <p:spPr>
          <a:xfrm>
            <a:off x="2214720" y="3000240"/>
            <a:ext cx="4578120" cy="343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0" y="928800"/>
            <a:ext cx="89298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Здоровьесберегающая технология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ru-RU" sz="40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428760" y="642960"/>
            <a:ext cx="8501040" cy="54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здоровьесбережения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сохранение здоровья детей и повышение двигательной активности и умственной работоспособности;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создание адекватных условий для развития, обучения, оздоровления детей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создание положительного эмоционального настроя и снятие психоэмоционального напряжен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0" y="0"/>
            <a:ext cx="9144000" cy="51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495360" indent="-495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Здоровьесберегающие образовательные технологии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495360" indent="-495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495360" indent="-495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495360" indent="-495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Прямоугольник 2"/>
          <p:cNvSpPr/>
          <p:nvPr/>
        </p:nvSpPr>
        <p:spPr>
          <a:xfrm>
            <a:off x="785880" y="2071800"/>
            <a:ext cx="7715160" cy="642960"/>
          </a:xfrm>
          <a:prstGeom prst="rect">
            <a:avLst/>
          </a:prstGeom>
          <a:solidFill>
            <a:srgbClr val="bae3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логии сохранения и стимулирования здоровь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785880" y="3143160"/>
            <a:ext cx="7715160" cy="9144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логии обучения здоровому образу жизн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Прямоугольник 4"/>
          <p:cNvSpPr/>
          <p:nvPr/>
        </p:nvSpPr>
        <p:spPr>
          <a:xfrm>
            <a:off x="785880" y="4429080"/>
            <a:ext cx="7715160" cy="914400"/>
          </a:xfrm>
          <a:prstGeom prst="rect">
            <a:avLst/>
          </a:prstGeom>
          <a:solidFill>
            <a:srgbClr val="ffcdfb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рекционные технолог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214200" y="214200"/>
            <a:ext cx="862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Технологии сохранения и стимулировани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214200" y="1785960"/>
            <a:ext cx="864396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инамические паузы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движные и спортивные игры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елаксация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имнастика пальчиковая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имнастика для глаз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имнастика дыхательная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инамическая гимнас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к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0" y="0"/>
            <a:ext cx="9144000" cy="77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Коррекционные   технологии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отерапи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сочная терапи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рт –терапи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у-Джок терапи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узыкотерапи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воздействия цветом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ерапия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ерапия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роионотерапия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ние «люстрой Чижевского», «оживляет» воздух, удаляет из атмосферы пыль и микроорганизмы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7" name="Picture 6" descr="24"/>
          <p:cNvPicPr/>
          <p:nvPr/>
        </p:nvPicPr>
        <p:blipFill>
          <a:blip r:embed="rId1"/>
          <a:stretch/>
        </p:blipFill>
        <p:spPr>
          <a:xfrm>
            <a:off x="5500800" y="114300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4"/>
          <p:cNvSpPr/>
          <p:nvPr/>
        </p:nvSpPr>
        <p:spPr>
          <a:xfrm>
            <a:off x="285840" y="1357200"/>
            <a:ext cx="83581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ребенка превыше всего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земли не заменит его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не купишь, никто не продаст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берегите, как сердце, как глаз!!!</a:t>
            </a:r>
            <a:br>
              <a:rPr sz="4400"/>
            </a:b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357120" y="1285920"/>
            <a:ext cx="8358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e2e00"/>
                </a:solidFill>
                <a:latin typeface="Times New Roman"/>
              </a:rPr>
              <a:t>«Детям совершенно так же, как и взрослым, хочется быть здоровыми и сильными, только дети не знают, что для этого надо делать. Объясни им, и они будут беречься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Януш Корча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0" y="500040"/>
            <a:ext cx="9144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каждая из рассмотренных технологий имеет оздоровительную направленность, а используемая в комплексе здоровьесберегающая деятельность в итоге формирует у ребёнка привычку к здоровому образу жизни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Спасибо за внимание!!!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3"/>
          <p:cNvSpPr/>
          <p:nvPr/>
        </p:nvSpPr>
        <p:spPr>
          <a:xfrm>
            <a:off x="500040" y="642960"/>
            <a:ext cx="814392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Здоровь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это состояние полного физического, психического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 социального благополучия, а не просто отсутствие болезней ил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изических дефектов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(Всемирная организация здравоохранения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713880"/>
            <a:ext cx="8244000" cy="10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акторы, 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ияющие на здоровье ребёнк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9" name="Содержимое 3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Овал 1"/>
          <p:cNvSpPr/>
          <p:nvPr/>
        </p:nvSpPr>
        <p:spPr>
          <a:xfrm>
            <a:off x="3286080" y="2643120"/>
            <a:ext cx="2286000" cy="178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доровье ребёнка зависит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Овал 3"/>
          <p:cNvSpPr/>
          <p:nvPr/>
        </p:nvSpPr>
        <p:spPr>
          <a:xfrm rot="417600">
            <a:off x="672840" y="1599840"/>
            <a:ext cx="2928960" cy="18572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алива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Овал 5"/>
          <p:cNvSpPr/>
          <p:nvPr/>
        </p:nvSpPr>
        <p:spPr>
          <a:xfrm>
            <a:off x="3143160" y="785880"/>
            <a:ext cx="2643120" cy="192888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жим дн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Овал 6" descr=""/>
          <p:cNvPicPr/>
          <p:nvPr/>
        </p:nvPicPr>
        <p:blipFill>
          <a:blip r:embed="rId1"/>
          <a:stretch/>
        </p:blipFill>
        <p:spPr>
          <a:xfrm>
            <a:off x="5267160" y="1627200"/>
            <a:ext cx="2754360" cy="1933560"/>
          </a:xfrm>
          <a:prstGeom prst="rect">
            <a:avLst/>
          </a:prstGeom>
          <a:ln w="0">
            <a:noFill/>
          </a:ln>
        </p:spPr>
      </p:pic>
      <p:sp>
        <p:nvSpPr>
          <p:cNvPr id="184" name="Овал 7"/>
          <p:cNvSpPr/>
          <p:nvPr/>
        </p:nvSpPr>
        <p:spPr>
          <a:xfrm>
            <a:off x="5214960" y="3429000"/>
            <a:ext cx="2714760" cy="1987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улка на свежем воздух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Овал 8" descr=""/>
          <p:cNvPicPr/>
          <p:nvPr/>
        </p:nvPicPr>
        <p:blipFill>
          <a:blip r:embed="rId2"/>
          <a:stretch/>
        </p:blipFill>
        <p:spPr>
          <a:xfrm>
            <a:off x="3054240" y="4267080"/>
            <a:ext cx="2681280" cy="2183040"/>
          </a:xfrm>
          <a:prstGeom prst="rect">
            <a:avLst/>
          </a:prstGeom>
          <a:ln w="0">
            <a:noFill/>
          </a:ln>
        </p:spPr>
      </p:pic>
      <p:sp>
        <p:nvSpPr>
          <p:cNvPr id="186" name="Овал 9"/>
          <p:cNvSpPr/>
          <p:nvPr/>
        </p:nvSpPr>
        <p:spPr>
          <a:xfrm rot="21275400">
            <a:off x="585360" y="3273120"/>
            <a:ext cx="2857680" cy="1949400"/>
          </a:xfrm>
          <a:prstGeom prst="ellipse">
            <a:avLst/>
          </a:prstGeom>
          <a:solidFill>
            <a:srgbClr val="ff99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приятная обстановка в семь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over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Verdana"/>
              </a:rPr>
              <a:t>Режим дня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181080" y="764640"/>
            <a:ext cx="9577440" cy="16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птимально сочетаемые периоды бодрствования и сна дете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суток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дисциплинирует детей, приучает к определённому ритм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16"/>
          <p:cNvSpPr/>
          <p:nvPr/>
        </p:nvSpPr>
        <p:spPr>
          <a:xfrm>
            <a:off x="1000080" y="2071800"/>
            <a:ext cx="7632720" cy="574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Сон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17"/>
          <p:cNvSpPr/>
          <p:nvPr/>
        </p:nvSpPr>
        <p:spPr>
          <a:xfrm>
            <a:off x="971640" y="2852640"/>
            <a:ext cx="7632720" cy="5749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итание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соблюдение интервалов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971640" y="3573360"/>
            <a:ext cx="7632720" cy="57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Прогулк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AutoShape 19"/>
          <p:cNvSpPr/>
          <p:nvPr/>
        </p:nvSpPr>
        <p:spPr>
          <a:xfrm>
            <a:off x="971640" y="4365720"/>
            <a:ext cx="7632720" cy="574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Деятельность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ознавательная, художественная, музыкальная и др.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AutoShape 20"/>
          <p:cNvSpPr/>
          <p:nvPr/>
        </p:nvSpPr>
        <p:spPr>
          <a:xfrm>
            <a:off x="971640" y="5084640"/>
            <a:ext cx="7632720" cy="5749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Отдых 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игра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AutoShape 21"/>
          <p:cNvSpPr/>
          <p:nvPr/>
        </p:nvSpPr>
        <p:spPr>
          <a:xfrm>
            <a:off x="971640" y="5877000"/>
            <a:ext cx="7632720" cy="5745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Двигательная активность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357120"/>
            <a:ext cx="8244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Verdana"/>
              </a:rPr>
              <a:t>Питание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364320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ие в рацион продуктов, богатых витаминами, минеральными соля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02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елко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4" descr="658722416"/>
          <p:cNvPicPr/>
          <p:nvPr/>
        </p:nvPicPr>
        <p:blipFill>
          <a:blip r:embed="rId1"/>
          <a:stretch/>
        </p:blipFill>
        <p:spPr>
          <a:xfrm>
            <a:off x="0" y="3286080"/>
            <a:ext cx="1211400" cy="1214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320126310"/>
          <p:cNvPicPr/>
          <p:nvPr/>
        </p:nvPicPr>
        <p:blipFill>
          <a:blip r:embed="rId2"/>
          <a:stretch/>
        </p:blipFill>
        <p:spPr>
          <a:xfrm>
            <a:off x="7715160" y="2714760"/>
            <a:ext cx="1182600" cy="1116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0"/>
          <p:cNvSpPr/>
          <p:nvPr/>
        </p:nvSpPr>
        <p:spPr>
          <a:xfrm>
            <a:off x="357120" y="5072040"/>
            <a:ext cx="1152720" cy="9874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творог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Rectangle 51"/>
          <p:cNvSpPr/>
          <p:nvPr/>
        </p:nvSpPr>
        <p:spPr>
          <a:xfrm>
            <a:off x="1643040" y="2786040"/>
            <a:ext cx="1081080" cy="9860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вощ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Rectangle 52"/>
          <p:cNvSpPr/>
          <p:nvPr/>
        </p:nvSpPr>
        <p:spPr>
          <a:xfrm>
            <a:off x="7072200" y="4143240"/>
            <a:ext cx="1079640" cy="9874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газ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вод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Rectangle 53"/>
          <p:cNvSpPr/>
          <p:nvPr/>
        </p:nvSpPr>
        <p:spPr>
          <a:xfrm>
            <a:off x="1143000" y="4000680"/>
            <a:ext cx="1079640" cy="9871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каш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Rectangle 54"/>
          <p:cNvSpPr/>
          <p:nvPr/>
        </p:nvSpPr>
        <p:spPr>
          <a:xfrm>
            <a:off x="6786720" y="2571840"/>
            <a:ext cx="1079280" cy="9874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чипс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Rectangle 56"/>
          <p:cNvSpPr/>
          <p:nvPr/>
        </p:nvSpPr>
        <p:spPr>
          <a:xfrm>
            <a:off x="7572240" y="5214960"/>
            <a:ext cx="1079640" cy="9856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осиск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5000760" y="114300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держат красители, усилители вкуса, ароматизаторы…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06" name="Прямая со стрелкой 23"/>
          <p:cNvCxnSpPr/>
          <p:nvPr/>
        </p:nvCxnSpPr>
        <p:spPr>
          <a:xfrm flipH="1">
            <a:off x="2071080" y="784800"/>
            <a:ext cx="1215000" cy="5720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7" name="Прямая со стрелкой 25"/>
          <p:cNvCxnSpPr/>
          <p:nvPr/>
        </p:nvCxnSpPr>
        <p:spPr>
          <a:xfrm>
            <a:off x="5785920" y="785520"/>
            <a:ext cx="1143720" cy="5007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208" name="Рисунок 29" descr="pitanie2_jpg.jpg"/>
          <p:cNvPicPr/>
          <p:nvPr/>
        </p:nvPicPr>
        <p:blipFill>
          <a:blip r:embed="rId3"/>
          <a:stretch/>
        </p:blipFill>
        <p:spPr>
          <a:xfrm>
            <a:off x="2643120" y="1857240"/>
            <a:ext cx="4429080" cy="45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Verdana"/>
              </a:rPr>
              <a:t>Прогулк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104320" cy="15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эффективный вид отдыха. Способствует повышению сопротивляемости организма и закаливает ег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Picture 8" descr="D:\ДокументыD\Моя работа\Фото\Фото средняя группа\Зимние забавы\P1170100.JPG"/>
          <p:cNvPicPr/>
          <p:nvPr/>
        </p:nvPicPr>
        <p:blipFill>
          <a:blip r:embed="rId1"/>
          <a:stretch/>
        </p:blipFill>
        <p:spPr>
          <a:xfrm>
            <a:off x="1714680" y="2428920"/>
            <a:ext cx="535752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2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Verdana"/>
              </a:rPr>
              <a:t>Физические занятия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0" y="1124640"/>
            <a:ext cx="889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ают работоспособность, повышают физические качества, стимулируют обмен веществ и работу разных систем организма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17751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школьном возрасте основная задача физических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й — совершенствование у детей таких естественных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й, как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755640" y="2852640"/>
            <a:ext cx="7632720" cy="574920"/>
          </a:xfrm>
          <a:prstGeom prst="roundRect">
            <a:avLst>
              <a:gd name="adj" fmla="val 16667"/>
            </a:avLst>
          </a:prstGeom>
          <a:solidFill>
            <a:srgbClr val="ad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одьб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755640" y="3573360"/>
            <a:ext cx="7632720" cy="57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ег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755640" y="4365720"/>
            <a:ext cx="7632720" cy="574560"/>
          </a:xfrm>
          <a:prstGeom prst="roundRect">
            <a:avLst>
              <a:gd name="adj" fmla="val 16667"/>
            </a:avLst>
          </a:prstGeom>
          <a:solidFill>
            <a:srgbClr val="c4ee6b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ыжк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826920" y="5157720"/>
            <a:ext cx="7632720" cy="5749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ни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AutoShape 10"/>
          <p:cNvSpPr/>
          <p:nvPr/>
        </p:nvSpPr>
        <p:spPr>
          <a:xfrm>
            <a:off x="826920" y="5950080"/>
            <a:ext cx="7632720" cy="574560"/>
          </a:xfrm>
          <a:prstGeom prst="roundRect">
            <a:avLst>
              <a:gd name="adj" fmla="val 16667"/>
            </a:avLst>
          </a:prstGeom>
          <a:solidFill>
            <a:srgbClr val="d5e0e7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вижения на равновес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User</cp:lastModifiedBy>
  <dcterms:modified xsi:type="dcterms:W3CDTF">2017-12-02T16:46:12Z</dcterms:modified>
  <cp:revision>55</cp:revision>
  <dc:subject/>
  <dc:title>Слайд 1</dc:title>
</cp:coreProperties>
</file>