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206-22B4-48B2-B36F-3A52256E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D07-58E7-4EEF-9255-6410EC3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25AA6-C8A3-48FF-B0D4-FB1B7DC7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64A2-B835-4FF6-A9D0-3E63E592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F8411-1D85-4E8D-B7FF-06EC37C9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6F83F-17FF-469B-A727-AA92F39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45EF-D746-41A8-9376-C0D3BA78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2B1AF-6C70-4AF8-8356-2E578AFD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1B6D7-E319-4B3E-8A7E-2206782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C3EA-F3EE-41F2-88BB-A600FD8C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07778-3072-4EA0-8585-4025AF72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E431-3266-41B3-B706-DCD62775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B28-E7EB-435B-B66B-A262E8C1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2690D-688B-49DD-AAF5-41D3BBF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8D09-09AA-4A7A-9E0B-B7DD9A31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FD227-3577-4204-896E-CDA29AC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9F24-9C33-4D0E-B8B0-81D609C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6E20-24FB-430D-BF5C-BDBF8CF9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49F72-EAF2-4B1F-A56C-E0DD84E4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6E029-D6DE-41C3-872C-635094B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4EA8A-80CA-45C6-84D6-0DA5318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EE09-B3DF-4698-9E0F-EC8EBA5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22EB4-6F6A-4298-892C-4E787EFE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B16-2B6B-4073-817C-60A71B25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C6658-EA5C-4C2E-9E28-A0322EE5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5A63-9306-42BB-88FB-8DC300E1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49FBD-B0B0-4B1E-99C7-04703A70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F2FB-D89B-4CAC-8735-632ABE47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E06F4-CEFB-4A29-A687-A548259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C112-D9EE-4660-AE0F-2F9D96D2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748B9-C40F-4ADF-80B0-C8A2F967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BD80-FFFD-4A03-9B95-618EE94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F3AB-A198-4C92-B32F-9FC0F3A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F5AD-DEF7-4FF9-995A-FD4A32E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5D21-3B9F-4B60-A93F-76EBCC84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6114-CD7E-475D-9654-FC26749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DA169-7B18-4DD6-BBE1-E7228E17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C1433-FDA7-493C-A764-22EB53F7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C6B28-75A0-4A4A-BDE9-15EDC1AF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EAAB0-086D-4850-AFB6-626F845F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9C881-37A8-4380-BCD2-A841CE05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A7E0-A586-4EF7-AD50-D31ACB9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AA161-BD13-4E12-BA14-C75FFFF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0B3C6-2B70-464C-B4DB-4AFF0CBA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C97D7-9352-4315-98F9-1BF9B21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7CF-7141-4E34-96A6-E0690460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33E5F-79B7-4CE2-AFA1-F984175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98B5B-866B-4CB5-BD7B-1497C67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A9E09-814E-4B29-AC7A-8BEB566D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AFF59-C162-4557-BBDD-6FE7016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19B43-70A2-42C7-AFE8-C0CE5724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64A15-A122-4A88-9919-A842229C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326F5-1867-47D4-9465-DD6FF07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F921B-CC13-4AC2-AB59-94D0FC0F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3BA31-B2EB-4823-A944-B9B61B7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CE78A-835B-4985-81B3-A91D1AF9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2B51-4898-4280-976A-E969B236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97459-D226-4475-B3F5-547302B4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0D5DA-52FD-4E82-ACDA-1BA791D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5E6A5-485F-4565-8FA3-EA4FD5E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139DD-4918-4D13-AB14-3769F11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58B11-D92D-47E4-B67E-EFDF1ABD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DCDF7-03FA-4233-B396-5D5862C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ADB95-8213-470A-91AD-34B7DDB5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E65F3-EA2A-4EFF-BECD-60A09403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76CD7-A0DE-4511-8A5F-BD12F7F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53CD8-A306-4E70-9B88-8DEADA8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03F-AA00-407A-BFB3-EDE0DC9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1A9AF-0882-494A-A276-213351DE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B3ED6-8872-4551-89BE-3C67D191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F4C39-5504-417E-8BC7-AB328BC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96FEC-61D4-4CED-B148-79D6CC6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1FC59-B0E9-480F-A123-E73EE0C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6EAF2-CF4B-42A1-A78B-613C06E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483C0-2456-490E-A290-9656205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5CD19-D3D5-4ED2-935B-6BB834B9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A9EFF-4306-4DD3-8172-7DFCA103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AF763-4FB9-4272-965E-70550C61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9C1-3B87-45D6-B2C4-18EC388D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C3436-5C20-40D7-A23B-7B5240CA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A70C5-ACD5-4D6B-B45F-F8357D8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AEB7D-C3B9-4116-9B8A-AFA5F8B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78A47-25B2-4590-BE24-7CD8F767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E5D2E-B176-4C2A-A337-0EE970E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28EEF-5BA3-4763-B1C4-562295B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7EAD7-4503-4381-BDC4-4E36630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4F73A-D015-4C36-A5C3-33CEC84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B8524-7109-4C6A-B157-77571882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D104C-6128-4A97-9EF7-6B12140F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E752-E421-4B85-A47C-63BEDC38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B1053-4FD2-40D8-A116-49EB26B8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DF440-23CE-4B10-AEC5-4050E815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70C83-10F8-4534-B13E-9D9185B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5B99E-009B-4A54-A2EF-F35F5B1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D148E-2980-4A8E-A74B-7D5DDFD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170BA-F016-451A-9680-23ECC656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37BA8-8FC7-4746-8B21-63E3F08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6AF5A-C496-4681-A6E5-7915A10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7BB65-A153-4E61-9D78-0395141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64BFE-FD3B-44B7-8F65-94DCF1F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2DE-A1F8-4F01-9364-8036519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83A5E-9BCB-4347-B875-015AE11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6B2E5-A9DE-44D2-A482-7FCE2D39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58513-482E-4CDF-B477-CD8974B7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E94CD-A23E-4601-B48B-B83942E2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666E2-9B3C-4488-903A-9D361EF8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4117B-4FC1-4F34-98A3-BFC4EDA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6D76D-92AB-4763-AD1F-629C012F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4296E-6A24-4B9F-9ECE-42F4CCE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23B4B-F254-49B3-9F4E-0FC9693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0FD97-9B06-4406-A277-7A35753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B10-DA3D-4F03-A58F-D89A5144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8DE-1972-4E23-868D-765C0F0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18405-F747-4BF4-87B1-49ABEB1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813CF-055F-4457-964E-711AE97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6EE43-9C23-43DE-95E7-5E8210C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5FC50-A701-4FFD-9B79-72137DF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E1802-6D76-4F7E-9775-D005BC29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21323-5CE7-4069-8B6F-34AA6F73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2EC44-0650-4681-9634-2B8C808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23096-2115-425E-BF9D-0CD37D0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09B71-5604-4DE8-BAC5-18E2E360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CC946-6529-4F99-B05B-F406333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520-3B5A-406B-80A5-71E48F7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5089E-8CD7-4F49-B154-3D0794C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5428B-2EC6-495A-867E-EED9775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85194-A9C1-4DA9-8A0C-6050E2F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A7A90-C3BD-486C-8611-E48962E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DBB59-BAE7-4FC9-8385-E3EF854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57924-CC89-4AFF-9546-19EB1100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CDD07-6477-4080-9C5F-CED75DF5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95DDE-52F0-4321-84D3-9039C010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80207-D3BC-4245-8429-3558ED5B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2F623-AD31-4E8B-A851-DDB2B532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1815-4E6D-41CD-A65D-BCA0B612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C31A3-C014-486B-BB1D-C24C55B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1F17F-82E9-44F5-8825-958677A7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D75C3-69B4-48CA-91B8-41C0F64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058A5-3611-4E8A-8846-88A7CB9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5AE9D3-4CA9-4BBB-9205-F9D8375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B59DC-5690-4202-AAE9-EF33536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72C3D-310B-4F57-A33C-104FCC9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D3D60-30D6-4540-98BC-B58B5826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00007-7640-427D-A159-69D31E72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BE94C-585D-4F2E-8D3E-DDAEEF6A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3034-E215-43AE-AFC1-BFB6468C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06E29-40A4-4DFA-934B-F5358ED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26004-B0AF-4315-8485-7E1EBFFE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D3248-9EC7-4560-8D24-D9AFB9ED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A6DFD-6A96-4591-8D89-7B48E5F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894A8-6EE7-4A3D-A143-D0F336B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E1DAD-0C35-48E4-BB40-4C36692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54ACD-963D-4B29-8B6E-0C46E73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D57EE-6A0C-437D-BE6C-16DEE41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9906D-4574-4AE7-9EE6-29A667B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4728E-863B-4EAE-9CD5-71188B41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8748-709D-445D-A688-8D48A0E0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47C83-F7E4-4E71-A9A7-AA2028B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402CA-B93C-4180-9BF2-CD3CA74D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E515A-A381-4F28-BB7B-6327587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BC3B5-6998-4D6A-B3FB-BAA4044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DEE6F-BFFA-4321-B713-8B7F9F3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7456C-4FA6-48CD-B672-068F092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06FCD-89E5-4A3C-9C67-A0ACA8D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75A2E-26C8-4670-94E9-010D755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E62F1-7A0F-4CD8-B081-23401C2A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62C29-F6E0-43C4-AA27-6277106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DC0C-6096-4F22-B140-360D2BC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FE5DF-AD58-4A6D-8E82-41159F37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363CB-C5E1-433E-8F40-7D5E9A9E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AA9D9-3CCF-4C37-809A-82C2740B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6C3CD-4EE2-4C59-8416-D14A5C68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2CF01-2FF7-4248-AA65-7D6D45D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C9CBF-7356-41A6-BA53-6EEC388B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479B8-CF89-4010-9025-1883EEC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C5C2B-8715-4CE4-87CA-B569CE5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32152-E4A3-4324-A927-91B7C76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1A3A6-22DD-4B91-8DCD-1EEDD7B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FF71-C56D-44CC-A23F-5CA939E8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0657C-27A6-46DF-AD0B-4F2D333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845FD-106C-462F-9118-F31E27B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B1927E-39B2-4C28-9BCE-5AEEFB3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76A5B-EDBA-433B-9E45-694CFE43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36CA1-1372-43A6-9FE1-567A5D54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71030-8D70-46C1-B148-04EB4BFA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5769DD-D1D8-46B1-B045-FAACE22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70855-6356-4A82-B546-AC488950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C448A-8E5C-445A-90C9-8DCF0649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804C4-EA68-4B37-AA52-33E337F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DC16-1E1C-4B77-9267-2E92F63E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2C0EFE-3D78-4E6E-8FCF-3504C5C9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F7921B-E9C2-4C96-B064-071A3864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AF4B34-D57D-4DD7-BAE5-0E81562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90758-7A16-4E44-ADDC-F3FBF688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41244-3806-47D8-BFD4-024FD21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1D832F-A810-4C96-A0C8-06F195D9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EA778-E802-48C0-8F32-82585509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76F780-BB5E-4086-AA88-C2927502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B548D1-DDCD-4110-95D4-804DC8F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B6FE33-E672-4331-B62C-50C80B7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E484-2DEB-49CD-AFFD-C79DBBE6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557E77-FFB4-428C-8046-776C2BCA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A9C84D-DAA5-4F9C-926D-E60158F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1D59FF-9622-414E-A421-50F075C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B6E6B2-E399-49D6-BC3A-2B8C5B3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FBA017-DB3F-41BD-A909-85A9418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8C5ECA-3A86-419E-964A-EF52C3D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942976-1AF2-4913-8854-EF0FEF9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38C36-4694-40B1-9E4F-4E63651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0F00DE-B19D-43E6-8F5D-D482864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8D71F-3B60-408B-A8E2-BA83FA39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752F-8FF4-4DAD-94FA-D638E53A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D75C10-F889-40E1-B9CE-A3F5153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956D16-3949-4C71-B1E5-85A024CC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7A0E45-3930-494C-90A3-B4F2F25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7CBF24-E643-4F91-8C3E-96E20BB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44CDF-C98A-49F1-A790-41E5317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70BD70-9AED-4538-B69E-C703A9A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AA8BC4-CF84-41F8-841C-B2B9E567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27F090-A686-4769-82F1-ADEFBC8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49C66-8362-423F-990D-8ACB2D69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60926-D19A-4F9F-A9A6-DA086BFF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17C-9318-4682-87B8-19DD191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D8DF-AFC5-4809-A2F1-1B717769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E61EE-4A08-4464-9C76-4D074826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26B0C-45A9-40D0-AD26-F5BDFAD2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271CDF-37C0-4208-83E4-EB984D2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C55714-6375-41E6-85C3-F2BB60AD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FB8FE1-9E70-464E-8B83-1C6F0E4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00130F-110F-4010-BF7C-34CCE024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7990C-0269-4619-84F4-C6A558A7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47A1C-444D-4001-9050-D756CCA9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7B21AE-85A9-49EA-8BA1-1B1A24A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1E807D-B8B6-4DDE-96A0-F78FBE9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6636-18C8-4B99-8D6B-57E503E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12A4FE-4378-465B-A72E-50C28B81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51FCC1-C32B-4D54-9DF7-B6594BBB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CA4808-9A0F-4B03-AF73-FADB8258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EADFB0-8E11-43B0-8778-6371A22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6D5F20-E161-43CD-8224-DD80418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6B19AF-1082-41CC-95F5-B8C7507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4CC71C-9A19-4E1B-B5AB-BF1088BC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0296E-5FE4-40D8-A889-00B4E93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ED60AE-7694-4DFE-A716-1C8BE082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73A4D-32B3-4DC2-8DB6-DD29991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56D8-7F84-4158-BE61-2B06FA9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60A40B-3D1D-4F0A-93B9-DF46E84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70C3BD-C251-4B6B-BF82-17A305B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2D64B4-4549-4B79-9DFF-4E5DAE4A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2732DA-E62C-415E-AF21-DF2DBE98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B67986-F0CB-4988-9138-52FA7B15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356DFD-4D39-4EAE-9333-E334DA57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A3119F-D4DB-4452-912C-5AFA0D4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FFA64-18B8-4EE9-832A-6EE2801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61A157-9ECC-4548-867E-EAC3747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C8A3DB-F32E-4888-8A1F-546F93D7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9929-2F6E-4CB3-909C-0059C3D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0DBCD-1EA3-492D-A4DA-AA023AA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121585-694E-4910-9660-B475F319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33ADC0-5EFC-46D9-A8F8-2BAF533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A866DC-DD46-403C-9C48-FE97A7B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733FDB-5A7A-4FDC-835E-1983D9EC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4DF17-B2D8-4DAE-9B67-D9A7097B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02223F-DEED-4AFB-B615-1BC53EB7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24993B-08D9-4377-886C-61097B77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0B4A33-ACC2-4778-BDAB-90DC370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636350-9F54-451D-854C-17AF132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60A3-36FA-4AA1-9A43-7146679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CC821D-0CF2-4A3B-B4B3-324CF4F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4AA9D-3A14-44D7-BA07-E87F841F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53BAC5-9F98-4EF8-A59D-53D92E7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E396F7-9678-44E3-9BB2-034596A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D09FC2-27CD-4806-B058-ABF4BB8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60912E-110D-4123-BA75-BE9EBB2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3EE801-B20F-4826-BD94-A7E64D1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76C97A-F6D8-47D5-B07C-57E9AC09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46F1F3-04A4-4E2D-A3E3-9652D6F1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7213F1-692B-421E-96D5-E5D4E015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8E43-6026-4F34-B0A7-303F6144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420A4A-787D-47E2-A674-29BB4E6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1D2160-DCE7-42B3-8159-92D6287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9A5604-1309-4D77-80F7-A959210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3D898A-9540-4D83-B9E2-499DF8F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6AB386-8AD2-452C-A532-3A0D1185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31E83B-23D5-46C6-B187-D0B9427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A357DD-1FE0-468F-8DB7-2816FC6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14AB44-3016-4214-ADE3-83FE502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978FA-3C8F-4C56-8698-73E7059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BCD13A-0169-47CF-BE64-111E053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B585-66AA-4455-B689-0CEA75A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82717B-D80D-404B-8C70-7CE38458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43627D-3441-4BF7-9720-A855CF52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8662A-C836-4D1D-8869-7D55D6E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FE3C42-9489-4FBA-978E-D1E02E29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544E5F-6480-4968-910B-E4E4F65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2EF0C7-8432-4948-86EB-570A5BC2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280B75-E562-4E96-999C-FA40CD0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2D3CAB-151A-4829-90D6-D9AF684F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6BAB0-4B8E-4346-98F1-B82DE99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6708C8-3E8E-47C1-850A-920DA7A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D6B4-D572-49C6-A93F-A7C2EF03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33547F-7765-4E3E-8BDA-9A9EFD0B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CE5A26-47B2-4E87-9B13-8E11C128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8C85F5-60D9-418B-9CDA-DBC66CBD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F2C6-D74E-41B3-BD05-77332055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E735-8110-403D-832B-EC8D234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D1E-8474-4889-871B-C27158A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20A5-E1D2-47C5-A586-E731A5B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BECD-9176-40DD-85AA-7100ABB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6266-B2D0-4E51-9F33-14C1AEF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7587-CF5D-4AE6-AC6B-E95703D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E878-E906-47FB-A510-A027F42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45DB-62D8-4CC6-B861-12BC137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4941-63C4-429D-87C2-8551C79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03B7-40DC-4AB3-9D16-EEBEA59D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B06D-5890-4A80-837F-79C9E871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3DC9-04D0-4EBD-86C0-0273C8EF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F28-8BF1-40F9-B4AA-A0915A1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94D2-6B1A-45E8-A1EC-F6B2260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AB8C-4E67-49D8-A197-38C0F24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9DB7-A267-451C-8F35-D0C997F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DABC4-BCC0-43CE-921E-41F065C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3092-C4EE-4E50-A5EE-2F1FBE9E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2082-9F94-4D71-BEB6-D6EA178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F6C0-7C35-4C74-A556-C3425AE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6E71-321F-4ADB-A890-60FCEAB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DC6B-620D-4215-A27F-2C8E636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4ACC2-4CB3-4DDD-AE2F-4B5C702B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8A9-4268-40A0-AD03-BAB15E3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0B0B-E899-4BF1-827E-921F9A60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2CF3-A5D6-49DB-9671-B6C4F9A8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735B-91BC-410C-B6F4-8973D5E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431A-9705-437A-A685-01EA650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CE79-7F27-4613-8AEB-49124EF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8DBD-DE75-44BF-8372-2F6DE02D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EEA8-0056-4576-9099-AE42D7E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A883-6E87-47F4-A63C-71B5870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84988-D6F0-4459-A9D4-DDC91A7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6E44-98C7-4773-B8BD-FC482E2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31E-3179-44DB-B5F6-68B6FDF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5F0A-91FA-453C-AA5E-52C7FB76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40B9-13BA-4273-90EE-F6EC776C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C57A-09F9-4127-B1EB-606C67DE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2612-98DA-49D4-AA18-BE80211C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56C53-035A-42FF-BAE7-8D036009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3942-10D0-4C9D-9405-58CFAAC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241D1-1E19-4856-819B-E427335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3FE9F-366E-4550-9C8B-C719306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4EED-E54A-4812-BC8C-B7BCE44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11C1-0D86-415B-9B28-C7F76929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D7A-0E5E-46F0-98F0-925F8D8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996C-2F66-4C89-BDC8-43A2F01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8C12-8679-4730-B274-3118ADC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640B-AF91-4038-BEC9-6A7A16F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6F0E-76D7-4EC6-8019-DA1D9F2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D6B2-C827-4EE1-98AF-CF0BD26F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75F5B-E8A6-4E1E-A13E-698CA107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7569B-2005-4B86-B8FC-8368D773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063E-CA26-4FB9-B99F-F4A52768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0BE6-A460-430E-BED4-1ABC148F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4039-A0A7-4250-A63C-939D87E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707-2066-4932-91FC-6A40A49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12D5-CFD1-4BAE-A5F8-E1653D5E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04D77-80BD-42A6-827A-BF4FF04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85D2-9926-4273-8115-58C815A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19F8-D1FD-46AD-B820-960259F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318F-181D-4A5B-AEB2-DBEF83DA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1A2CC-B2BA-4300-8C9B-2EDE1D79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3F691-B063-431B-A4F5-14F47DD8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4E401-F0ED-46C7-8404-0CFE24DD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DA579-6264-4CD3-905F-3AFB42E4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513F-BAC6-4756-9479-B82A6543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E73-A37D-4F40-AFCB-E4D41940D1B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0FAA-680D-40D1-9E77-76A40531F075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D7E-88AD-43D9-8634-6A1534761ED9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47D-4FB0-42F3-930D-A141B167193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BFED-15F0-4459-A594-C2BE58BAA6F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185-A6B4-4E14-8699-AB5CCCE2D752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AF13-8A9B-4E25-BE22-089AE7244DA7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FB0-CEDD-44FD-A597-B6DAE7657D2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BEC8-CEC0-473B-9155-FCCEDC49232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C36-2287-4273-AF05-0EEAD4F28249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5E97-0FF2-4348-80DF-A521CBEEFF03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358-2A55-4028-B4D0-790E59391ED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AA53-6DE5-4502-B70B-E84A7C97CA4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A077-AC6A-4D5E-92A9-EF1E4A86636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949-683F-407B-AA40-97A195B61C2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5D01-2E01-41E3-9172-0FD3EBA2104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5F8-D937-4CA4-AA33-E275659B099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2F1-E6D2-4302-8398-1B18891E296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E9F2-013A-4E49-B254-A381DCC5476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B8C-28F6-4951-B2B6-C01CDFD1F08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1143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4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5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6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7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8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49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0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82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83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84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4D4-B76B-48D3-AF31-C9D5EDF816F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193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4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5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6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7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8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85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86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87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9F2-6F5B-48BF-980F-6CB7032AD1B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85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40D2-2093-448F-8936-18AE90D52F5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24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47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8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8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9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90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454-C62A-453C-9896-FA87B710A77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29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8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9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9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9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712C-214D-477D-AA55-CFD9EAAA840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3CE7-D616-4CA8-9AD3-DC05B479F0E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A8A-EBBB-4608-9AB7-CA678DF56653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857-FC32-4D8F-957B-6CFD37280937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7252-4873-44B8-BB49-452F12D8F23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7D10-CB36-46B4-A449-471E24B05102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D28-A9A9-4F46-BB2F-E7CC9C01A435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82800" y="6858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ff"/>
                </a:solidFill>
                <a:latin typeface="Corbel"/>
              </a:rPr>
              <a:t>                                      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0" lang="ru-RU" sz="72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ru-RU" sz="7200" spc="-1" strike="noStrike">
                <a:solidFill>
                  <a:srgbClr val="0000ff"/>
                </a:solidFill>
                <a:latin typeface="Corbel"/>
              </a:rPr>
              <a:t>Адаптация </a:t>
            </a:r>
            <a:br>
              <a:rPr sz="7200"/>
            </a:br>
            <a:r>
              <a:rPr b="0" lang="ru-RU" sz="7200" spc="-1" strike="noStrike">
                <a:solidFill>
                  <a:srgbClr val="0000ff"/>
                </a:solidFill>
                <a:latin typeface="Corbel"/>
              </a:rPr>
              <a:t>пятиклассников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Что предпринять?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2" name="Text Box 5"/>
          <p:cNvSpPr/>
          <p:nvPr/>
        </p:nvSpPr>
        <p:spPr>
          <a:xfrm>
            <a:off x="539640" y="2276640"/>
            <a:ext cx="8209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e1f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ahoma"/>
                <a:ea typeface="Arial"/>
              </a:rPr>
              <a:t>Если хотите, чтобы подростковый возраст прошел без осложнений, следует соблюдать следующие требования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Picture 4" descr="болезни"/>
          <p:cNvPicPr/>
          <p:nvPr/>
        </p:nvPicPr>
        <p:blipFill>
          <a:blip r:embed="rId1"/>
          <a:stretch/>
        </p:blipFill>
        <p:spPr>
          <a:xfrm>
            <a:off x="4403880" y="1700280"/>
            <a:ext cx="3265200" cy="489744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5" descr="бол"/>
          <p:cNvPicPr/>
          <p:nvPr/>
        </p:nvPicPr>
        <p:blipFill>
          <a:blip r:embed="rId2"/>
          <a:stretch/>
        </p:blipFill>
        <p:spPr>
          <a:xfrm>
            <a:off x="0" y="155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6"/>
          <p:cNvSpPr/>
          <p:nvPr/>
        </p:nvSpPr>
        <p:spPr>
          <a:xfrm>
            <a:off x="1116000" y="0"/>
            <a:ext cx="67690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У подростка в этом возрасте очень хрупкий организм, он может часто болеть, у него обостряются хронические заболевания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324000" y="4437000"/>
            <a:ext cx="28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Помогите организму ребенка справиться с перестройкой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7" name=""/>
          <p:cNvGraphicFramePr/>
          <p:nvPr/>
        </p:nvGraphicFramePr>
        <p:xfrm>
          <a:off x="324000" y="836640"/>
          <a:ext cx="8516880" cy="5710320"/>
        </p:xfrm>
        <a:graphic>
          <a:graphicData uri="http://schemas.openxmlformats.org/drawingml/2006/table">
            <a:tbl>
              <a:tblPr/>
              <a:tblGrid>
                <a:gridCol w="4581360"/>
                <a:gridCol w="1281240"/>
                <a:gridCol w="1280880"/>
                <a:gridCol w="13734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жимные моменты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-12 лет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(5-7 класс)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-14 лет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(8-9 класс)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5-16 лет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(10-11 класс)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дъем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Гимнастика, умывание, одевание, уборка постели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-8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-8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30-8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втрак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00-8.2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00-8.2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00-8.2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рога в школу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20-8.5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20-8.5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.20-8.5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чебные занятия в школе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.05-14.10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.05-14.10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.05-14.10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рога из школы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10-14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10-14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10-14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40-15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40-15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4.40-15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гулка на воздухе  (посещение кружков, секций)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5.10-16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5.10-17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5.10-16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готовление уроков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6.10-18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7.10-19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6.40-19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гулка на воздухе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8.10-19.1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.40-20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.40-20.4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жин, свободное время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.10-21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0.40-22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0.40-22.0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ечерний туалет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1.00-21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2.00-22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2.00-22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11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1.30-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2.30-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2.30-7.30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68" name="Rectangle 368"/>
          <p:cNvSpPr/>
          <p:nvPr/>
        </p:nvSpPr>
        <p:spPr>
          <a:xfrm>
            <a:off x="611280" y="189000"/>
            <a:ext cx="8064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Строго следите за соблюдением режима дня!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Text Box 5"/>
          <p:cNvSpPr/>
          <p:nvPr/>
        </p:nvSpPr>
        <p:spPr>
          <a:xfrm>
            <a:off x="395280" y="260280"/>
            <a:ext cx="84978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Не позволяйте злоупотреблять острой пищей, пить много кофе, есть много шоколада!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0" name="Picture 6" descr="пицца"/>
          <p:cNvPicPr/>
          <p:nvPr/>
        </p:nvPicPr>
        <p:blipFill>
          <a:blip r:embed="rId1"/>
          <a:stretch/>
        </p:blipFill>
        <p:spPr>
          <a:xfrm>
            <a:off x="250920" y="1341360"/>
            <a:ext cx="3673440" cy="276084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7" descr="острая пища"/>
          <p:cNvPicPr/>
          <p:nvPr/>
        </p:nvPicPr>
        <p:blipFill>
          <a:blip r:embed="rId2"/>
          <a:stretch/>
        </p:blipFill>
        <p:spPr>
          <a:xfrm>
            <a:off x="5219640" y="1341360"/>
            <a:ext cx="3751200" cy="281304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8" descr="кофе"/>
          <p:cNvPicPr/>
          <p:nvPr/>
        </p:nvPicPr>
        <p:blipFill>
          <a:blip r:embed="rId3"/>
          <a:stretch/>
        </p:blipFill>
        <p:spPr>
          <a:xfrm>
            <a:off x="900000" y="4292640"/>
            <a:ext cx="2497320" cy="256536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9" descr="шоколад"/>
          <p:cNvPicPr/>
          <p:nvPr/>
        </p:nvPicPr>
        <p:blipFill>
          <a:blip r:embed="rId4"/>
          <a:stretch/>
        </p:blipFill>
        <p:spPr>
          <a:xfrm>
            <a:off x="5292720" y="4264200"/>
            <a:ext cx="3457440" cy="2593800"/>
          </a:xfrm>
          <a:prstGeom prst="rect">
            <a:avLst/>
          </a:prstGeom>
          <a:ln w="0">
            <a:noFill/>
          </a:ln>
        </p:spPr>
      </p:pic>
      <p:sp>
        <p:nvSpPr>
          <p:cNvPr id="1374" name="Line 10"/>
          <p:cNvSpPr/>
          <p:nvPr/>
        </p:nvSpPr>
        <p:spPr>
          <a:xfrm flipH="1">
            <a:off x="611280" y="1268280"/>
            <a:ext cx="7632720" cy="532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5" name="Line 11"/>
          <p:cNvSpPr/>
          <p:nvPr/>
        </p:nvSpPr>
        <p:spPr>
          <a:xfrm>
            <a:off x="539640" y="1197000"/>
            <a:ext cx="8280360" cy="547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Характерные черты поведения подростк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7" name="AutoShape 6"/>
          <p:cNvSpPr/>
          <p:nvPr/>
        </p:nvSpPr>
        <p:spPr>
          <a:xfrm>
            <a:off x="395280" y="1989000"/>
            <a:ext cx="3456000" cy="100836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Часами разговаривают по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лефон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8" name="AutoShape 8"/>
          <p:cNvSpPr/>
          <p:nvPr/>
        </p:nvSpPr>
        <p:spPr>
          <a:xfrm>
            <a:off x="395280" y="3573360"/>
            <a:ext cx="3456000" cy="10080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одолжительно смотря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левизор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9" name="AutoShape 9"/>
          <p:cNvSpPr/>
          <p:nvPr/>
        </p:nvSpPr>
        <p:spPr>
          <a:xfrm>
            <a:off x="324000" y="5373720"/>
            <a:ext cx="3456000" cy="1008000"/>
          </a:xfrm>
          <a:prstGeom prst="flowChartAlternateProcess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руглосуточно слушаю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громкую музык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0" name="Picture 10" descr="тел"/>
          <p:cNvPicPr/>
          <p:nvPr/>
        </p:nvPicPr>
        <p:blipFill>
          <a:blip r:embed="rId1"/>
          <a:stretch/>
        </p:blipFill>
        <p:spPr>
          <a:xfrm>
            <a:off x="4932360" y="436572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11" descr="общение2"/>
          <p:cNvPicPr/>
          <p:nvPr/>
        </p:nvPicPr>
        <p:blipFill>
          <a:blip r:embed="rId2"/>
          <a:stretch/>
        </p:blipFill>
        <p:spPr>
          <a:xfrm>
            <a:off x="4500720" y="1844640"/>
            <a:ext cx="4248000" cy="214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Новые увлечения, связанные с желанием подражать взрослы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3" name="AutoShape 6"/>
          <p:cNvSpPr/>
          <p:nvPr/>
        </p:nvSpPr>
        <p:spPr>
          <a:xfrm>
            <a:off x="250920" y="1916280"/>
            <a:ext cx="4465440" cy="79200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Увлечение компьютерными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играми, мобильными телефонами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4" name="AutoShape 7"/>
          <p:cNvSpPr/>
          <p:nvPr/>
        </p:nvSpPr>
        <p:spPr>
          <a:xfrm>
            <a:off x="250920" y="2924280"/>
            <a:ext cx="4392360" cy="79200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Рассуждения о современных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музыкальных течениях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5" name="AutoShape 8"/>
          <p:cNvSpPr/>
          <p:nvPr/>
        </p:nvSpPr>
        <p:spPr>
          <a:xfrm>
            <a:off x="250920" y="4076640"/>
            <a:ext cx="4392360" cy="79236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Рассуждения о «прикольной»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одежде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6" name="AutoShape 9"/>
          <p:cNvSpPr/>
          <p:nvPr/>
        </p:nvSpPr>
        <p:spPr>
          <a:xfrm>
            <a:off x="324000" y="5300640"/>
            <a:ext cx="4319280" cy="79236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Обсуждение темы наркотиков и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сигаре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7" name="Picture 10" descr="комп2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200952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11" descr="одежда"/>
          <p:cNvPicPr/>
          <p:nvPr/>
        </p:nvPicPr>
        <p:blipFill>
          <a:blip r:embed="rId2"/>
          <a:stretch/>
        </p:blipFill>
        <p:spPr>
          <a:xfrm>
            <a:off x="4716360" y="2349360"/>
            <a:ext cx="2757600" cy="275760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12" descr="наркотики"/>
          <p:cNvPicPr/>
          <p:nvPr/>
        </p:nvPicPr>
        <p:blipFill>
          <a:blip r:embed="rId3"/>
          <a:stretch/>
        </p:blipFill>
        <p:spPr>
          <a:xfrm>
            <a:off x="6478560" y="4699080"/>
            <a:ext cx="26654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Но часть подростков могут стать замкнутыми.</a:t>
            </a:r>
            <a:br>
              <a:rPr sz="3200"/>
            </a:b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Однако почти у каждого могут появиться новые друзья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91" name="Picture 5" descr="новые друзья"/>
          <p:cNvPicPr/>
          <p:nvPr/>
        </p:nvPicPr>
        <p:blipFill>
          <a:blip r:embed="rId1"/>
          <a:stretch/>
        </p:blipFill>
        <p:spPr>
          <a:xfrm>
            <a:off x="1403280" y="2662200"/>
            <a:ext cx="5977080" cy="4195800"/>
          </a:xfrm>
          <a:prstGeom prst="rect">
            <a:avLst/>
          </a:prstGeom>
          <a:ln w="0">
            <a:noFill/>
          </a:ln>
        </p:spPr>
      </p:pic>
      <p:sp>
        <p:nvSpPr>
          <p:cNvPr id="1392" name="Text Box 7"/>
          <p:cNvSpPr/>
          <p:nvPr/>
        </p:nvSpPr>
        <p:spPr>
          <a:xfrm>
            <a:off x="1887480" y="4314960"/>
            <a:ext cx="606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3" name="Text Box 8"/>
          <p:cNvSpPr/>
          <p:nvPr/>
        </p:nvSpPr>
        <p:spPr>
          <a:xfrm>
            <a:off x="179280" y="5516640"/>
            <a:ext cx="87836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ahoma"/>
                <a:ea typeface="Arial"/>
              </a:rPr>
              <a:t>Будьте внимательны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AutoShape 4"/>
          <p:cNvSpPr/>
          <p:nvPr/>
        </p:nvSpPr>
        <p:spPr>
          <a:xfrm>
            <a:off x="324000" y="189000"/>
            <a:ext cx="8280360" cy="3887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Присматривайтесь чаще к своем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подростк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в этот период, ведь он уже не ребенок,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но и до взрослого ему еще далеко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5" name="Picture 5" descr="подражание"/>
          <p:cNvPicPr/>
          <p:nvPr/>
        </p:nvPicPr>
        <p:blipFill>
          <a:blip r:embed="rId1"/>
          <a:stretch/>
        </p:blipFill>
        <p:spPr>
          <a:xfrm>
            <a:off x="3059280" y="3789360"/>
            <a:ext cx="284472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амое важное для ребенка – это общение!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7" name="Text Box 5"/>
          <p:cNvSpPr/>
          <p:nvPr/>
        </p:nvSpPr>
        <p:spPr>
          <a:xfrm>
            <a:off x="395280" y="1773360"/>
            <a:ext cx="79930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  <a:ea typeface="Arial"/>
              </a:rPr>
              <a:t>Организуйте диалог правильно, не выпытывая информацию, рассказывая о своих проблемах. Таким образом вы подадите пример самораскрытия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8" name="Picture 6" descr="с род"/>
          <p:cNvPicPr/>
          <p:nvPr/>
        </p:nvPicPr>
        <p:blipFill>
          <a:blip r:embed="rId1"/>
          <a:stretch/>
        </p:blipFill>
        <p:spPr>
          <a:xfrm>
            <a:off x="2484360" y="3700440"/>
            <a:ext cx="410544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2160" cy="16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Старайтесь не ругать ребенка в случае неудачи, а помогите ему разобраться в причинах случившегося!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00" name="Picture 5" descr="с родителями"/>
          <p:cNvPicPr/>
          <p:nvPr/>
        </p:nvPicPr>
        <p:blipFill>
          <a:blip r:embed="rId1"/>
          <a:stretch/>
        </p:blipFill>
        <p:spPr>
          <a:xfrm>
            <a:off x="324000" y="2205000"/>
            <a:ext cx="3620880" cy="4653000"/>
          </a:xfrm>
          <a:prstGeom prst="rect">
            <a:avLst/>
          </a:prstGeom>
          <a:ln w="0">
            <a:noFill/>
          </a:ln>
        </p:spPr>
      </p:pic>
      <p:sp>
        <p:nvSpPr>
          <p:cNvPr id="1401" name="Line 6"/>
          <p:cNvSpPr/>
          <p:nvPr/>
        </p:nvSpPr>
        <p:spPr>
          <a:xfrm>
            <a:off x="250920" y="2060640"/>
            <a:ext cx="3816360" cy="4797360"/>
          </a:xfrm>
          <a:prstGeom prst="line">
            <a:avLst/>
          </a:prstGeom>
          <a:ln w="79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2" name="Line 7"/>
          <p:cNvSpPr/>
          <p:nvPr/>
        </p:nvSpPr>
        <p:spPr>
          <a:xfrm flipH="1">
            <a:off x="178920" y="2205000"/>
            <a:ext cx="3745080" cy="465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3" name="Text Box 8"/>
          <p:cNvSpPr/>
          <p:nvPr/>
        </p:nvSpPr>
        <p:spPr>
          <a:xfrm>
            <a:off x="4535640" y="2201760"/>
            <a:ext cx="3962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  <a:ea typeface="Arial"/>
              </a:rPr>
              <a:t>Чаще хвалите ребенка и проявляйте любовь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04" name="Picture 9" descr="подражание 2"/>
          <p:cNvPicPr/>
          <p:nvPr/>
        </p:nvPicPr>
        <p:blipFill>
          <a:blip r:embed="rId2"/>
          <a:stretch/>
        </p:blipFill>
        <p:spPr>
          <a:xfrm>
            <a:off x="4761000" y="3206880"/>
            <a:ext cx="3556080" cy="3251160"/>
          </a:xfrm>
          <a:prstGeom prst="rect">
            <a:avLst/>
          </a:prstGeom>
          <a:ln w="0">
            <a:noFill/>
          </a:ln>
        </p:spPr>
      </p:pic>
      <p:sp>
        <p:nvSpPr>
          <p:cNvPr id="1405" name="Line 10"/>
          <p:cNvSpPr/>
          <p:nvPr/>
        </p:nvSpPr>
        <p:spPr>
          <a:xfrm>
            <a:off x="4775040" y="3206880"/>
            <a:ext cx="352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6" name="Line 11"/>
          <p:cNvSpPr/>
          <p:nvPr/>
        </p:nvSpPr>
        <p:spPr>
          <a:xfrm>
            <a:off x="8302680" y="3187800"/>
            <a:ext cx="28440" cy="321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7" name="Line 12"/>
          <p:cNvSpPr/>
          <p:nvPr/>
        </p:nvSpPr>
        <p:spPr>
          <a:xfrm>
            <a:off x="4794120" y="3187800"/>
            <a:ext cx="0" cy="321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8" name="Line 13"/>
          <p:cNvSpPr/>
          <p:nvPr/>
        </p:nvSpPr>
        <p:spPr>
          <a:xfrm>
            <a:off x="4761000" y="6458040"/>
            <a:ext cx="360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акой он, младший подросток? Что мы знаем о нем? Каков его внутренний мир? Младшим подросткам присущи свои возрастные особенности, которые мы обязаны учитывать при работе с ни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9907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растные особенности детей </a:t>
            </a:r>
            <a:br>
              <a:rPr sz="2700"/>
            </a:br>
            <a:r>
              <a:rPr b="1" lang="ru-RU" sz="27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1-12 лет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овышенная утомляемость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тремление обзавестись верным друго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тремление избежать изоляции, как в классе, так и в малом коллективе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тсутствие адаптации к неудача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тсутствие адаптации к положению “худшего”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тенденция предаваться мечтания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боязнь осквернения мечты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ярко выраженная эмоциональность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6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овышенный интерес к спорту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32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увлечение коллекционированием, увлечение музыкой.</a:t>
            </a:r>
            <a:r>
              <a:rPr b="0" lang="ru-RU" sz="1300" spc="-1" strike="noStrike">
                <a:solidFill>
                  <a:srgbClr val="212121"/>
                </a:solidFill>
                <a:latin typeface="Corbe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Приучайте ребенка к систематическому труду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0" name="Picture 5" descr="труд"/>
          <p:cNvPicPr/>
          <p:nvPr/>
        </p:nvPicPr>
        <p:blipFill>
          <a:blip r:embed="rId1"/>
          <a:stretch/>
        </p:blipFill>
        <p:spPr>
          <a:xfrm>
            <a:off x="250920" y="198900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6" descr="труд2"/>
          <p:cNvPicPr/>
          <p:nvPr/>
        </p:nvPicPr>
        <p:blipFill>
          <a:blip r:embed="rId2"/>
          <a:stretch/>
        </p:blipFill>
        <p:spPr>
          <a:xfrm>
            <a:off x="5219640" y="1341360"/>
            <a:ext cx="3463920" cy="5516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57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Создайте дома обстановку нетерпимости к курению и употреблению алкоголя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3" name="Picture 5" descr="против курения"/>
          <p:cNvPicPr/>
          <p:nvPr/>
        </p:nvPicPr>
        <p:blipFill>
          <a:blip r:embed="rId1"/>
          <a:stretch/>
        </p:blipFill>
        <p:spPr>
          <a:xfrm>
            <a:off x="250920" y="1989000"/>
            <a:ext cx="4608360" cy="312912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6" descr="alcohol"/>
          <p:cNvPicPr/>
          <p:nvPr/>
        </p:nvPicPr>
        <p:blipFill>
          <a:blip r:embed="rId2"/>
          <a:stretch/>
        </p:blipFill>
        <p:spPr>
          <a:xfrm>
            <a:off x="5724360" y="20811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415" name="AutoShape 7"/>
          <p:cNvSpPr/>
          <p:nvPr/>
        </p:nvSpPr>
        <p:spPr>
          <a:xfrm>
            <a:off x="4788000" y="5013360"/>
            <a:ext cx="107928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6" name="Text Box 8"/>
          <p:cNvSpPr/>
          <p:nvPr/>
        </p:nvSpPr>
        <p:spPr>
          <a:xfrm>
            <a:off x="1908000" y="609300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ahoma"/>
                <a:ea typeface="Arial"/>
              </a:rPr>
              <a:t>Снизится риск приобретения вредных привыче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Не забывайте о личном примере!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8" name="Picture 5" descr="ругань"/>
          <p:cNvPicPr/>
          <p:nvPr/>
        </p:nvPicPr>
        <p:blipFill>
          <a:blip r:embed="rId1"/>
          <a:stretch/>
        </p:blipFill>
        <p:spPr>
          <a:xfrm>
            <a:off x="250920" y="206064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1419" name="Text Box 6"/>
          <p:cNvSpPr/>
          <p:nvPr/>
        </p:nvSpPr>
        <p:spPr>
          <a:xfrm>
            <a:off x="4932360" y="2565360"/>
            <a:ext cx="38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ahoma"/>
                <a:ea typeface="Arial"/>
              </a:rPr>
              <a:t>Подросток порой воспринимает очень болезненно перебранку своих родителей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7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Обязательно организуйте систематические занятия спортом!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21" name="Picture 5" descr="спорт"/>
          <p:cNvPicPr/>
          <p:nvPr/>
        </p:nvPicPr>
        <p:blipFill>
          <a:blip r:embed="rId1"/>
          <a:stretch/>
        </p:blipFill>
        <p:spPr>
          <a:xfrm>
            <a:off x="1258920" y="2133720"/>
            <a:ext cx="6121440" cy="4599000"/>
          </a:xfrm>
          <a:prstGeom prst="rect">
            <a:avLst/>
          </a:prstGeom>
          <a:ln w="0">
            <a:noFill/>
          </a:ln>
        </p:spPr>
      </p:pic>
      <p:sp>
        <p:nvSpPr>
          <p:cNvPr id="1422" name="Text Box 6"/>
          <p:cNvSpPr/>
          <p:nvPr/>
        </p:nvSpPr>
        <p:spPr>
          <a:xfrm>
            <a:off x="684360" y="6021360"/>
            <a:ext cx="777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Спорт вместе с родителями – лучший досуг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Text Box 5"/>
          <p:cNvSpPr/>
          <p:nvPr/>
        </p:nvSpPr>
        <p:spPr>
          <a:xfrm>
            <a:off x="395280" y="1773360"/>
            <a:ext cx="835200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ahoma"/>
                <a:ea typeface="Arial"/>
              </a:rPr>
              <a:t>В случае появления у ребенка необычной манеры поведения проанализируйте причины ее и при необходимости обратитесь к психологу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82800" y="228240"/>
            <a:ext cx="770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rbel"/>
              </a:rPr>
              <a:t>Рекомендаци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982440" y="838080"/>
            <a:ext cx="7932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Главное – абсолютное принятие ребенка со всеми его достоинствами и недостатками. Это залог взаимопонимания в семь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Обеспечьте своему ребенку соблюдение оптимального для этого возраста режима дня и удобное рабочее мест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Постарайтесь понять, с какими трудностями сталкивается ребенок при переходе из начальной школы в основну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оодушевите ребёнка на рассказ о своих школьных дел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Регулярно беседуйте с учителями вашего ребёнка о его успеваемости, поведении и взаимоотношениях с другими деть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Не связывайте оценки за успеваемость ребёнка со своей системой наказаний и поощре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Помогайте ребёнку делать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домашнее задание, но не делайте их с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Помогите ребёнку почувствовать интерес к тому, что преподают в школ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Особенные усилия прилагайте для того, чтобы поддержать спокойную и стабильную атмосферу в доме, когда в школьной жизни происходят измене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Радуйтесь достижениям своего ребенка вместе с ним. Не позволяйте сравнивать его с другими детьми. Давайте оценку поступкам ребенка, а не ему само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Когда, откуда и в каком виде ни вернулся ваш ребёнок домой, встречайте его с любовью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>
              <a:lnSpc>
                <a:spcPct val="80000"/>
              </a:lnSpc>
              <a:spcBef>
                <a:spcPts val="451"/>
              </a:spcBef>
              <a:buClr>
                <a:srgbClr val="1287c3"/>
              </a:buClr>
              <a:buSzPct val="145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WordArt 6"/>
          <p:cNvSpPr txBox="1"/>
          <p:nvPr/>
        </p:nvSpPr>
        <p:spPr>
          <a:xfrm>
            <a:off x="914400" y="1981080"/>
            <a:ext cx="7315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счастливы ВЫ,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усть будут счастливы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ШИ дет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orbel"/>
              </a:rPr>
              <a:t>Что вызывает стресс у пятиклассник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1219320" y="236232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резкие изменения условий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разнообразные и усложнённые треб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мена статуса «старшего» в начальной школе на «самого младшего» в средн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повышенная эмоциональност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возбудимость нервной систем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11320" indent="-2113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неустойчивость настро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82800" y="228240"/>
            <a:ext cx="770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rbel"/>
              </a:rPr>
              <a:t>Что затрудняет адаптацию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871200" y="1752480"/>
            <a:ext cx="792468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marL="222840" indent="-222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тиворечивость и рассогласованность требований разных педаго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2840" indent="-222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ятиклассника обрушивается поток информации, насыщенный терминами, непонятными слов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2840" indent="-222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5 классе многие дети ощущают одиночество, так как первой учительницы рядом н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чины медленной адаптаци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914400" y="9907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Разные требования со стороны учителей-предметников, необходимость все эти требования и учитывать, и выполня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Большой поток информации, незнакомые термины, слова. Нужно научить пятиклассника пользоваться справочниками и словарями, а также научить спрашивать о значении непонятных слов у взрослы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Чувство одиночества из-за отсутствия первой учительницы, а классному руководителю не всегда удается уделить всем необходимое вним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Привычка к контролю. В начальной школе учащиеся всегда находятся в поле зрения педагога. Дети, привыкшие к постоянному контролю со стороны взрослых, должны самостоятельно организовать собственную школьную жизн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иод адаптации к новым правилам и требованиям может занимать у ребенка от одного месяца до целого года. В это время и может наблюдаться некоторый спад успеваемости, так как дети скорее заняты изучением формы, нежели содержания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982800" y="228240"/>
            <a:ext cx="770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знаки возникшей дезадаптации школьни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982440" y="1599840"/>
            <a:ext cx="80089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сталый, утомленный вид ребен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ежелание делиться впечатлениями о проведенном дн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тремление при разговоре отвлечь родителей от школьных событий, переключить внимание на другие т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ежелание выполнять домашние за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егативные характеристики в адрес школы, учителей, одноклассни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Жалобы на те или иные события, связанные со школ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еспокойный ночной со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удности утреннего пробуждения, вялос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тоянные жалобы на плохое самочувств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848720" cy="150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ahoma"/>
              </a:rPr>
              <a:t>Возрастные 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cc3300"/>
                </a:solidFill>
                <a:latin typeface="Tahoma"/>
              </a:rPr>
              <a:t>подрост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492360" y="4005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  <a:ea typeface="Arial"/>
              </a:rPr>
              <a:t>Советы для родителей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4"/>
          <p:cNvSpPr/>
          <p:nvPr/>
        </p:nvSpPr>
        <p:spPr>
          <a:xfrm>
            <a:off x="5975280" y="1413000"/>
            <a:ext cx="316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Arial"/>
              </a:rPr>
              <a:t>В 11-12 лет практически все дети пересекают рубеж подросткового возраста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50920" y="333360"/>
            <a:ext cx="5689440" cy="1871640"/>
          </a:xfrm>
          <a:prstGeom prst="downArrowCallout">
            <a:avLst>
              <a:gd name="adj1" fmla="val 76002"/>
              <a:gd name="adj2" fmla="val 75995"/>
              <a:gd name="adj3" fmla="val 16667"/>
              <a:gd name="adj4" fmla="val 6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Ведущая деятельность подростка в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этот период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5" name="Oval 7"/>
          <p:cNvSpPr/>
          <p:nvPr/>
        </p:nvSpPr>
        <p:spPr>
          <a:xfrm>
            <a:off x="1692360" y="2421000"/>
            <a:ext cx="2879640" cy="115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ОБЩЕНИЕ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324000" y="3716280"/>
            <a:ext cx="5689440" cy="1871640"/>
          </a:xfrm>
          <a:prstGeom prst="downArrowCallout">
            <a:avLst>
              <a:gd name="adj1" fmla="val 76002"/>
              <a:gd name="adj2" fmla="val 75995"/>
              <a:gd name="adj3" fmla="val 16667"/>
              <a:gd name="adj4" fmla="val 6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Главное новообразование этого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возраста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Oval 9"/>
          <p:cNvSpPr/>
          <p:nvPr/>
        </p:nvSpPr>
        <p:spPr>
          <a:xfrm>
            <a:off x="1763640" y="5705640"/>
            <a:ext cx="2879640" cy="115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ЧУВСТВО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Arial"/>
              </a:rPr>
              <a:t>ВЗРОСЛОСТИ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4" descr="взрослость"/>
          <p:cNvPicPr/>
          <p:nvPr/>
        </p:nvPicPr>
        <p:blipFill>
          <a:blip r:embed="rId1"/>
          <a:stretch/>
        </p:blipFill>
        <p:spPr>
          <a:xfrm>
            <a:off x="0" y="2708280"/>
            <a:ext cx="6264360" cy="3878280"/>
          </a:xfrm>
          <a:prstGeom prst="rect">
            <a:avLst/>
          </a:prstGeom>
          <a:ln w="0">
            <a:noFill/>
          </a:ln>
        </p:spPr>
      </p:pic>
      <p:sp>
        <p:nvSpPr>
          <p:cNvPr id="1359" name="Text Box 6"/>
          <p:cNvSpPr/>
          <p:nvPr/>
        </p:nvSpPr>
        <p:spPr>
          <a:xfrm>
            <a:off x="6111720" y="1620720"/>
            <a:ext cx="266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  <a:ea typeface="Arial"/>
              </a:rPr>
              <a:t>В условиях современной жизни в данный период начинается так называемый переходный возраст: происходят первые биологические изменения в организме (особенно у девочек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Что происходит с моим ребенком?!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2-16T19:36:26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