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516-DA77-4B13-94ED-7C4A178A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4C3-CD26-42B4-907E-F941977E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564-05C9-4B67-A85B-38387FA9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ADD-7A14-4E96-8268-7E65B940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AE87-769C-4E3E-8B13-26669825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57D1-E691-48BD-8AEB-566DE78F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3AAC-11F1-41FD-8201-FB206204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9916-33F1-4028-BDC5-14CDE0F1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61D5-6925-4E24-9738-A98A1025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A897-A2FD-4FB4-A07C-103C1A8E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5DA4-0F91-4EEB-9F6F-5DDE9756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E2E-9400-4B39-930B-65D0A629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30A2-B75A-41CB-B270-E71772AA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3EB7-5B61-43E7-B9AD-18604AAB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1751-E669-49E7-88DD-3A7F1B8F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07EB-6148-490E-A1CE-5BD23321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A8BB-0BFC-4410-9E53-A30CA207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983-00A9-469E-ADA0-E033FD9F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DD0-6F2B-4EFC-AD5B-3730720E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649-30B3-464D-B700-AB671243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931-F4F1-4FB9-954D-C5781F34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D0D-BC9A-4E32-8765-C12A11CB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31C-09E4-403A-8D44-7BF16D14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F27-0013-4738-BAB1-23C921CF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209D-B98F-4F5D-93DC-82D15805A0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17AF-FA61-48CD-B0A7-BBFBD58D58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74;&#1103;&#1090;&#1086;&#1081;_&#1055;&#1072;&#1090;&#1088;&#1080;&#1082;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Northern Ireland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651640" y="4365720"/>
            <a:ext cx="32731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de by Mashkova Ale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4" descr="флаг ирландии"/>
          <p:cNvPicPr/>
          <p:nvPr/>
        </p:nvPicPr>
        <p:blipFill>
          <a:blip r:embed="rId1"/>
          <a:stretch/>
        </p:blipFill>
        <p:spPr>
          <a:xfrm>
            <a:off x="214200" y="250020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 information I took from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l photos I took from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Yandex Photo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formatio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s://ru.wikipedia.org/wiki/%D0%A1%D0%B2%D1%8F%D1%82%D0%BE%D0%B9_%D0%9F%D0%B0%D1%82%D1%80%D0%B8%D0%B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http://vivareit.ru/interesnye-fakty-o-severnoj-irlandi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ictiona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6718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patron Saint of Ireland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кровитель Ирланд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ship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кланяться, чти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il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оп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ant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ли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eshwater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новод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yth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cribe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исыв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orage of ammunition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ранилищ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еприпа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4" descr="ZrSWyaWN7pw"/>
          <p:cNvPicPr/>
          <p:nvPr/>
        </p:nvPicPr>
        <p:blipFill>
          <a:blip r:embed="rId1"/>
          <a:stretch/>
        </p:blipFill>
        <p:spPr>
          <a:xfrm>
            <a:off x="4643280" y="2565360"/>
            <a:ext cx="43214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orthern Ire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2420640"/>
            <a:ext cx="48466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Ireland is one of 4 parts of United Kingdom. It is small, but important. There are many interesting places in this part of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nt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4" descr="britpage01"/>
          <p:cNvPicPr/>
          <p:nvPr/>
        </p:nvPicPr>
        <p:blipFill>
          <a:blip r:embed="rId1"/>
          <a:stretch/>
        </p:blipFill>
        <p:spPr>
          <a:xfrm>
            <a:off x="5292720" y="1989000"/>
            <a:ext cx="3483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aint Patrick - the patron Saint of Irelan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630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int Patrick is the Christian patron Saint of Ireland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in Northern Ireland worship him nowadays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St. Patrick's Cathedr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biggest cathedral in Northern Ire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4" descr="st_patricks_cathedral_armagh_armagh_co_ulster_northern_ireland_photo"/>
          <p:cNvPicPr/>
          <p:nvPr/>
        </p:nvPicPr>
        <p:blipFill>
          <a:blip r:embed="rId1"/>
          <a:stretch/>
        </p:blipFill>
        <p:spPr>
          <a:xfrm>
            <a:off x="4932360" y="1197000"/>
            <a:ext cx="4032360" cy="3124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14"/>
          <p:cNvPicPr/>
          <p:nvPr/>
        </p:nvPicPr>
        <p:blipFill>
          <a:blip r:embed="rId2"/>
          <a:stretch/>
        </p:blipFill>
        <p:spPr>
          <a:xfrm>
            <a:off x="6012000" y="3760920"/>
            <a:ext cx="2923920" cy="3097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i"/>
          <p:cNvPicPr/>
          <p:nvPr/>
        </p:nvPicPr>
        <p:blipFill>
          <a:blip r:embed="rId3"/>
          <a:stretch/>
        </p:blipFill>
        <p:spPr>
          <a:xfrm>
            <a:off x="4572000" y="3429000"/>
            <a:ext cx="2370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vironment in Northern Ire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4537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vironment in Northern Ireland consist of plains, valleys and meadows. You can see they are beautif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14_50"/>
          <p:cNvPicPr/>
          <p:nvPr/>
        </p:nvPicPr>
        <p:blipFill>
          <a:blip r:embed="rId1"/>
          <a:stretch/>
        </p:blipFill>
        <p:spPr>
          <a:xfrm>
            <a:off x="4427640" y="112536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17_12_2_Irlandiya"/>
          <p:cNvPicPr/>
          <p:nvPr/>
        </p:nvPicPr>
        <p:blipFill>
          <a:blip r:embed="rId2"/>
          <a:stretch/>
        </p:blipFill>
        <p:spPr>
          <a:xfrm>
            <a:off x="4716360" y="350028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p of Northern Ire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Picture 5" descr="Northern-Ireland-map"/>
          <p:cNvPicPr/>
          <p:nvPr/>
        </p:nvPicPr>
        <p:blipFill>
          <a:blip r:embed="rId1"/>
          <a:stretch/>
        </p:blipFill>
        <p:spPr>
          <a:xfrm>
            <a:off x="1187280" y="1268280"/>
            <a:ext cx="6769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gh-Nei and trail of giant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341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h-Nei is the biggest freshwater lake in Europe. People tell myth about Finn Mak Kumal, that created this lake and island M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n Mak Kumal created trail of giants too. It is really unusual. It is difficult to describe it. But we can see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6" descr="loh_nei"/>
          <p:cNvPicPr/>
          <p:nvPr/>
        </p:nvPicPr>
        <p:blipFill>
          <a:blip r:embed="rId1"/>
          <a:stretch/>
        </p:blipFill>
        <p:spPr>
          <a:xfrm>
            <a:off x="684360" y="4292640"/>
            <a:ext cx="3384360" cy="2286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giantl"/>
          <p:cNvPicPr/>
          <p:nvPr/>
        </p:nvPicPr>
        <p:blipFill>
          <a:blip r:embed="rId2"/>
          <a:stretch/>
        </p:blipFill>
        <p:spPr>
          <a:xfrm>
            <a:off x="4788000" y="4221000"/>
            <a:ext cx="388116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tle Karrikferg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stle Karrikfergus was built in 1177. It was not only a castle. It was a prison, a storage of ammunition and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4" descr="zamor_carrik"/>
          <p:cNvPicPr/>
          <p:nvPr/>
        </p:nvPicPr>
        <p:blipFill>
          <a:blip r:embed="rId1"/>
          <a:stretch/>
        </p:blipFill>
        <p:spPr>
          <a:xfrm>
            <a:off x="1547640" y="2708280"/>
            <a:ext cx="62643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anks for watching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Picture 5" descr="4"/>
          <p:cNvPicPr/>
          <p:nvPr/>
        </p:nvPicPr>
        <p:blipFill>
          <a:blip r:embed="rId1"/>
          <a:stretch/>
        </p:blipFill>
        <p:spPr>
          <a:xfrm>
            <a:off x="5148360" y="285264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8T06:21:13Z</dcterms:created>
  <dc:creator>mashkov</dc:creator>
  <dc:description/>
  <dc:language>en-US</dc:language>
  <cp:lastModifiedBy>Елена</cp:lastModifiedBy>
  <dcterms:modified xsi:type="dcterms:W3CDTF">2017-01-16T13:47:42Z</dcterms:modified>
  <cp:revision>10</cp:revision>
  <dc:subject/>
  <dc:title>Northern Ireland</dc:title>
</cp:coreProperties>
</file>