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0B3B-DA3E-44E4-BED9-01C55DBFFC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9989-7DED-4CBF-95BF-D34415F1FD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5D42-C35C-4DB5-8CCB-5E8C35D3FE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250-371D-4A8B-8487-50237B62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658-A4F5-4BDE-B318-37830AD7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731-D243-43B4-B9E3-F7D4CEEC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7D6-46F5-423E-95B6-1169B047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6612-3719-48C9-981C-20EFECFD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C90E-17D5-4BAD-80A9-1A77D6DF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10DC-F1E7-44FF-ADFB-83D9932A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36E2-FA78-4A74-ADE7-D62D8EFB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C115-5ACE-4561-A3B4-8A683834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1553-D3E5-4549-A70E-508EF5D4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622C-13A5-4101-951C-4CCDBA4D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363-B887-4536-84D1-B2973492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08CE-C8A8-41CC-B66A-1E776606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6EA3-0988-4934-B2F1-50328152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84AC-5F5C-419C-99F6-A5DC35B4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A670-06DA-4049-A06C-92E177B5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4E09-58B9-43B9-A194-447C7010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492DF-F681-4DFB-8DD0-CDF48C1B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FDDDA-97DF-4F3C-A41D-B483DC13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CF84F-0128-4848-9DAB-2FFE155A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98E75-663B-4E13-8177-B6F18A3A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9B128-7265-4923-9830-0F854B8A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592-90B3-4CFD-89D5-48BA0F9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B226C-79E7-4EFD-9F26-F3BED974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E5F58-CACF-4A4C-A179-CC48AB1E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08F37-674B-4BFB-A643-D2F83083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5EA7A-A7D2-4140-B945-CE372E0D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EEC04-9578-4C0B-836E-39E57C40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3FAF6-0EB0-4275-8AE6-73035A80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ADEFE-0785-4410-9DC3-BF4878A5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3F807-CE04-47B2-97E8-7B11319D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61AB-078F-40F1-90C1-5F763376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9C2BF-EAD8-4C50-AD53-84B14B64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CA0-750B-4DC9-9EDC-5427FF7A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AFD1A-DBD5-401B-AADB-09C414A2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A44EF-1CDC-4989-8878-4A121087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B15A-37F2-4CF8-9170-EE923EF4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5BC6-38CF-4E50-8E4C-2599F0B6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CDEE-41D8-4091-BEE3-A44F2855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B532-A8F9-4CDD-A822-BA02022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3E6EC-D7A1-4652-A815-010F4C56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294BE-E7EE-4E28-BF9F-93762BDC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AA87-DF6A-4436-84BC-1A9D10F3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847E6-C518-43F6-8A18-5D5B22FF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73F-44AA-4DB5-BF11-8A71B7F8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36F33-DEAD-4AAB-A595-AEC52318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07502-82D8-4747-8F72-5A722AF4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1B83C-6BD7-4DD4-A0EE-005DEADE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972CE-D61C-4CB5-A38E-BD83E948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57876-CAD8-416D-A187-995D56E0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E0EF6-5E4A-4319-B619-58D60541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3F7C7-8655-4021-97CB-CA299DD9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B6F8D-22C2-41EF-96F3-5051F6CF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D845F-60A5-4F70-889D-2FEE7A35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473BA-3BB6-40DE-923A-8F96B035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E40-A844-4A4E-B8FA-72D8A54D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45C11-8D8A-4DCF-9D29-DD14F4D1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EB10E-CB78-4C70-AA96-C81CD4CD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39EE2-61AD-4928-8FC7-68419B35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FED54-1A23-42F0-86AE-AD664CD0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2EDF3-0975-4F9B-B8AA-E32651A5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83779-7F7A-4E40-B87A-AEF7B98B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EBCF1-B097-46C5-9BFB-C10818A4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2E483-66B0-48E3-8CF5-7B6B2669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6385BF-F636-461F-A229-B5CDBE43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DA159-03C4-47F9-9EFD-9EE1FB70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911-64E8-47FD-AFB4-F1CF3FB7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52463-B8E3-476B-A782-2452946C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FA773-6646-4186-AE17-DD559BAB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C9BF6B-4E74-4AA1-B642-46A4160F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D2447-A67A-46E7-AEC4-EF952412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9ADEB-4395-4450-BB45-2D00CD04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AF666-CC36-4502-930A-B4886F68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6EFE8-9CF8-4224-ACB7-7969EE71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7BF32-08E4-4A12-AE75-66B0C071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E3E036-7496-4F06-AC5B-282D5E03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06413-58D6-4A0B-84D1-C0511DA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B69-5C01-4422-974D-1C4DE9B2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4AC02-2533-45C4-8313-64B6B573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78593-8A72-47ED-BCF5-E78547DE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B6592-73FA-474E-B529-39E37ED7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80D4C-1FE4-4054-AA12-79546CBF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646E6-7238-49DA-9F9E-DA1FFF58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50C-BCCA-4ED1-BB29-4DA0974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B5BA-E0D3-4C17-B0F7-4D1948F7DDB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CD57-9322-43E2-BF88-B72AF3340D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E347-A66D-49B2-BACA-ECF4C73ECC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B00A-F3F1-4CD5-AC58-20EE4AC06F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A38E-CAA5-42EF-B9FB-A809BDB6DD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B066-9ADB-4DF3-8C60-222A386CA6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14DA-59B6-402B-87EC-8F4B213A5C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4368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OD MORNING, CHILDREN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2" descr="http://terskayschkola.ucoz.ru/3-Kartinki/solnyshko.gif"/>
          <p:cNvPicPr/>
          <p:nvPr/>
        </p:nvPicPr>
        <p:blipFill>
          <a:blip r:embed="rId2"/>
          <a:stretch/>
        </p:blipFill>
        <p:spPr>
          <a:xfrm>
            <a:off x="2571840" y="2571840"/>
            <a:ext cx="4119480" cy="41194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0" y="0"/>
          <a:ext cx="9144000" cy="67356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o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For her dog Jane need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For her cat Jane need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3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How much are the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Jane buy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75" name="Улыбающееся лицо 5"/>
          <p:cNvSpPr/>
          <p:nvPr/>
        </p:nvSpPr>
        <p:spPr>
          <a:xfrm>
            <a:off x="4286160" y="1285920"/>
            <a:ext cx="571680" cy="57132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Улыбающееся лицо 6"/>
          <p:cNvSpPr/>
          <p:nvPr/>
        </p:nvSpPr>
        <p:spPr>
          <a:xfrm>
            <a:off x="7358040" y="1214280"/>
            <a:ext cx="571680" cy="57168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Улыбающееся лицо 9"/>
          <p:cNvSpPr/>
          <p:nvPr/>
        </p:nvSpPr>
        <p:spPr>
          <a:xfrm>
            <a:off x="1214280" y="2857680"/>
            <a:ext cx="571680" cy="57132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Улыбающееся лицо 10"/>
          <p:cNvSpPr/>
          <p:nvPr/>
        </p:nvSpPr>
        <p:spPr>
          <a:xfrm>
            <a:off x="6286680" y="2857680"/>
            <a:ext cx="571320" cy="57132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1143000" y="4500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4214880" y="45007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6286680" y="450072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TextBox 15"/>
          <p:cNvSpPr/>
          <p:nvPr/>
        </p:nvSpPr>
        <p:spPr>
          <a:xfrm>
            <a:off x="7286760" y="45007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Улыбающееся лицо 16"/>
          <p:cNvSpPr/>
          <p:nvPr/>
        </p:nvSpPr>
        <p:spPr>
          <a:xfrm>
            <a:off x="1214280" y="5643720"/>
            <a:ext cx="571680" cy="57132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Улыбающееся лицо 17"/>
          <p:cNvSpPr/>
          <p:nvPr/>
        </p:nvSpPr>
        <p:spPr>
          <a:xfrm>
            <a:off x="4286160" y="5500800"/>
            <a:ext cx="571680" cy="57132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2" descr="1-rubl-sredi-drugih-monet.jpg"/>
          <p:cNvPicPr/>
          <p:nvPr/>
        </p:nvPicPr>
        <p:blipFill>
          <a:blip r:embed="rId2"/>
          <a:stretch/>
        </p:blipFill>
        <p:spPr>
          <a:xfrm>
            <a:off x="571680" y="1643040"/>
            <a:ext cx="7492680" cy="42148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1357200" y="785880"/>
            <a:ext cx="55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bles [ru:blz]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13840" y="0"/>
            <a:ext cx="8643960" cy="62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a nice day, children!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http://www.shopsouthsidemall.com/wp-content/uploads/2016/05/GoodBye-1024x682.jpg"/>
          <p:cNvPicPr/>
          <p:nvPr/>
        </p:nvPicPr>
        <p:blipFill>
          <a:blip r:embed="rId1"/>
          <a:stretch/>
        </p:blipFill>
        <p:spPr>
          <a:xfrm>
            <a:off x="1357200" y="285840"/>
            <a:ext cx="66153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"/>
          <p:cNvSpPr/>
          <p:nvPr/>
        </p:nvSpPr>
        <p:spPr>
          <a:xfrm>
            <a:off x="214200" y="91440"/>
            <a:ext cx="857268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What’s the weather like in January/ April/ June/ September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Рисунок 3" descr="rasteniy_po_vremenam_goda.jpg"/>
          <p:cNvPicPr/>
          <p:nvPr/>
        </p:nvPicPr>
        <p:blipFill>
          <a:blip r:embed="rId2"/>
          <a:stretch/>
        </p:blipFill>
        <p:spPr>
          <a:xfrm>
            <a:off x="1143000" y="1428840"/>
            <a:ext cx="6929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214200" y="30600"/>
            <a:ext cx="857268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What do you put on in January/ April/ June/ September?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I put on…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3" descr="http://900igr.net/datai/okruzhajuschij-mir/Okruzhajuschij-mir-zimoj/0014-005-CHelovek-v-raznoe-vremja-goda.jpg"/>
          <p:cNvPicPr/>
          <p:nvPr/>
        </p:nvPicPr>
        <p:blipFill>
          <a:blip r:embed="rId2"/>
          <a:stretch/>
        </p:blipFill>
        <p:spPr>
          <a:xfrm>
            <a:off x="428760" y="1857240"/>
            <a:ext cx="328608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-3132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365" name="Содержимое 4" descr="img18.jpg"/>
          <p:cNvPicPr/>
          <p:nvPr/>
        </p:nvPicPr>
        <p:blipFill>
          <a:blip r:embed="rId2"/>
          <a:srcRect l="4228" t="3874" r="-30" b="17417"/>
          <a:stretch/>
        </p:blipFill>
        <p:spPr>
          <a:xfrm>
            <a:off x="100080" y="0"/>
            <a:ext cx="9043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INTER BALL PROGRAMME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ty has already talked about the weather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ty has already listened to music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ty hasn’t danced yet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ty hasn’t talked to famous people yet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ty has already played game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ty has already visited the pet room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4"/>
          <p:cNvSpPr/>
          <p:nvPr/>
        </p:nvSpPr>
        <p:spPr>
          <a:xfrm>
            <a:off x="2286000" y="21420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Perfec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285840" y="1785960"/>
            <a:ext cx="20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2286000" y="1857240"/>
            <a:ext cx="67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и закрепить знания о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Perfect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7" descr="perf-1.jpg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7" descr="perf-5.jpg"/>
          <p:cNvPicPr/>
          <p:nvPr/>
        </p:nvPicPr>
        <p:blipFill>
          <a:blip r:embed="rId2"/>
          <a:stretch/>
        </p:blipFill>
        <p:spPr>
          <a:xfrm>
            <a:off x="0" y="107172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8" descr="perf-6.jpg"/>
          <p:cNvPicPr/>
          <p:nvPr/>
        </p:nvPicPr>
        <p:blipFill>
          <a:blip r:embed="rId3"/>
          <a:stretch/>
        </p:blipFill>
        <p:spPr>
          <a:xfrm>
            <a:off x="0" y="2786040"/>
            <a:ext cx="9144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3" descr="perf-2.jpg"/>
          <p:cNvPicPr/>
          <p:nvPr/>
        </p:nvPicPr>
        <p:blipFill>
          <a:blip r:embed="rId2"/>
          <a:stretch/>
        </p:blipFill>
        <p:spPr>
          <a:xfrm>
            <a:off x="0" y="1214280"/>
            <a:ext cx="9144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4T15:24:49Z</dcterms:created>
  <dc:creator>User</dc:creator>
  <dc:description/>
  <dc:language>en-US</dc:language>
  <cp:lastModifiedBy>lenovo</cp:lastModifiedBy>
  <dcterms:modified xsi:type="dcterms:W3CDTF">2017-10-30T16:45:04Z</dcterms:modified>
  <cp:revision>42</cp:revision>
  <dc:subject/>
  <dc:title>Good morning, children!</dc:title>
</cp:coreProperties>
</file>