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732-1AF7-4F58-88E3-953B0AEB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0AB-5A98-477F-AE20-B0361B9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3E3-F128-4A71-BD09-6DEF57F3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77C-4760-41F4-AF47-538FF615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D9C-23AB-483B-8C40-0E0F218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313-9D3E-46F6-AED7-792A8ABC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975-5BA7-4927-8C06-DE928996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274-DD00-43D5-8174-476931D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A42-41EC-42FC-8761-1220819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B19-6960-40ED-8D30-DCAA558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C29-7E4C-4FAB-B275-6766BFC2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FF2-5962-47F4-AA55-6647920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F6B-21F3-49ED-8E38-C331067BC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1.jpg"/>
          <p:cNvPicPr/>
          <p:nvPr/>
        </p:nvPicPr>
        <p:blipFill>
          <a:blip r:embed="rId1"/>
          <a:stretch/>
        </p:blipFill>
        <p:spPr>
          <a:xfrm>
            <a:off x="457200" y="304920"/>
            <a:ext cx="8331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p your own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762120"/>
            <a:ext cx="8610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going to … on …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’s a great ide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like to go with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uld love to, but I am bus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you going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going 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 come an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you m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, see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куфлексия.jpg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uesda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pri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2.jpg"/>
          <p:cNvPicPr/>
          <p:nvPr/>
        </p:nvPicPr>
        <p:blipFill>
          <a:blip r:embed="rId1"/>
          <a:stretch/>
        </p:blipFill>
        <p:spPr>
          <a:xfrm>
            <a:off x="3429000" y="2266920"/>
            <a:ext cx="54230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wind is in the west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ther is the b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3.jpg"/>
          <p:cNvPicPr/>
          <p:nvPr/>
        </p:nvPicPr>
        <p:blipFill>
          <a:blip r:embed="rId1"/>
          <a:stretch/>
        </p:blipFill>
        <p:spPr>
          <a:xfrm>
            <a:off x="2514600" y="2666880"/>
            <a:ext cx="42847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600200"/>
            <a:ext cx="33530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одержимое 2"/>
          <p:cNvSpPr/>
          <p:nvPr/>
        </p:nvSpPr>
        <p:spPr>
          <a:xfrm>
            <a:off x="380880" y="41911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80880" y="480060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380880" y="228600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380880" y="297180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380880" y="35812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3352680" y="16765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3581280" y="480060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3581280" y="22096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ыч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3581280" y="28954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3581280" y="35053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о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3581280" y="41911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д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3581280" y="160020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jogging in the morning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ways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way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jogging in the mo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 have a salad for lunch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usually –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ычно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609480" y="2057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838080" y="3809880"/>
            <a:ext cx="472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is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ink cof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9524880" y="35053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jogging in the morning.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ways -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way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jogging in the mo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 have a salad for lunch.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usually –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ычно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609480" y="5105520"/>
            <a:ext cx="6782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someti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es horror fil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одержимое 2"/>
          <p:cNvSpPr/>
          <p:nvPr/>
        </p:nvSpPr>
        <p:spPr>
          <a:xfrm>
            <a:off x="914400" y="25146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sua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salad for lunch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9372600" y="502920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 jogging in the morning.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ways -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way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jogging in the mo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 have a salad for lunch.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usually –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ычно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457200" y="3352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John drinks coffee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never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гда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152280" y="4648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ary watches horror films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ometimes -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ногда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4568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y go to the village for their holidays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often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о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57200" y="1447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 to the village for their holi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0" y="24382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 listen to the music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rarely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ко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одержимое 2"/>
          <p:cNvSpPr/>
          <p:nvPr/>
        </p:nvSpPr>
        <p:spPr>
          <a:xfrm>
            <a:off x="0" y="28195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0" y="2971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en to music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0" y="40384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he will remember this book.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ways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одержимое 2"/>
          <p:cNvSpPr/>
          <p:nvPr/>
        </p:nvSpPr>
        <p:spPr>
          <a:xfrm>
            <a:off x="0" y="46483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ill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way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his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earn the dialogu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st (L.59-64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8.jpg"/>
          <p:cNvPicPr/>
          <p:nvPr/>
        </p:nvPicPr>
        <p:blipFill>
          <a:blip r:embed="rId1"/>
          <a:stretch/>
        </p:blipFill>
        <p:spPr>
          <a:xfrm>
            <a:off x="1752480" y="2933640"/>
            <a:ext cx="7086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160" y="8380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lways do my home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mother has already bought some fru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drinking juice n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terday we won a football mat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p the dialog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going to Luna Park on Sun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 come and watch your ga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like to go with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’s a great ide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you going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, see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uld love to, but I am bus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you m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going to play tennis with my dad. I want to w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17:35:41Z</dcterms:created>
  <dc:creator>lenovo</dc:creator>
  <dc:description/>
  <dc:language>en-US</dc:language>
  <cp:lastModifiedBy>lenovo</cp:lastModifiedBy>
  <dcterms:modified xsi:type="dcterms:W3CDTF">2017-04-24T13:21:44Z</dcterms:modified>
  <cp:revision>30</cp:revision>
  <dc:subject/>
  <dc:title>Слайд 1</dc:title>
</cp:coreProperties>
</file>