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095-C175-4B34-B7FA-4C4DA400D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8D4-2B91-4DEB-9016-B620D7603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B84-CD0E-4128-9F6B-5ECD101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5E6-79C4-42E4-82F0-7072829C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723-3A91-4D17-AE8B-9FE2DAB3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92A-B09A-42DF-9160-3D7AD875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9E0C-AB4D-4AB0-8DE9-BC3E414B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DCC7-FE09-4305-AD40-14D0D588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6C21-182A-482C-9252-46F2057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CD5-2EB7-49C7-B6C8-66ACC9F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EEAE-9DA3-47EC-9AFF-5E9E4DAD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7385-CEB6-4005-B0EE-46081BF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A73-2E4E-4FC3-9012-05820F9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4CE-26A3-4707-8314-F3A1839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3593-D541-459A-A496-CC675AC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30FE-FD2A-4947-AFEA-DAED9ED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9FA-31D8-491F-8B9B-BD49AFCC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4609-3A87-4A82-B8DE-A80896C9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AF54-EDA1-4737-BB08-C7BEF65F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34B-08DC-44DB-949F-17652CA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D4F-5AE2-4B87-B082-EF5B451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A4B-08AB-4EEE-8A20-2764938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D77-D3D4-4740-B899-EC8411E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82-38E1-4A36-BB9E-601B22E5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7FE-290A-436F-AD94-AD2415A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03C-6678-4FAE-B5CF-5BB04BF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31E-490F-44F8-AF20-4750E5D090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173-C6BC-4D46-AFE8-4D3FE8F9EA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ка подготовки и выполнения заданий части 2 КИМа ЕГЭ по обществознанию</a:t>
            </a:r>
            <a:br>
              <a:rPr sz="6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Ш № 9 г.Димитров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сиятулина В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комендации по выполнению 28 за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ернутый план по заданн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четкое последовательное представление частей содержания изученного вопроса (или текста) в кратких формулировках, отражающих тему или основную идею соответствующего фрагмента, многообразие его смыслов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комендации по выполнению 28 за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задание призвано проверит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 какой мере у экзаменующихся сложились комплексные представления об определенной группе социальных явлений, связанных в цело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ыделяют ли выпускники отдельные положения в составе предложенного смыслового блока, которые могут быть детализированы, представлены как самостоятельные конкретизирующие пози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асколько успешно экзаменующиеся овладели умением логически выстраивать содержание круп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видности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487440" y="1487520"/>
            <a:ext cx="8047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омендации по выполнению 28       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ые подсказки для составления пл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 чем смысл проблемы, суть социального  объекта, процесса, понимание социального объекта как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руктура социальног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его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его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ерархия (если есть) или какие либо внутренние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ерии оценивания ответа на задание 28.     1. Раскрытие темы   2 балл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содержит два пункта, наличие которых позв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данную тему по существу. Один из этих пун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зирован в подпунктах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содержит один пункт, наличие которого позв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данную тему по существу. Этот пункт детализирован в подпунктах.ИЛИ План содержит два пункт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которых позволит раскрыть данную тему по существу. Ни один из этих пунктов  не детализирован в подпунктах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иные ситуации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.1   Указание по оценива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по критерию 28.1 (раскрытие темы), выставляется 0 бал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 по всем остальным критериям оценивания выставляется 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ерии оценивания ответа на задание 28. 2. Количество пунктов плана 1 бал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ание по оценив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и пунктов плана, имеющие абстракт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ьный характер и не отражающие специфики те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читываются при оцени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трёх, два из которых детализированы в подпунктах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ерии оценивания ответа на задание 28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Корректность формулировок пунктов и подпунк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плана. 1 бал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и пунктов и подпунктов плана не содер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ок и нето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ормулировках пунктов и/или подпунктов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тся неточности и/ил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симальный балл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омендации по выполнению 28 за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редстоит подготовить развернутый ответ по тем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«Гло­баль­ные про­бле­мы со­вре­мен­но­сти»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, в соответствии с которым вы будете освещать эту тему.    План должен содержать не менее трех пунктов, из которых 2 или более детализированы в подпун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Понят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о глобальных проблемах человечества/Глобальные проблемы  представляют собой совокупность проблем человечества, от решения которых зависит социальный прогресс и сохранение цивилизации: предотвращение мировой термоядерной войны и обеспечение мирных условий для развития всех нар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 Причины возникновени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Целостность современного мира, всемирная общность людей - превращение  локальных проблем в ми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Изменение образа жизни людей со вступлением в информационную эпо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ктивно-преобразующей деятельности человека не всегда соответствует уровень общественной организации, политического мышления и экологического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Я сдам ЕГЭ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874960" cy="441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313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 Ви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Интерсоциальные  (проблема Север-Юг, войны и мира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роблемы, появившиеся в результате взаимоотношения общества и природы (энергетические, продовольственные, экологическ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озникающие в системе отношений человека и общества (демографическая проблема, проблема здоровья человека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­яв­ле­ния и по­след­ствия гло­баль­ных про­блем со­вре­мен­но­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с­поль­зо­ва­ние ре­ли­ги­оз­ных и со­ци­о­куль­тур­ных про­грамм­ных уста­но­вок, террористически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без­ра­бо­ти­ца и ми­гра­ция в эко­но­ми­че­ски бла­го­по­луч­ные стра­ны ми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зменение климата, появление озоновых д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де­мо­гра­фи­че­ский взрыв» - рост на­ро­до­на­се­ле­ния мира за счет раз­ви­ва­ю­щих­ся стран. Старение ряда европейских наций - снижение рожд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.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ти решения: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Информирование широких слоев населения об опасности, грозящей всему челове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ъединение усилий мирового сообщества в борьбе с террори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Пропаганда необходимости гармоничного сосуществования природы и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Формирование нового политического мышление, предусматривающее отказ от политики силы во взаимоотношениях между стра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Поддержка социально-экономических преобразований в развивающихся странах с целью предотвращения углубления неравенства между богатыми и бедными странами и реги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Осу­ществ­ле­ние про­ду­ман­ной де­мо­гра­фи­че­ской поли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Разработка эффективных лекарственных средств против инфекционных, сердечнососудистых и онкологических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комендации по выполнению 28 за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редстоит подготовить развернутый ответ по тем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 Образование. Его значение для личности и общест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, в соответствии с которым вы будете освещать эту тему. План должен содержать не менее трех пунктов, из которых 2 или более детализированы в подпун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как социальный институт./ Образование – ключевой фактор трансляции и преумножения социаль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нятие. 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ункции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Передача социального опыта (знаний, ценностей, норм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оциализация личности. Подготовка квалифицированных кадров для поддержания и повышения выживаемости общества в постоянно меняющихся исторических условиях его существова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Обеспечение профессиональной ориентаци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ведение социокультурных инноваций. Образование способствует открытиям и изобретениям, разработке новых идей, теорий, концеп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 Социальный контроль. Законодательство многих стран предусматривает обязательное образование, что способствует поддержанию стабильност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I.C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руктура образ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дошко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основное и среднее обще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начальное и среднее специа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высшее профессиона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дополнительное образование для детей и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ые тенденции в развитии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манизация (учет индивидуальных духовных запросов и потребностей участников образовательного процес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нтернационализация (сближение национальных образовательных систем, формирование единого глобального образовательного простран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уманитаризация (возрастание роли и значимости социальных и гуманитарных учебных дисципли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омпьютеризация (информатизация образ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нципы современного российско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уманистический характер образования, приоритет общечеловеческих ценностей, право личности на свобод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динство федерального образования при праве на своеобразие образования национальных и региональных культ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едоступность образования и адаптивность системы образования к потребностям обучаем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етский характер образования в государственных учрежд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обода и плюрализм в образов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прерывное образование, вариативность, индивидуальная образовательная траектория – необходимость успешности личности в современном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Я сдам ЕГЭ 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86200" cy="425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2743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научиться плавать, стоя на берегу. Нельзя  успешно сдать ЕГЭ, не занимаясь дополнительно по предмет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2400" y="188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в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е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6197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дификатор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Объект 3" descr="&amp;Kcy;&amp;ocy;&amp;dcy;&amp;icy;&amp;fcy;&amp;icy;&amp;kcy;&amp;acy;&amp;tcy;&amp;ocy;&amp;rcy; &amp;IEcy;&amp;Gcy;&amp;Ecy; &amp;ocy;&amp;bcy;&amp;shchcy;&amp;iecy;&amp;scy;&amp;tcy;&amp;vcy;&amp;ocy;&amp;zcy;&amp;ncy;&amp;acy;&amp;ncy;&amp;icy;&amp;iecy; 2014"/>
          <p:cNvPicPr/>
          <p:nvPr/>
        </p:nvPicPr>
        <p:blipFill>
          <a:blip r:embed="rId1"/>
          <a:stretch/>
        </p:blipFill>
        <p:spPr>
          <a:xfrm>
            <a:off x="876240" y="1657440"/>
            <a:ext cx="7391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981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25. Раскрытие смысла понятий и их использование в заданном контексте</a:t>
            </a:r>
            <a:br>
              <a:rPr sz="2400"/>
            </a:b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данного задания открывает три источника информации, позволяющих судить об уровне подготов­ки выпускни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раскрытие смысла указанного базового понятия (его сущности, основных признак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раскрытие определённых аспектов данного понятия (его видов, типов, форм, взаимосвязь с другими поня­тиями, формулирование суждений и др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характер приводимых суждений (наличие информации о рассматриваемом явлении, опора на знания обществоведческого курса, содержательная корректность с точки зрения научного обществозн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 25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смысл об­ще­ство­ве­ды вкла­ды­ва­ют в по­ня­т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политический режим»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­вле­кая зна­ния об­ще­ство­вед­че­ско­го курса, со­ставь­те два предложения: одно предложение, со­дер­жа­щее ин­фор­ма­цию 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итериях(-и) вы­де­ле­ния типов по­ли­ти­че­ских режи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одно предложение, рас­кры­ва­ю­ще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­бен­но­сти де­мо­кра­ти­че­ско­го реж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 25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смысл понятия, например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ий реж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это совокупность средств и методов, при помощи которых государство оказывает регулирующее воздействие на обществ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жет быть приведено иное, близкое по смыслу определение или объяснение смысла понятия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итерием выде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х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мократических режимов является уровень политическ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ы общест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)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ью демократическ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а является гарантия политических прав и свобод гражд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 25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смысл обществоведы вкладывают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ятие «чувственное познание»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кая знания обществоведческого курса, составьте два предложения: одно предложени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щее информацию о формах чувственного позн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другое предложение, содержаще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нформацию об одной из этих форм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 2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вственное позн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отражение действительности в чувственных образах; ступень познания, которая формирует непосредственное знание о предмета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формам чувственного позн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о относить ощущение, восприятие и предст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прия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целостный образ предмета, формируемый при его непосредственном воздействии на органы чувств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нера</cp:lastModifiedBy>
  <dcterms:modified xsi:type="dcterms:W3CDTF">2017-11-12T19:44:34Z</dcterms:modified>
  <cp:revision>154</cp:revision>
  <dc:subject/>
  <dc:title>Рекомендации по выполнению С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