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F65-191A-4CA3-8003-4E85FF72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73A-41D9-4083-AABD-7792FCD8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213-1867-41C3-9E6E-12155D76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E57-7B62-458C-8198-A64B1F55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3945B-C593-452E-8EF1-4630E128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02FF6-B8D5-4039-88F2-C24D61A2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22E29-68F8-4C70-9C1D-37D4614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22845-04A7-463C-BF48-E2A25618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D64BA-2785-4310-B1C1-894BA33F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2F4B2-DB13-4A95-8832-73398F21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80B4-1A76-4AA8-BF92-D116651D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8D6-4DCE-48C0-ABB1-A3555546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A3BD9-6043-4C9C-A8A8-2280D482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0E3FC-6D50-4209-8817-8FE9FCF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0E772-A53F-40DC-B752-BBE28A57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5D943-5FBC-4637-8B37-E7129D8E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DF704-2F2F-4422-9B9D-AD65C57B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53E-368D-4591-AD5D-D07200C5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BAD-55AB-411A-93E5-C12F21BC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D1B-8E11-4B5A-9081-EA99B3DC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151-E08F-46C2-984C-0EE56D73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A67-FE0D-4179-A808-E5CEB606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ADE-620B-4EE0-B644-746C4FE1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314-622D-4DFE-BF3D-BAA211C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F53-B808-497D-978D-16B72C106A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509F-6576-4C64-96DF-19E8DF8FAC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«Гранит науки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цы 3-б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колы №5 г. Воскресен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упруновой Екатер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оде работы над проектом я узнала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нит является одной из самых пр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од на земле. Обрабатывать его оч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но. И поэтому когда говорят «грыз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нит науки» подразумевают «упор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ойчиво учиться, овладевать знани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часто слышу от взро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ых фразу «грызть г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т науки». Меня заи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есовал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то та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нит и почему его 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грыз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f498a5148aaf72b57240430eecf"/>
          <p:cNvPicPr/>
          <p:nvPr/>
        </p:nvPicPr>
        <p:blipFill>
          <a:blip r:embed="rId1"/>
          <a:stretch/>
        </p:blipFill>
        <p:spPr>
          <a:xfrm>
            <a:off x="4859280" y="1700280"/>
            <a:ext cx="381636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исхождение грани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н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горная пор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, образовавшая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е изверж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я маг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4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став грани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ни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сходит от латин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u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 - в перевод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ер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оит из отдельных зерен – кристал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рца, слюды и полевого шпа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Wa1tfPL77ls"/>
          <p:cNvPicPr/>
          <p:nvPr/>
        </p:nvPicPr>
        <p:blipFill>
          <a:blip r:embed="rId1"/>
          <a:stretch/>
        </p:blipFill>
        <p:spPr>
          <a:xfrm>
            <a:off x="1908000" y="3846600"/>
            <a:ext cx="49676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ойства грани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лговечность. Первые признаки разрушения более чем через 500 ле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ристос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чность. Гранит один из самых прочных пород на земле (из-за налич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ем зерен кварца).Обрабатывается он  только более прочными материалами (алмазам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вета грани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ер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оз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рас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ел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и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еле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ричне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бел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9" descr="brushed_27"/>
          <p:cNvPicPr/>
          <p:nvPr/>
        </p:nvPicPr>
        <p:blipFill>
          <a:blip r:embed="rId1"/>
          <a:stretch/>
        </p:blipFill>
        <p:spPr>
          <a:xfrm>
            <a:off x="3995640" y="148428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Цвета грани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13" descr="59cc93720be9c48c78c813971e922eb1"/>
          <p:cNvPicPr/>
          <p:nvPr/>
        </p:nvPicPr>
        <p:blipFill>
          <a:blip r:embed="rId1"/>
          <a:stretch/>
        </p:blipFill>
        <p:spPr>
          <a:xfrm>
            <a:off x="1042920" y="836640"/>
            <a:ext cx="3384720" cy="252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659da0a50c1c7dbc980a10314a244011"/>
          <p:cNvPicPr/>
          <p:nvPr/>
        </p:nvPicPr>
        <p:blipFill>
          <a:blip r:embed="rId2"/>
          <a:stretch/>
        </p:blipFill>
        <p:spPr>
          <a:xfrm>
            <a:off x="4427640" y="836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4841981c8fe602440b345af7b5ad6cd3"/>
          <p:cNvPicPr/>
          <p:nvPr/>
        </p:nvPicPr>
        <p:blipFill>
          <a:blip r:embed="rId3"/>
          <a:stretch/>
        </p:blipFill>
        <p:spPr>
          <a:xfrm>
            <a:off x="1042920" y="3346560"/>
            <a:ext cx="3384720" cy="24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bc68dbfcc07d9ea25ed04501bcc761d"/>
          <p:cNvPicPr/>
          <p:nvPr/>
        </p:nvPicPr>
        <p:blipFill>
          <a:blip r:embed="rId4"/>
          <a:stretch/>
        </p:blipFill>
        <p:spPr>
          <a:xfrm>
            <a:off x="4427640" y="3346560"/>
            <a:ext cx="3600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зделия из грани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ш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баляс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ли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толеш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туп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оза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окон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DSC02354"/>
          <p:cNvPicPr/>
          <p:nvPr/>
        </p:nvPicPr>
        <p:blipFill>
          <a:blip r:embed="rId1"/>
          <a:stretch/>
        </p:blipFill>
        <p:spPr>
          <a:xfrm>
            <a:off x="3419640" y="1484280"/>
            <a:ext cx="572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зделия из грани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9" descr="f20150627122002-stupeni_iz_granita_baltik_braun_chastnyy_kottedzh"/>
          <p:cNvPicPr/>
          <p:nvPr/>
        </p:nvPicPr>
        <p:blipFill>
          <a:blip r:embed="rId1"/>
          <a:stretch/>
        </p:blipFill>
        <p:spPr>
          <a:xfrm>
            <a:off x="1042920" y="1628640"/>
            <a:ext cx="345780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fasad_izvestnyakskala"/>
          <p:cNvPicPr/>
          <p:nvPr/>
        </p:nvPicPr>
        <p:blipFill>
          <a:blip r:embed="rId2"/>
          <a:stretch/>
        </p:blipFill>
        <p:spPr>
          <a:xfrm>
            <a:off x="4500720" y="1628640"/>
            <a:ext cx="3717720" cy="2171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kolonny12"/>
          <p:cNvPicPr/>
          <p:nvPr/>
        </p:nvPicPr>
        <p:blipFill>
          <a:blip r:embed="rId3"/>
          <a:stretch/>
        </p:blipFill>
        <p:spPr>
          <a:xfrm>
            <a:off x="1042920" y="3789360"/>
            <a:ext cx="3457800" cy="217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944472b265d5469"/>
          <p:cNvPicPr/>
          <p:nvPr/>
        </p:nvPicPr>
        <p:blipFill>
          <a:blip r:embed="rId4"/>
          <a:stretch/>
        </p:blipFill>
        <p:spPr>
          <a:xfrm>
            <a:off x="4500720" y="3789360"/>
            <a:ext cx="36716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7T15:33:04Z</dcterms:created>
  <dc:creator>Дмитрий</dc:creator>
  <dc:description/>
  <dc:language>en-US</dc:language>
  <cp:lastModifiedBy>Пользователь</cp:lastModifiedBy>
  <dcterms:modified xsi:type="dcterms:W3CDTF">2017-12-17T18:10:38Z</dcterms:modified>
  <cp:revision>9</cp:revision>
  <dc:subject/>
  <dc:title>Цвета гранита</dc:title>
</cp:coreProperties>
</file>