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56-B73E-474B-A0C0-BB79EE3D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410-E495-4729-B1E9-A522A0F6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8E3-4033-4395-A099-8BB0968C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0D0-AD8E-47B9-94B6-911B7DB8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1E10-D643-4D04-B618-D218E522A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1BFFD-B644-4505-BEBA-F6D46D0E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6DF79-24ED-44EA-95A1-8F5CCA6A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7BC39-FAC1-464C-BD8D-4B93FA6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5A56B-597B-42FD-B827-252BF14B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DDC75-47E9-4049-A1AE-F6D617A9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F0BC3-27E6-47F6-A8C5-C8D8380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006-6E7A-4B76-B6EE-F50A2C1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A0FB4-22B1-48F7-856D-CBEB813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DE0A-5C33-48DE-8AB1-8DF05F7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B139-022E-40AF-A61E-1F7CDAEB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4C0EB-CC17-4B53-B66B-1EEE890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A692-8966-4CED-B858-71B8EC63B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D31-3788-451F-8ACA-69EFBA1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6A8-CBD2-48BE-BFDC-28F735F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E08-41E8-4EAB-813A-23BB6C9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E48-85B1-4B8E-953E-9CA0249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F4B-3BA9-4AD8-880B-E6FF47C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DF6-A42E-4A39-B2B5-BEE9650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C2C-2FB2-43F6-9FE6-706C680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68974D-9E28-4F56-AE23-8C53F1E25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517B4D-AA28-469F-82AC-8735AAEF4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i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4" descr="slide_6.jpg"/>
          <p:cNvPicPr/>
          <p:nvPr/>
        </p:nvPicPr>
        <p:blipFill>
          <a:blip r:embed="rId1"/>
          <a:srcRect l="0" t="16120" r="1403" b="10501"/>
          <a:stretch/>
        </p:blipFill>
        <p:spPr>
          <a:xfrm>
            <a:off x="357120" y="500040"/>
            <a:ext cx="8429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700.jpg"/>
          <p:cNvPicPr/>
          <p:nvPr/>
        </p:nvPicPr>
        <p:blipFill>
          <a:blip r:embed="rId1"/>
          <a:srcRect l="0" t="18309" r="2646" b="13817"/>
          <a:stretch/>
        </p:blipFill>
        <p:spPr>
          <a:xfrm>
            <a:off x="1000080" y="1214280"/>
            <a:ext cx="71722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6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О В НАШЕМ ДО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23_dimkov.jpg"/>
          <p:cNvPicPr/>
          <p:nvPr/>
        </p:nvPicPr>
        <p:blipFill>
          <a:blip r:embed="rId1"/>
          <a:stretch/>
        </p:blipFill>
        <p:spPr>
          <a:xfrm>
            <a:off x="285840" y="785880"/>
            <a:ext cx="325764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шт.jpg"/>
          <p:cNvPicPr/>
          <p:nvPr/>
        </p:nvPicPr>
        <p:blipFill>
          <a:blip r:embed="rId2"/>
          <a:stretch/>
        </p:blipFill>
        <p:spPr>
          <a:xfrm>
            <a:off x="3714840" y="785880"/>
            <a:ext cx="3936960" cy="2214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45c0c26b82b79106e58157778257939f.jpg"/>
          <p:cNvPicPr/>
          <p:nvPr/>
        </p:nvPicPr>
        <p:blipFill>
          <a:blip r:embed="rId3"/>
          <a:stretch/>
        </p:blipFill>
        <p:spPr>
          <a:xfrm>
            <a:off x="285840" y="3000240"/>
            <a:ext cx="2585880" cy="3643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rospis_zhostovskaja_foto_5.jpg"/>
          <p:cNvPicPr/>
          <p:nvPr/>
        </p:nvPicPr>
        <p:blipFill>
          <a:blip r:embed="rId4"/>
          <a:stretch/>
        </p:blipFill>
        <p:spPr>
          <a:xfrm>
            <a:off x="3071880" y="3000240"/>
            <a:ext cx="307188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7805.jpg"/>
          <p:cNvPicPr/>
          <p:nvPr/>
        </p:nvPicPr>
        <p:blipFill>
          <a:blip r:embed="rId5"/>
          <a:stretch/>
        </p:blipFill>
        <p:spPr>
          <a:xfrm>
            <a:off x="6357960" y="3071880"/>
            <a:ext cx="2357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10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6862-22_1.jpg"/>
          <p:cNvPicPr/>
          <p:nvPr/>
        </p:nvPicPr>
        <p:blipFill>
          <a:blip r:embed="rId1"/>
          <a:srcRect l="7545" t="20754" r="5660" b="26414"/>
          <a:stretch/>
        </p:blipFill>
        <p:spPr>
          <a:xfrm>
            <a:off x="0" y="1071720"/>
            <a:ext cx="387360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52654_0.jpg"/>
          <p:cNvPicPr/>
          <p:nvPr/>
        </p:nvPicPr>
        <p:blipFill>
          <a:blip r:embed="rId2"/>
          <a:stretch/>
        </p:blipFill>
        <p:spPr>
          <a:xfrm>
            <a:off x="4429080" y="785880"/>
            <a:ext cx="4071960" cy="2724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b_33c383997adb77a1da8bc0ee35e75a81.jpg"/>
          <p:cNvPicPr/>
          <p:nvPr/>
        </p:nvPicPr>
        <p:blipFill>
          <a:blip r:embed="rId3"/>
          <a:stretch/>
        </p:blipFill>
        <p:spPr>
          <a:xfrm>
            <a:off x="1571760" y="3500280"/>
            <a:ext cx="47149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28400" y="713880"/>
            <a:ext cx="77547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Предположит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Какова тема, цель урока 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00b8"/>
                </a:solidFill>
                <a:latin typeface="Calibri"/>
              </a:rPr>
              <a:t>Познакомимся __________________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00b8"/>
                </a:solidFill>
                <a:latin typeface="Calibri"/>
              </a:rPr>
              <a:t>Выполним   _____________________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145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:</a:t>
            </a:r>
            <a:r>
              <a:rPr b="1" lang="ru-RU" sz="3200" spc="-1" strike="noStrike">
                <a:solidFill>
                  <a:srgbClr val="2300dc"/>
                </a:solidFill>
                <a:latin typeface="Calibri"/>
              </a:rPr>
              <a:t> Красивая посуда в нашем д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Calibri"/>
              </a:rPr>
              <a:t>- познакомимся</a:t>
            </a: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 с посудой, которая есть в доме, что включает в себя серви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Calibri"/>
              </a:rPr>
              <a:t>- выполним </a:t>
            </a: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   работу в парах – вылепим серв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4535640" y="576360"/>
            <a:ext cx="4248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Рисунок 4" descr="20297.jpg"/>
          <p:cNvPicPr/>
          <p:nvPr/>
        </p:nvPicPr>
        <p:blipFill>
          <a:blip r:embed="rId1"/>
          <a:stretch/>
        </p:blipFill>
        <p:spPr>
          <a:xfrm>
            <a:off x="285840" y="357120"/>
            <a:ext cx="3838320" cy="2714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future-designs_ru-TovarObshegoNaz_240.jpg"/>
          <p:cNvPicPr/>
          <p:nvPr/>
        </p:nvPicPr>
        <p:blipFill>
          <a:blip r:embed="rId2"/>
          <a:stretch/>
        </p:blipFill>
        <p:spPr>
          <a:xfrm>
            <a:off x="4572000" y="214200"/>
            <a:ext cx="4071960" cy="3019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4b36d74ceb74e6bf05f2e30ed0b2a245-1421788729.jpg"/>
          <p:cNvPicPr/>
          <p:nvPr/>
        </p:nvPicPr>
        <p:blipFill>
          <a:blip r:embed="rId3"/>
          <a:stretch/>
        </p:blipFill>
        <p:spPr>
          <a:xfrm>
            <a:off x="1928880" y="3357720"/>
            <a:ext cx="4286160" cy="28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4" descr="full_stolovyi-serviz-bolero-frukty-krasnye-6-27-300.jpg"/>
          <p:cNvPicPr/>
          <p:nvPr/>
        </p:nvPicPr>
        <p:blipFill>
          <a:blip r:embed="rId1"/>
          <a:stretch/>
        </p:blipFill>
        <p:spPr>
          <a:xfrm>
            <a:off x="500040" y="714240"/>
            <a:ext cx="8118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-1857240" y="500040"/>
            <a:ext cx="76849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19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903240"/>
                <a:tab algn="l" pos="1817640"/>
                <a:tab algn="l" pos="2732040"/>
                <a:tab algn="l" pos="3646440"/>
                <a:tab algn="l" pos="4560840"/>
                <a:tab algn="l" pos="5475240"/>
                <a:tab algn="l" pos="6389640"/>
                <a:tab algn="l" pos="7304040"/>
                <a:tab algn="l" pos="8218440"/>
                <a:tab algn="l" pos="9132840"/>
                <a:tab algn="l" pos="1004724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Рисунок 5" descr="img_img_75617.jpg"/>
          <p:cNvPicPr/>
          <p:nvPr/>
        </p:nvPicPr>
        <p:blipFill>
          <a:blip r:embed="rId1"/>
          <a:stretch/>
        </p:blipFill>
        <p:spPr>
          <a:xfrm>
            <a:off x="214200" y="1429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928800" y="23572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ы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Рисунок 7" descr="b_f11469d491a226fc68edb9922bf76213.jpg"/>
          <p:cNvPicPr/>
          <p:nvPr/>
        </p:nvPicPr>
        <p:blipFill>
          <a:blip r:embed="rId2"/>
          <a:srcRect l="0" t="13808" r="-2037" b="0"/>
          <a:stretch/>
        </p:blipFill>
        <p:spPr>
          <a:xfrm>
            <a:off x="4714920" y="142920"/>
            <a:ext cx="3571920" cy="2228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5715000" y="22860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йны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Рисунок 9" descr="photo1697.jpeg"/>
          <p:cNvPicPr/>
          <p:nvPr/>
        </p:nvPicPr>
        <p:blipFill>
          <a:blip r:embed="rId3"/>
          <a:stretch/>
        </p:blipFill>
        <p:spPr>
          <a:xfrm>
            <a:off x="142920" y="28576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0"/>
          <p:cNvSpPr/>
          <p:nvPr/>
        </p:nvSpPr>
        <p:spPr>
          <a:xfrm>
            <a:off x="64296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овы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Рисунок 11" descr="43360803854fa1367589575c557f257e.jpg"/>
          <p:cNvPicPr/>
          <p:nvPr/>
        </p:nvPicPr>
        <p:blipFill>
          <a:blip r:embed="rId4"/>
          <a:stretch/>
        </p:blipFill>
        <p:spPr>
          <a:xfrm>
            <a:off x="4214880" y="2857680"/>
            <a:ext cx="467496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2"/>
          <p:cNvSpPr/>
          <p:nvPr/>
        </p:nvSpPr>
        <p:spPr>
          <a:xfrm>
            <a:off x="5357880" y="55720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ны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img3.jpg"/>
          <p:cNvPicPr/>
          <p:nvPr/>
        </p:nvPicPr>
        <p:blipFill>
          <a:blip r:embed="rId1"/>
          <a:stretch/>
        </p:blipFill>
        <p:spPr>
          <a:xfrm>
            <a:off x="642960" y="35712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4:57:56Z</dcterms:created>
  <dc:creator>user</dc:creator>
  <dc:description/>
  <dc:language>en-US</dc:language>
  <cp:lastModifiedBy>USER</cp:lastModifiedBy>
  <dcterms:modified xsi:type="dcterms:W3CDTF">2017-10-22T13:48:14Z</dcterms:modified>
  <cp:revision>126</cp:revision>
  <dc:subject/>
  <dc:title>Слайд 1</dc:title>
</cp:coreProperties>
</file>