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04122-AF1E-4FC3-BB5E-21B40DF9B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602E4-D482-4175-8F7C-85E8B0076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09608-2318-48FB-8A05-AA635F1F3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1A308-24FB-45E9-BAAF-CCB95255F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36F45-8D3A-4AA8-BF8B-1187C51FE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6C77D-6533-490C-BA24-978AB195A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0A5E6-ED1D-45CB-AF82-C8A557DAE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70C4D-0E0A-479E-8BEF-51FDC3B7D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CF6F7-800A-4F23-A7F4-60654FE5D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4722D-70B2-4519-A004-14E373057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DD11E-4DB3-483F-AB1A-833A5913F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3E82B-CA84-40EC-8F2A-5E47CCEE4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6A3A5-9C71-4A21-B1EB-A7A8CFCAD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218E9-2F58-4031-8F5F-AE2689E32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8AD4E-2E35-4895-8A53-DA4832425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C53B9-4131-42AD-BEBF-FD84D850A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66E25-093E-412A-8EA3-80AE0BC4C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3E6F6-85C4-4E8A-8B1A-A71B85F8C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89467-0BBD-4D53-8507-79C30A5B8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68FCF-78F4-4C36-9731-2182C639C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6830C-283F-4EB4-BDC0-94FB56766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085E8-E20B-4BFF-A9D2-D8376BB47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45613-BF28-4535-A839-DA331FE34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D81CA-55D7-4375-9F5F-726F9DD74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86160-9266-4C0D-ABD0-C8305ACF095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06C18-1DAD-4F06-8E42-5820F05B21A0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4"/>
          <p:cNvSpPr/>
          <p:nvPr/>
        </p:nvSpPr>
        <p:spPr>
          <a:xfrm>
            <a:off x="1116000" y="476280"/>
            <a:ext cx="745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eec94"/>
                </a:solidFill>
                <a:latin typeface="Arial"/>
              </a:rPr>
              <a:t>«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Контакты с домашними животными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eec94"/>
                </a:solidFill>
                <a:latin typeface="Arial"/>
              </a:rPr>
              <a:t>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1" name="Picture 6" descr="81223a90eb17"/>
          <p:cNvPicPr/>
          <p:nvPr/>
        </p:nvPicPr>
        <p:blipFill>
          <a:blip r:embed="rId1"/>
          <a:stretch/>
        </p:blipFill>
        <p:spPr>
          <a:xfrm>
            <a:off x="1332000" y="2276640"/>
            <a:ext cx="6912000" cy="424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5" descr="https://fs00.infourok.ru/images/doc/278/283880/img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eec94"/>
                </a:solidFill>
                <a:uFillTx/>
                <a:latin typeface="Times New Roman"/>
              </a:rPr>
              <a:t>Как вести себя, чтобы собака, кошка не укусили, не поцарапали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933120" y="1406520"/>
            <a:ext cx="727632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Даже если ты боишься собаки, никогда этого не показывай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Собака это может почувствовать и напасть на тебя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Ни в коем случае не убегайте от собаки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Она может принять вас за дичь и поохотиться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Если тебе хочется погладить собаку –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спроси разрешения у ее хозяина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Гладь осторожно, не делая резких движений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- Не корми чужих собак и не трогай их во время еды или сна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- Не трогай щенков у собаки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Не подходи к животному сзади и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не прикасайся к нему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если оно тебя не видит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От испуга животное может поцарапать или укусить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2" descr="img18"/>
          <p:cNvPicPr/>
          <p:nvPr/>
        </p:nvPicPr>
        <p:blipFill>
          <a:blip r:embed="rId1"/>
          <a:stretch/>
        </p:blipFill>
        <p:spPr>
          <a:xfrm>
            <a:off x="826920" y="620640"/>
            <a:ext cx="7705800" cy="59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5" descr="https://opt-973762.ssl.1c-bitrix-cdn.ru/upload/iblock/d3f/d3f772acbbb8b4869ee4df3c73c795c9.jpg?149456955485644"/>
          <p:cNvPicPr/>
          <p:nvPr/>
        </p:nvPicPr>
        <p:blipFill>
          <a:blip r:embed="rId1"/>
          <a:stretch/>
        </p:blipFill>
        <p:spPr>
          <a:xfrm>
            <a:off x="250920" y="836640"/>
            <a:ext cx="8296200" cy="524808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9"/>
          <p:cNvSpPr/>
          <p:nvPr/>
        </p:nvSpPr>
        <p:spPr>
          <a:xfrm>
            <a:off x="1267200" y="339840"/>
            <a:ext cx="485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eec94"/>
                </a:solidFill>
                <a:latin typeface="Times New Roman"/>
              </a:rPr>
              <a:t>какие домашние животные живут у вас дом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Rectangle 12"/>
          <p:cNvSpPr/>
          <p:nvPr/>
        </p:nvSpPr>
        <p:spPr>
          <a:xfrm>
            <a:off x="2412000" y="328392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Rectangle 13"/>
          <p:cNvSpPr/>
          <p:nvPr/>
        </p:nvSpPr>
        <p:spPr>
          <a:xfrm>
            <a:off x="672480" y="6308640"/>
            <a:ext cx="312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Если это домашние животны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Rectangle 15"/>
          <p:cNvSpPr/>
          <p:nvPr/>
        </p:nvSpPr>
        <p:spPr>
          <a:xfrm>
            <a:off x="4067280" y="6308640"/>
            <a:ext cx="6334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значит, о них кто-то заботится? Кто же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(Человек, хозяин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5" descr="http://s006.radikal.ru/i213/1309/64/a9a711e5c5a3.jpg"/>
          <p:cNvPicPr/>
          <p:nvPr/>
        </p:nvPicPr>
        <p:blipFill>
          <a:blip r:embed="rId1"/>
          <a:stretch/>
        </p:blipFill>
        <p:spPr>
          <a:xfrm>
            <a:off x="1000080" y="1844640"/>
            <a:ext cx="6308640" cy="393696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7"/>
          <p:cNvSpPr/>
          <p:nvPr/>
        </p:nvSpPr>
        <p:spPr>
          <a:xfrm>
            <a:off x="324000" y="6021360"/>
            <a:ext cx="849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Как можно одним словом сказать про животное, у которого нет дома? (Бездомный)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Rectangle 8"/>
          <p:cNvSpPr/>
          <p:nvPr/>
        </p:nvSpPr>
        <p:spPr>
          <a:xfrm>
            <a:off x="826920" y="404280"/>
            <a:ext cx="759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Бывает ли такое, когда у домашних животных нет хозяина? (Бывает).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Кто тогда о них заботится? (Никто).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Где же они живут? (На улице). Значит, у них нет дома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AutoShape 5"/>
          <p:cNvSpPr/>
          <p:nvPr/>
        </p:nvSpPr>
        <p:spPr>
          <a:xfrm>
            <a:off x="0" y="404640"/>
            <a:ext cx="9067680" cy="60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Ребята, как вы думаете можно ли трогать бездомную кошку? (Нет). Почему? (Потому что она грязная, может быть больна, может поцарапать). 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1" name="Picture 7" descr="http://yourwisdom.ru/wp-content/uploads/2016/01/maks-fraj-o-lyubvi-gluposti-i-koshkax-1.jpg"/>
          <p:cNvPicPr/>
          <p:nvPr/>
        </p:nvPicPr>
        <p:blipFill>
          <a:blip r:embed="rId1"/>
          <a:stretch/>
        </p:blipFill>
        <p:spPr>
          <a:xfrm>
            <a:off x="1252440" y="1209600"/>
            <a:ext cx="663912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5" descr="https://ds04.infourok.ru/uploads/ex/1287/0008154e-220f2a0c/hello_html_m7904e2e6.jpg"/>
          <p:cNvPicPr/>
          <p:nvPr/>
        </p:nvPicPr>
        <p:blipFill>
          <a:blip r:embed="rId1"/>
          <a:stretch/>
        </p:blipFill>
        <p:spPr>
          <a:xfrm>
            <a:off x="1619280" y="1916280"/>
            <a:ext cx="6265800" cy="468144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7"/>
          <p:cNvSpPr/>
          <p:nvPr/>
        </p:nvSpPr>
        <p:spPr>
          <a:xfrm>
            <a:off x="-1418040" y="3245760"/>
            <a:ext cx="23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Rectangle 9"/>
          <p:cNvSpPr/>
          <p:nvPr/>
        </p:nvSpPr>
        <p:spPr>
          <a:xfrm>
            <a:off x="0" y="1915560"/>
            <a:ext cx="674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Rectangle 10"/>
          <p:cNvSpPr/>
          <p:nvPr/>
        </p:nvSpPr>
        <p:spPr>
          <a:xfrm>
            <a:off x="250920" y="476280"/>
            <a:ext cx="83232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Можно ли трогать бездомную или чужую собаку? (Нет, она может быть агрессивная - может напасть и укусить Ни в коем случае нельзя отбирать у животных еду или трогать животных во время еды, потому что они могут подумать, что вы хотите отобрать у них еду, и набросятся на вас. 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5" descr="http://rustoria.ru/images/content/g960x504/0a/0a13990a0a4387a8fd5a82978583198a.jpg"/>
          <p:cNvPicPr/>
          <p:nvPr/>
        </p:nvPicPr>
        <p:blipFill>
          <a:blip r:embed="rId1"/>
          <a:stretch/>
        </p:blipFill>
        <p:spPr>
          <a:xfrm>
            <a:off x="1116000" y="2060640"/>
            <a:ext cx="7129440" cy="460836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7"/>
          <p:cNvSpPr/>
          <p:nvPr/>
        </p:nvSpPr>
        <p:spPr>
          <a:xfrm>
            <a:off x="972360" y="247680"/>
            <a:ext cx="353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Ребята, можно ли дразнить собак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AutoShape 5"/>
          <p:cNvSpPr/>
          <p:nvPr/>
        </p:nvSpPr>
        <p:spPr>
          <a:xfrm>
            <a:off x="19080" y="404640"/>
            <a:ext cx="9105840" cy="60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- Как же можно помочь бездомным кошкам и собакам?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9" name="Picture 7" descr="http://i017.radikal.ru/1401/83/123f592b4209.jpg"/>
          <p:cNvPicPr/>
          <p:nvPr/>
        </p:nvPicPr>
        <p:blipFill>
          <a:blip r:embed="rId1"/>
          <a:stretch/>
        </p:blipFill>
        <p:spPr>
          <a:xfrm>
            <a:off x="1835280" y="1557360"/>
            <a:ext cx="540072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5" descr="http://svitppt.com.ua/images/35/34547/960/img10.jpg"/>
          <p:cNvPicPr/>
          <p:nvPr/>
        </p:nvPicPr>
        <p:blipFill>
          <a:blip r:embed="rId1"/>
          <a:stretch/>
        </p:blipFill>
        <p:spPr>
          <a:xfrm>
            <a:off x="542880" y="404640"/>
            <a:ext cx="8058240" cy="604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5" descr="https://allyslide.com/thumbs_2/8f98f317f4320f925c204f56b61591f5/img5.jpg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4-02T16:19:14Z</dcterms:created>
  <dc:creator>Надежда</dc:creator>
  <dc:description/>
  <dc:language>en-US</dc:language>
  <cp:lastModifiedBy>USER</cp:lastModifiedBy>
  <dcterms:modified xsi:type="dcterms:W3CDTF">2017-12-04T09:48:39Z</dcterms:modified>
  <cp:revision>5</cp:revision>
  <dc:subject/>
  <dc:title>Слайд 1</dc:title>
</cp:coreProperties>
</file>