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DCEBC-DAF4-4675-8968-CDBD36B2D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7DCB3-95D7-4E30-B70E-F69DF6F54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9A6C0-A71D-4F88-BF04-5A273099E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CB609-720F-4901-BE5D-7AEC8B4BD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5B66B-2480-4CC8-8193-FCEB48FB1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309CB-CFFD-4447-AA73-4C43C81AD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FDC5E-531E-4641-83D8-D6B7156E2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F2D5D-95DF-440E-BF43-3A8F99703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C513F-16A8-4055-9259-B20A9AB4A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173E3-5F1B-4CE5-AF28-0B13C674E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08816-4675-4DC1-8062-E11DB5384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17A38-17ED-436C-B00E-DD7291C0D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D2764-CCDC-4892-B2FA-89AD9F0A3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5A7E7-8539-4DED-8E58-92DF73957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E7D0E-F1B4-48F5-8357-E9917D37C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67E66-EA6A-4F05-9C94-43A5FCA64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3312C-D6C9-4809-95E4-6225979DB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303B53-12CB-4A62-9714-41A9605BF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375C16-D8BA-4054-B55F-723B316DD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52DC70-EC8C-43A9-A882-A31066287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A15226-81BD-43FF-B59A-6761BC6E0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69E252-8632-4727-8FD2-215E28C9A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D690A-0741-49A6-B35E-522426418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96F08D-6064-460A-8E57-8596F4C7B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B80F60-E979-44DB-82F2-87AE26CF4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7F9DF4-1189-474C-A831-B0EB5DBE3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F65F8F-8C4A-4783-8A99-29773C331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29AC41-8E31-4BE8-B1E5-8C2151302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0C7B15-B107-4D16-AC2A-EA8280DF1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610445-3108-4DE9-A6B1-7E70BA60A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4DE4AF-8901-402F-B113-1CEFD780D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4894FA-265F-4D3B-8DE5-5F555FE4E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9B102A-9D61-4059-8F08-EE0F169EB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5574D-260B-4DEC-955E-338D06C49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AD1FC6-D39F-457D-8C28-7CAFD1ADD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058EE1-005D-40C5-9131-382438EC8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C57E8D-F272-4F78-BBBE-6F4980513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34493B-E58D-4B81-BCC0-A8006E940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87C159-F7E0-4C44-BAAE-336DDA5AB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A8BA09-FCE5-4DCB-B254-2FDEDFB5C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30D2AF-ED1D-4883-85F2-BD7AC8FC8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474E35-4E7E-4F1C-A6B6-04C8C4F79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C1E88B-E264-49E9-AB63-6B25524E8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65F781-BB29-41C2-BB9E-FDCB16BEC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7F656-48D4-49FB-90F6-CB75D6285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5D3155-8FC9-45D3-AF00-4AF814C4E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A55743-FDC5-40E4-A78B-EC2ABB756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D16F01-39E5-4289-B63A-C6B4BB766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334BD0-4C58-47A3-B2A7-7B8FD52A7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BB066D-616D-414C-9C67-3E325F831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40D7E5-9F38-4060-BF28-617347774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DF0D34-D2E5-4E4E-A3A8-A2FB91C6D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C457A7-D6F4-4003-8820-380CD5DDF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1739F2-93A2-46C2-AF60-7E95558F1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63A913-BE1D-47A6-9602-1767C4051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D2F07-4398-464F-9411-BBED64188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16BA95-7247-4170-995B-18EFFDFFE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3E4BC-1312-43B8-91A7-A693F30C8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64CD2-5659-4A21-9B44-877D48D65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77704-1AE3-4568-A9AF-BF51DE1D9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EDFB5-0CB2-47B6-A5DE-E8514D56A31E}" type="slidenum">
              <a:rPr b="0" lang="ru-RU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47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E1A64-9E47-4650-B148-708C1649DA0F}" type="slidenum">
              <a:rPr b="0" lang="ru-RU" sz="11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1C6FD-65E0-43FF-95BA-3123E831B314}" type="slidenum">
              <a:rPr b="0" lang="ru-RU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4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4e7ed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2ACF5-3E28-4C06-A7A2-E4A7B6996EC0}" type="slidenum">
              <a:rPr b="0" lang="ru-RU" sz="1100" spc="-1" strike="noStrike">
                <a:solidFill>
                  <a:srgbClr val="f4e7ed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8FF97-0084-4424-BA52-B2D1D1EF3782}" type="slidenum">
              <a:rPr b="0" lang="ru-RU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428760" y="142920"/>
            <a:ext cx="8229600" cy="628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полните до </a:t>
            </a:r>
            <a:r>
              <a:rPr b="1" lang="ru-RU" sz="4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20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числа: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, 19, 18, 16, 15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полните до </a:t>
            </a:r>
            <a:r>
              <a:rPr b="1" lang="ru-RU" sz="4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50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числа: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, 48, 49, 46, 45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214200" y="142560"/>
            <a:ext cx="8715600" cy="64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На дереве висело 25 яблок. Утром с дерева упало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5 яблок, а вечером ещё 7. Сколько яблок осталось висеть на дереве?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</a:t>
            </a: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5 – 5 – 7 = 13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На тарелке лежало 10 яблок и 8 груш. Сколько фруктов лежало на тарелке?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  </a:t>
            </a: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0 + 8 = 18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Папа принёс 5 лещей и 12 карасей. На сколько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больше принёс папа карасей, чем лещей?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2 – 5 = 7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0" y="285840"/>
            <a:ext cx="8586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Тема: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акрепление выполнения устных приёмов сложения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 вычитания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Цель: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акрепить полученные знания об устных приемах сложения и вычитания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3" name="Рисунок 5" descr="m2-9.jpeg"/>
          <p:cNvPicPr/>
          <p:nvPr/>
        </p:nvPicPr>
        <p:blipFill>
          <a:blip r:embed="rId1"/>
          <a:stretch/>
        </p:blipFill>
        <p:spPr>
          <a:xfrm>
            <a:off x="2643120" y="3571920"/>
            <a:ext cx="4143600" cy="31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5" name="Содержимое 3" descr="_.png"/>
          <p:cNvPicPr/>
          <p:nvPr/>
        </p:nvPicPr>
        <p:blipFill>
          <a:blip r:embed="rId1"/>
          <a:stretch/>
        </p:blipFill>
        <p:spPr>
          <a:xfrm>
            <a:off x="857160" y="285840"/>
            <a:ext cx="7215120" cy="1571400"/>
          </a:xfrm>
          <a:prstGeom prst="rect">
            <a:avLst/>
          </a:prstGeom>
          <a:ln w="0">
            <a:noFill/>
          </a:ln>
        </p:spPr>
      </p:pic>
      <p:sp>
        <p:nvSpPr>
          <p:cNvPr id="226" name="TextBox 8"/>
          <p:cNvSpPr/>
          <p:nvPr/>
        </p:nvSpPr>
        <p:spPr>
          <a:xfrm>
            <a:off x="2357280" y="2643120"/>
            <a:ext cx="4643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. 65, №5, №6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285840" y="285480"/>
            <a:ext cx="8229600" cy="635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1</a:t>
            </a:r>
            <a:r>
              <a:rPr b="0" lang="ru-RU" sz="3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ru-RU" sz="3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ариант: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 + 36 – 40 = </a:t>
            </a: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6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0 - (80 - 69) = </a:t>
            </a: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79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 + 25 – 9 = </a:t>
            </a: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91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2 вариант: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+ 50 – 67 = </a:t>
            </a: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3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 - (32 + 8) = </a:t>
            </a: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30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 + 17 – 5 = </a:t>
            </a: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95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1-26T16:35:36Z</dcterms:created>
  <dc:creator>USER</dc:creator>
  <dc:description/>
  <dc:language>en-US</dc:language>
  <cp:lastModifiedBy>USER</cp:lastModifiedBy>
  <dcterms:modified xsi:type="dcterms:W3CDTF">2017-11-26T17:08:22Z</dcterms:modified>
  <cp:revision>4</cp:revision>
  <dc:subject/>
  <dc:title>Слайд 1</dc:title>
</cp:coreProperties>
</file>