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E41C-D8D9-4CD2-ACB3-C9E95614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14C3-C5C9-42D9-811B-0F069D3CA39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9946-D0C2-4747-A511-49CFE3A9641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2875-7A6D-4270-85F1-F84E4BED685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2640" y="2437920"/>
            <a:ext cx="37335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«Организация обучения учащихся с ОВЗ в условиях интегрированного образования»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105160"/>
            <a:ext cx="90676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Составитель:             Фоменко Светлана Сергеевна, 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учитель начальных классов , 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          МАОУ « Средняя школа №36» 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0676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Федеральный закон от </a:t>
            </a:r>
            <a:r>
              <a:rPr b="1" lang="ru-RU" sz="2800" spc="-1" strike="noStrike" u="sng">
                <a:solidFill>
                  <a:srgbClr val="282828"/>
                </a:solidFill>
                <a:uFillTx/>
                <a:latin typeface="Microsoft Sans Serif"/>
              </a:rPr>
              <a:t>29 декабря 2012 г. № 273-ФЗ "Об образовании в Российской Федерации" (далее - ФЗ № 273),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 регламентирующий право детей с ОВЗ и с инвалидностью на образование и обязывающий федеральные государственные органы, органы государственной власти субъектов Российской Федерации и органы местного самоуправления создавать необходимые условия для получения без дискриминации качественного образования лицами названных категорий, для коррекции нарушений развития и социальной адаптации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ФГОС НОО ОВЗ 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- федеральный государственный образовательный стандарт начального общего образования обучающихся с ограниченными возможностями здоровья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ФГОС О у/о 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ООП НОО 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- основная образовательная программа начального общего образования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ОО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 - общеобразовательная организация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АООП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 - адаптированная основная общеобразовательная программа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ПАООП НОО 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- примерная адаптированная основная образовательная программа начального общего образования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ПАООП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 - примерная адаптированная основная общеобразовательная программа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СИПР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- специальная индивидуальная программа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ПМПК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 - психолого-медико-педагогическая комиссия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ПМПк 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- психолого-медико-педагогический консилиум</a:t>
            </a:r>
            <a:br>
              <a:rPr sz="2000"/>
            </a:br>
            <a:r>
              <a:rPr b="1" lang="ru-RU" sz="2000" spc="-1" strike="noStrike" u="sng">
                <a:solidFill>
                  <a:srgbClr val="282828"/>
                </a:solidFill>
                <a:uFillTx/>
                <a:latin typeface="Microsoft Sans Serif"/>
              </a:rPr>
              <a:t>ИПРА</a:t>
            </a:r>
            <a:r>
              <a:rPr b="0" lang="ru-RU" sz="2000" spc="-1" strike="noStrike">
                <a:solidFill>
                  <a:srgbClr val="282828"/>
                </a:solidFill>
                <a:latin typeface="Microsoft Sans Serif"/>
              </a:rPr>
              <a:t> - индивидуальная программа реабилитации и абилитации инвалида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Последовательность введения ФГОС НОО ОВЗ и ФГОС О у/о:</a:t>
            </a:r>
            <a:br>
              <a:rPr sz="3600"/>
            </a:br>
            <a:r>
              <a:rPr b="0" lang="ru-RU" sz="4400" spc="-1" strike="noStrike">
                <a:solidFill>
                  <a:srgbClr val="282828"/>
                </a:solidFill>
                <a:latin typeface="Microsoft Sans Serif"/>
              </a:rPr>
              <a:t>2016-2017 уч.г. - 1 кл.</a:t>
            </a:r>
            <a:br>
              <a:rPr sz="4400"/>
            </a:br>
            <a:r>
              <a:rPr b="0" lang="ru-RU" sz="4400" spc="-1" strike="noStrike">
                <a:solidFill>
                  <a:srgbClr val="282828"/>
                </a:solidFill>
                <a:latin typeface="Microsoft Sans Serif"/>
              </a:rPr>
              <a:t>2017-2018 уч.г. - 1 и 2 кл.</a:t>
            </a:r>
            <a:br>
              <a:rPr sz="4400"/>
            </a:br>
            <a:r>
              <a:rPr b="0" lang="ru-RU" sz="4400" spc="-1" strike="noStrike">
                <a:solidFill>
                  <a:srgbClr val="282828"/>
                </a:solidFill>
                <a:latin typeface="Microsoft Sans Serif"/>
              </a:rPr>
              <a:t>2018-2019 уч.г. - 1,2 и 3 кл.</a:t>
            </a:r>
            <a:br>
              <a:rPr sz="4400"/>
            </a:br>
            <a:r>
              <a:rPr b="0" lang="ru-RU" sz="4400" spc="-1" strike="noStrike">
                <a:solidFill>
                  <a:srgbClr val="282828"/>
                </a:solidFill>
                <a:latin typeface="Microsoft Sans Serif"/>
              </a:rPr>
              <a:t>2019-2020уч.г. - 1,2,3 и 4 кл.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394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Классификация детей с ОВЗ 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(по классификации В. А. Лапшина и Б. П. Пузанова )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нарушением слуха (глухие,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слабослышащие, позднооглохшие)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нарушением зрения (слепые,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слабовидящие)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нарушением речи (логопаты)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нарушением опорно-двигательного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аппарата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задержкой психического развития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нарушением поведения и общения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умственной отсталостью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Дети с комплексными нарушениями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психофизического развития, с так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называемыми сложными дефектами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(слепоглухонемые, глухие или слепые дети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Verdana"/>
                <a:ea typeface="굴림"/>
              </a:rPr>
              <a:t>с умственной отсталостью)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320" y="152280"/>
          <a:ext cx="8991360" cy="6629400"/>
        </p:xfrm>
        <a:graphic>
          <a:graphicData uri="http://schemas.openxmlformats.org/drawingml/2006/table">
            <a:tbl>
              <a:tblPr/>
              <a:tblGrid>
                <a:gridCol w="4647960"/>
                <a:gridCol w="4343400"/>
              </a:tblGrid>
              <a:tr h="17006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атегория детей с ОВЗ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арианты программ ФГОС НОО обучающихся с ОВЗ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</a:tr>
              <a:tr h="516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Глухие дети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1.1, 1.2, 1.3, 1.4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1cc"/>
                    </a:solidFill>
                  </a:tcPr>
                </a:tc>
              </a:tr>
              <a:tr h="516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лабослышащие дети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2.1, 2.2, 2.3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e7"/>
                    </a:solidFill>
                  </a:tcPr>
                </a:tc>
              </a:tr>
              <a:tr h="518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лепые дети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3.1, 3.2, 3.3, 3.4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1cc"/>
                    </a:solidFill>
                  </a:tcPr>
                </a:tc>
              </a:tr>
              <a:tr h="516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лабовидящие дети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4.1, 4.2, 4.3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e7"/>
                    </a:solidFill>
                  </a:tcPr>
                </a:tc>
              </a:tr>
              <a:tr h="5180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Дети с тяжелыми нарушениями речи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5.1, 5.2, 5.3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1cc"/>
                    </a:solidFill>
                  </a:tcPr>
                </a:tc>
              </a:tr>
              <a:tr h="516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Дети с нарушениями ОДА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6.1, 6.2, 6.3, 6.4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e7"/>
                    </a:solidFill>
                  </a:tcPr>
                </a:tc>
              </a:tr>
              <a:tr h="6498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Дети с задержкой психического развития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7.1, 7.2, 7.3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1cc"/>
                    </a:solidFill>
                  </a:tcPr>
                </a:tc>
              </a:tr>
              <a:tr h="11761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Дети с расстройствами аутистического спектра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a70a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82828"/>
                          </a:solidFill>
                          <a:latin typeface="Microsoft Sans Serif"/>
                        </a:rPr>
                        <a:t>8.1, 8.2, 8.3, 8.4 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2828"/>
                </a:solidFill>
                <a:latin typeface="Microsoft Sans Serif"/>
              </a:rPr>
              <a:t>Типичные затруднения у детей с ОВЗ:</a:t>
            </a:r>
            <a:br>
              <a:rPr sz="36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отсутствует мотивация к познавательной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изкий темп выполнения заданий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изкий уровень свойств внимания (устойчивость, концентрация, переключение)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изкий уровень развития речи, мышления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(классификация, аналогии)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изкая самооценка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повышенная тревожность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арушение координации движений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изкий уровень развития мелкой и крупной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моторики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трудности в понимании инструкции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нуждаются в постоянной помощи взрослого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Дети с ОВЗ — это дети с особыми образовательными потребностями, а следовательно, в процессе обучения необходимо:</a:t>
            </a:r>
            <a:br>
              <a:rPr sz="28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• </a:t>
            </a: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начать специальное обучение ребёнка сразу же после выявления первичного нарушения развития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ввести в содержание обучения ребёнка специальные разделы, неприсутствующие в программах образования нормально развивающихся сверстников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индивидуализировать обучение в большей степени, чем требуется для нормально развивающегося ребёнка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обеспечить особую пространственную и временную организацию образовательной среды;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• максимально раздвинуть образовательное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пространство за пределы образовательного учреждения.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принципом в школе для обучающихся с ОВЗ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ая направлен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воспитательного процес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 улучшение, исправление) – система психолого-педагогических мероприятий, направленных на преодоление или ослабление недостатков психического и физического развития человека (минимизация дефекта). Принцип коррекционно-развивающего обучения – предполаг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й работы с учебным процессом.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20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960" y="1143000"/>
            <a:ext cx="8816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82828"/>
                </a:solidFill>
                <a:uFillTx/>
                <a:latin typeface="Times New Roman"/>
                <a:ea typeface="Times New Roman"/>
              </a:rPr>
              <a:t>КОРРЕКЦИОННО-ВОСПИТАТЕЛЬНАЯ </a:t>
            </a:r>
            <a:br>
              <a:rPr sz="2400"/>
            </a:br>
            <a:r>
              <a:rPr b="0" lang="ru-RU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ПРЕДУПРЕЖДЕНИЕ И ИСПРАВЛЕНИЕ ИСКАЖЕНИЙ В ФОРМИРОВАНИИ НРАВСТВЕННЫХ КАЧЕСТВ;</a:t>
            </a:r>
            <a:br>
              <a:rPr sz="2000"/>
            </a:b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УБЕЖДЕНИЙ ВЗГЛЯДОВ , СОДЕЙСТВИЕ СОЦИАЛИЗАЦИИ ЛИЧНОСТИ.</a:t>
            </a:r>
            <a:br>
              <a:rPr sz="1000"/>
            </a:br>
            <a:r>
              <a:rPr b="1" i="1" lang="ru-RU" sz="2800" spc="-1" strike="noStrike" u="sng">
                <a:solidFill>
                  <a:srgbClr val="282828"/>
                </a:solidFill>
                <a:uFillTx/>
                <a:latin typeface="Times New Roman"/>
                <a:ea typeface="Times New Roman"/>
              </a:rPr>
              <a:t>КОРРЕКЦИОННО-ОБРАЗОВАТЕЛЬНАЯ</a:t>
            </a:r>
            <a:br>
              <a:rPr sz="2800"/>
            </a:b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ФОРМИРОВАНИЕ СИСТЕМЫ ЗУН (ЗНАНИЯ, УМЕНИЯ, НАВЫКИ), НЕОБХОДИМОЙ ДЛЯ САМОСТОЯТЕЛЬНОЙ ЖИЗНЕ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КОРРЕКЦИЯ ОТКЛОНЕНИЙ РАЗВИТИЯ ПОЗНАВАТЕЛЬНОЙ ФУНКЦИИ.</a:t>
            </a:r>
            <a:br>
              <a:rPr sz="2000"/>
            </a:br>
            <a:r>
              <a:rPr b="1" i="1" lang="ru-RU" sz="2800" spc="-1" strike="noStrike" u="sng">
                <a:solidFill>
                  <a:srgbClr val="282828"/>
                </a:solidFill>
                <a:uFillTx/>
                <a:latin typeface="Times New Roman"/>
                <a:ea typeface="Times New Roman"/>
              </a:rPr>
              <a:t>КОРРЕКЦИОННО-РАЗВИВАЮЩАЯ</a:t>
            </a:r>
            <a:br>
              <a:rPr sz="2800"/>
            </a:b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РАЗВИТИЕ ВСЕХ ПСИХИЧЕСКИХ ПРОЦЕССОВ;</a:t>
            </a:r>
            <a:br>
              <a:rPr sz="2000"/>
            </a:b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ПРЕДУПРЕЖДЕНИЕ И ОСЛАБЛЕНИЕ ОТКЛОНЕНИЙ , ПРОИСХОДЯЩИХ В ПСИХИКЕ, ИНТЕЛЛЕКТЕ , ЭМОЦИОНАЛЬНО-ВОЛЕВОЙ  И ЛИЧНОСТНОЙ СФЕРЕ;</a:t>
            </a:r>
            <a:br>
              <a:rPr sz="2000"/>
            </a:br>
            <a:r>
              <a:rPr b="0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РАЗВИТИЕ АДЕКВАТНОЙ САМООЦЕНКИ , САМОРЕГУЛЯЦИИ И САМОКОНТРОЛЯ.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2828"/>
                </a:solidFill>
                <a:latin typeface="Microsoft Sans Serif"/>
              </a:rPr>
              <a:t>Функции коррекционно-педагогического процесса: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8342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НАПРАВЛЕНА НА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- СОЗДАНИЕ СИСТЕМЫ КОМПЛЕКСНОЙ ПОМОЩИ ДЕТЯМ С ОГРАНИЧЕННЫМИ ВОЗМОЖНОСТЯМИ ЗДОРОВЬЯ В ОСВОЕНИИ ОСНОВНОЙ ОБРАЗОВАТЕЛЬНОЙ ПРОГРАММЫ НАЧАЛЬНОГО ОБЩЕГО ОБРАЗОВАНИЯ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- КОРРЕКЦИЮ НЕДОСТАТКОВ В ФИЗИЧЕСКОМ И (ИЛИ) ПСИХИЧЕСКОМ РАЗВИТИИ ОБУЧАЮЩИХСЯ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 -СОЦИАЛЬНУЮ АДАПТАЦИЮ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8494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2828"/>
                </a:solidFill>
                <a:latin typeface="Microsoft Sans Serif"/>
              </a:rPr>
              <a:t>Программа коррекционной работы 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0720" y="3045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82828"/>
                </a:solidFill>
                <a:latin typeface="Microsoft Sans Serif"/>
              </a:rPr>
              <a:t>«Нас трое: ты, я и болезнь. Если ты объединишься с болезнью, то я ничего не смогу сделать для тебя. Если же объединимся ты и я, то вместе мы победим болезнь».    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	</a:t>
            </a:r>
            <a:r>
              <a:rPr b="1" i="1" lang="ru-RU" sz="2800" spc="-1" strike="noStrike">
                <a:solidFill>
                  <a:srgbClr val="282828"/>
                </a:solidFill>
                <a:latin typeface="Microsoft Sans Serif"/>
              </a:rPr>
              <a:t>Гиппократ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279520" y="2743200"/>
            <a:ext cx="63248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7884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400" spc="-1" strike="noStrike" u="sng">
                <a:solidFill>
                  <a:srgbClr val="282828"/>
                </a:solidFill>
                <a:uFillTx/>
                <a:latin typeface="Microsoft Sans Serif"/>
              </a:rPr>
              <a:t>Внешние   условия –</a:t>
            </a:r>
            <a:br>
              <a:rPr sz="3200"/>
            </a:br>
            <a:r>
              <a:rPr b="1" lang="ru-RU" sz="3200" spc="-1" strike="noStrike" u="sng">
                <a:solidFill>
                  <a:srgbClr val="282828"/>
                </a:solidFill>
                <a:uFillTx/>
                <a:latin typeface="Microsoft Sans Serif"/>
              </a:rPr>
              <a:t>безбарьерная   среда:</a:t>
            </a:r>
            <a:br>
              <a:rPr sz="3600"/>
            </a:br>
            <a:r>
              <a:rPr b="0" lang="ru-RU" sz="3600" spc="-1" strike="noStrike">
                <a:solidFill>
                  <a:srgbClr val="282828"/>
                </a:solidFill>
                <a:latin typeface="Microsoft Sans Serif"/>
              </a:rPr>
              <a:t>- </a:t>
            </a: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Вход в школу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Внутреннее пространство школы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Школьная раздевалка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Школьная столовая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Школьный туалет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Спортивный зал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Школьная библиотека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Классные кабинеты</a:t>
            </a: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Территория школы</a:t>
            </a: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686480" y="2743200"/>
            <a:ext cx="43812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82828"/>
                </a:solidFill>
                <a:latin typeface="Microsoft Sans Serif"/>
              </a:rPr>
              <a:t>Внутренние   условия:</a:t>
            </a:r>
            <a:br>
              <a:rPr sz="4400"/>
            </a:br>
            <a:r>
              <a:rPr b="1" lang="ru-RU" sz="3200" spc="-1" strike="noStrike">
                <a:solidFill>
                  <a:srgbClr val="282828"/>
                </a:solidFill>
                <a:latin typeface="Microsoft Sans Serif"/>
              </a:rPr>
              <a:t>- </a:t>
            </a: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уровень психофизического и речевого развития, соответствующий возрастной норме или близкий к ней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возможность овладения общим образовательным стандартом в предусмотренные для нормально развивающихся детей сроки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- психологическая готовность к интегрированному обучению.</a:t>
            </a: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2828"/>
                </a:solidFill>
                <a:latin typeface="Microsoft Sans Serif"/>
              </a:rPr>
              <a:t>Условия организации успешного обучения и воспитания детей с ограниченными возможностями здоровья:</a:t>
            </a:r>
            <a:br>
              <a:rPr sz="32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-</a:t>
            </a: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Обучение и коррекция развития детей с ограниченными возможностями здоровья должны осуществляться по образовательным программам, разработанным на базе основных общеобразовательных программ с учетом психофизических особенностей и возможностей таких обучающихся.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- Необходимо комплексное психолого-педагогическое сопровождение ребенка с ограниченными возможностями здоровья на протяжении всего периода его обучения в ОУ общего типа.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- Необходима специальная  подготовка педагогического коллектива ОУ  общего типа в соответствии со спецификой   учебно-воспитательной и коррекционной работы .</a:t>
            </a:r>
            <a:br>
              <a:rPr sz="3200"/>
            </a:b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В целях обеспечения освоения детьми с ограниченными возможностями  здоровья  образовательных программ  целесообразно ввести в штатное расписание ОУ общего типа дополнительные ставки педагогических (учителя-дефектологи,  учителя-логопеды, педагоги-психологи, социальные педагоги, воспитатели и др.) и медицинских работников.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 - Для обеспечения эффективного включения детей с ограниченными возможностями здоровья  в ОУ общего типа важное значение имеет проведение информационно-просветительской, разъяснительной работы по вопросам, связанным с особенностями образовательного процесса для данной категории детей, со всеми участниками образовательного процесса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 – обучающимися,  их родителями, педагогическими работник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82828"/>
                </a:solidFill>
                <a:uFillTx/>
                <a:latin typeface="Microsoft Sans Serif"/>
              </a:rPr>
              <a:t>Интегрированное (инклюзивное )образование требует поддержки со стороны команды профессионалов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В идеале такая команда состоит из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Педагог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Психолог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Логопед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Дефектолог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Тьютор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Социального работник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Врача-педиатра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Специалистов по охране </a:t>
            </a:r>
            <a:br>
              <a:rPr sz="2400"/>
            </a:b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и гигиене труда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413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0676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1) диагностика уровня развития ребенка на основе изучения заключения ПМПК;</a:t>
            </a:r>
            <a:br>
              <a:rPr sz="28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2) составление на основе диагностических данных индивидуального образовательного маршрута ребенка;</a:t>
            </a:r>
            <a:br>
              <a:rPr sz="28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3) отслеживание динамики развития ребенка: </a:t>
            </a:r>
            <a:br>
              <a:rPr sz="28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4) взаимодействие со специалистами и родителями:</a:t>
            </a:r>
            <a:br>
              <a:rPr sz="28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5) охрана и укрепление соматического и психоневрологического здоровья ребенка: </a:t>
            </a:r>
            <a:br>
              <a:rPr sz="2800"/>
            </a:b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6) реализация коррекционной направленности учебно-воспитательного процесса через проведение уроков, индивидуальных и групповых коррекционных занятий, классных часов, праздников, экскурсий и т.п. 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ОЯСНИТЕЛЬНУЮ ЗАПИСКУ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ЛАНИРУЕМЫЕ РЕЗУЛЬТАТЫ ОСВОЕНИЯ ОБУЧАЮЩИМИСЯ С ОВЗ АООП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СИСТЕМУ ОЦЕНКИ ДОСТИЖЕНИЯ ПЛАНИРУЕМЫХ РЕЗУЛЬТАТОВ ОСВОЕНИЯ АООП ОБУЧАЮЩИМИСЯ С ОВЗ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УЧЕБНЫЙ ПЛАН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РОГРАММЫ ОТДЕЛЬНЫХ УЧЕБНЫХ ПРЕДМЕТОВ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РОГРАММУ КОРРЕКЦИОННОЙ РАБОТЫ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РОГРАММУ ДУХОВНО-НРАВСТВЕННОГО РАЗВИТИЯ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РОГРАММУ ФОРМИРОВАНИЯ УНИВЕРСАЛЬНЫХ УЧЕБНЫХ ДЕЙСТВИЙ ОБУЧАЮЩИХСЯ (БАЗОВЫХ УЧЕБНЫХ ДЕЙСТВИЙ)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РОГРАММУ ФОРМИРОВАНИЯ ЭКОЛОГИЧЕСКОЙ КУЛЬТУРЫ, ЗДОРОВОГО И БЕЗОПАСНОГО ОБРАЗА ЖИЗНИ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ПРОГРАММУ ВНЕУРОЧНОЙ ДЕЯТЕЛЬНОСТИ;</a:t>
            </a:r>
            <a:br>
              <a:rPr sz="2400"/>
            </a:br>
            <a:r>
              <a:rPr b="1" i="1" lang="ru-RU" sz="24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- СИСТЕМУ УСЛОВИЙ РЕАЛИЗАЦИИ АООП.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82828"/>
                </a:solidFill>
                <a:latin typeface="Microsoft Sans Serif"/>
              </a:rPr>
              <a:t>АООП включает: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I. ОБЩИЕ СВЕДЕНИЯ - ПЕРСОНАЛЬНЫЕ ДАННЫЕ РЕБЕНКА И ЕГО РОДИТЕЛЕЙ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II. ХАРАКТЕРИСТИКА РЕБЕНКА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III. ИНДИВИДУАЛЬНЫЙ УЧЕБНЫЙ ПЛАН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IV. СОДЕРЖАНИЕ АКТУАЛЬНЫХ ДЛЯ ОБРАЗОВАНИЯ КОНКРЕТНОГО ОБУЧАЮЩЕГОСЯ УЧЕБНЫХ ПРЕДМЕТОВ, КОРРЕКЦИОННЫХ ЗАНЯТИЙ И ДРУГИХ ПРОГРАММ 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V. УСЛОВИЯ РЕАЛИЗАЦИИ ПОТРЕБНОСТИ В УХОДЕ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VI. ВНЕУРОЧНАЯ ДЕЯТЕЛЬНОСТЬ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VII. ПЕРЕЧЕНЬ СПЕЦИАЛИСТОВ, УЧАСТВУЮЩИХ В РАЗРАБОТКЕ И РЕАЛИЗАЦИИ СИПР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VIII. ПРОГРАММА СОТРУДНИЧЕСТВА СПЕЦИАЛИСТОВ С СЕМЬЕЙ ОБУЧАЮЩЕГОСЯ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IX. ПЕРЕЧЕНЬ НЕОБХОДИМЫХ ТЕХНИЧЕСКИХ СРЕДСТВ ОБЩЕГО И ИНДИВИДУАЛЬНОГО НАЗНАЧЕНИЯ, ДИДАКТИЧЕСКИХ МАТЕРИАЛОВ, ИНДИВИДУАЛЬНЫХ СРЕДСТВ РЕАБИЛИТАЦИИ.</a:t>
            </a:r>
            <a:br>
              <a:rPr sz="2000"/>
            </a:b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X. СРЕДСТВА МОНИТОРИНГА И ОЦЕНКИ ДИНАМИКИ ОБУЧЕНИЯ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82828"/>
                </a:solidFill>
                <a:latin typeface="Microsoft Sans Serif"/>
              </a:rPr>
              <a:t>СИПР включает: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988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2828"/>
                </a:solidFill>
                <a:latin typeface="Microsoft Sans Serif"/>
              </a:rPr>
              <a:t>Полноценное развитие любого ребенка – одна из важнейших задач общества на современном этапе развития – требует поиска наиболее эффективных путей достижения этой цели. Наш приоритет-чтобы каждому ребёнку было комфортно в школе, чтобы он шёл сюда с радостью и не чувствовал себя одиноким и несчастным.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8" name="Picture 2" descr="C:\Users\Максим\Saved Games\Desktop\аним картинки для презентаций\мелкие\726878044.gif"/>
          <p:cNvPicPr/>
          <p:nvPr/>
        </p:nvPicPr>
        <p:blipFill>
          <a:blip r:embed="rId1"/>
          <a:stretch/>
        </p:blipFill>
        <p:spPr>
          <a:xfrm>
            <a:off x="7470720" y="5452920"/>
            <a:ext cx="1673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В жизни по-разному можно жить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В горе можно и в радости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Вовремя спать, вовремя пить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Вовремя делать гадости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А можно и так: на рассвете встать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И помышляя о чуде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Рукой, обнажённою солнце достать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Open Sans"/>
              </a:rPr>
              <a:t>И подарить его людям.</a:t>
            </a:r>
            <a:br>
              <a:rPr sz="4000"/>
            </a:b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90" name="Picture 2" descr="C:\Users\Максим\Saved Games\Desktop\аним картинки для презентаций\мелкие\573312189.gif"/>
          <p:cNvPicPr/>
          <p:nvPr/>
        </p:nvPicPr>
        <p:blipFill>
          <a:blip r:embed="rId1"/>
          <a:stretch/>
        </p:blipFill>
        <p:spPr>
          <a:xfrm>
            <a:off x="7010280" y="3700440"/>
            <a:ext cx="21337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96048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82828"/>
                </a:solidFill>
                <a:uFillTx/>
                <a:latin typeface="Microsoft Sans Serif"/>
              </a:rPr>
              <a:t>Десегрегация- </a:t>
            </a:r>
            <a:r>
              <a:rPr b="0" lang="ru-RU" sz="4000" spc="-1" strike="noStrike">
                <a:solidFill>
                  <a:srgbClr val="282828"/>
                </a:solidFill>
                <a:latin typeface="Microsoft Sans Serif"/>
              </a:rPr>
              <a:t>расширение доступа к образованию (widening participation); </a:t>
            </a:r>
            <a:br>
              <a:rPr sz="4000"/>
            </a:br>
            <a:r>
              <a:rPr b="1" lang="ru-RU" sz="4000" spc="-1" strike="noStrike" u="sng">
                <a:solidFill>
                  <a:srgbClr val="282828"/>
                </a:solidFill>
                <a:uFillTx/>
                <a:latin typeface="Microsoft Sans Serif"/>
              </a:rPr>
              <a:t>Интеграция</a:t>
            </a:r>
            <a:r>
              <a:rPr b="0" lang="ru-RU" sz="4000" spc="-1" strike="noStrike">
                <a:solidFill>
                  <a:srgbClr val="282828"/>
                </a:solidFill>
                <a:latin typeface="Microsoft Sans Serif"/>
              </a:rPr>
              <a:t> (от лат. integratio – соединение, восстановление);</a:t>
            </a:r>
            <a:br>
              <a:rPr sz="4000"/>
            </a:br>
            <a:r>
              <a:rPr b="1" lang="ru-RU" sz="4000" spc="-1" strike="noStrike" u="sng">
                <a:solidFill>
                  <a:srgbClr val="282828"/>
                </a:solidFill>
                <a:uFillTx/>
                <a:latin typeface="Microsoft Sans Serif"/>
              </a:rPr>
              <a:t>Мэйнстриминг</a:t>
            </a:r>
            <a:r>
              <a:rPr b="0" lang="ru-RU" sz="4000" spc="-1" strike="noStrike">
                <a:solidFill>
                  <a:srgbClr val="282828"/>
                </a:solidFill>
                <a:latin typeface="Microsoft Sans Serif"/>
              </a:rPr>
              <a:t> (mainstreaming);</a:t>
            </a:r>
            <a:br>
              <a:rPr sz="4000"/>
            </a:br>
            <a:r>
              <a:rPr b="1" lang="ru-RU" sz="4000" spc="-1" strike="noStrike" u="sng">
                <a:solidFill>
                  <a:srgbClr val="282828"/>
                </a:solidFill>
                <a:uFillTx/>
                <a:latin typeface="Microsoft Sans Serif"/>
              </a:rPr>
              <a:t>Инклюзия</a:t>
            </a:r>
            <a:r>
              <a:rPr b="0" lang="ru-RU" sz="4000" spc="-1" strike="noStrike">
                <a:solidFill>
                  <a:srgbClr val="282828"/>
                </a:solidFill>
                <a:latin typeface="Microsoft Sans Serif"/>
              </a:rPr>
              <a:t> (от англ. inclusion – включение). 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417320"/>
            <a:ext cx="86104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0a6c6"/>
                </a:solidFill>
                <a:latin typeface="Microsoft Sans Serif"/>
              </a:rPr>
              <a:t>Спасибо за внимание!</a:t>
            </a: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92" name="Picture 3" descr="C:\Users\Максим\Saved Games\Desktop\аним картинки для презентаций\мелкие\104355936.gif"/>
          <p:cNvPicPr/>
          <p:nvPr/>
        </p:nvPicPr>
        <p:blipFill>
          <a:blip r:embed="rId1"/>
          <a:stretch/>
        </p:blipFill>
        <p:spPr>
          <a:xfrm>
            <a:off x="3619440" y="37339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20" y="380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Барьеры для инклюзивного образования: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5560" y="1143000"/>
            <a:ext cx="888984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f5f5f"/>
                </a:solidFill>
                <a:latin typeface="Times New Roman"/>
                <a:ea typeface="Calibri"/>
              </a:rPr>
              <a:t>•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Отсутствие гибких образовательных стандартов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• 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Несоответствие учебных планов и содержания обучения массовой школы особым образовательным потребностям ребенка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• 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Отсутствие специальной подготовки педагогического коллектива образовательного учреждения общего типа, незнание основ коррекционной педагогики и специальной психологии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• 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Отсутствие у педагогов массовых школ представлений об особенностях психофизического развития детей с ОВЗ, методиках и технологии организации образовательного и коррекционного процесса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• 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Недостаточное материально-техническое оснащение общеобразовательного учреждения под нужды детей с ОВЗ 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• </a:t>
            </a:r>
            <a:r>
              <a:rPr b="1" i="1" lang="ru-RU" sz="2000" spc="-1" strike="noStrike">
                <a:solidFill>
                  <a:srgbClr val="282828"/>
                </a:solidFill>
                <a:latin typeface="Times New Roman"/>
                <a:ea typeface="Calibri"/>
              </a:rPr>
              <a:t>Отсутствие в штатном расписании образовательных учреждений общего типа дополнительных педагогических ставок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85880" y="1143000"/>
            <a:ext cx="5111640" cy="63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2828"/>
                </a:solidFill>
                <a:latin typeface="Microsoft Sans Serif"/>
              </a:rPr>
              <a:t>Интегрированное  обучение</a:t>
            </a: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–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2828"/>
                </a:solidFill>
                <a:latin typeface="Microsoft Sans Serif"/>
              </a:rPr>
              <a:t>обучение лиц, имеющих физические и (или) психические недостатки, и лиц, не имеющих таких недостатков, с использованием специальных средств, методов и при участии педагогов-специалистов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280" y="1209600"/>
            <a:ext cx="33339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2828"/>
                </a:solidFill>
                <a:latin typeface="Microsoft Sans Serif"/>
              </a:rPr>
              <a:t>Цель интегрированного обучения </a:t>
            </a:r>
            <a:r>
              <a:rPr b="0" lang="ru-RU" sz="2800" spc="-1" strike="noStrike">
                <a:solidFill>
                  <a:srgbClr val="282828"/>
                </a:solidFill>
                <a:latin typeface="Microsoft Sans Serif"/>
              </a:rPr>
              <a:t>– создание в образовательном учреждении оптимальных психолого-педагогических условий для усвоения детьми с ОВЗ соответствующих образовательных программ, оказание коррекционной помощи по преодолению отклонений в развитии, формирование у всех участников образовательного процесса адекватного отношения к проблеме лиц с особыми образовательными потребностями, успешная социальная адаптация учащихся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2828"/>
                </a:solidFill>
                <a:latin typeface="Microsoft Sans Serif"/>
              </a:rPr>
              <a:t>Цели и задачи государственной политики в области интегрированного образования: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2133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еализация конституционных прав детей с ОВЗ на получение общего образования , на доступ к информационным и в целом жизненным ресурсам окружающей среды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овышение социокультурной самостоятельности детей и подростков с ОВЗ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оздание системы непрерывного интегрированного образования детей с ОВЗ через организацию в ДОУ, общеобразовательных школах, техническом , профессиональном и высшем образовании «интеграционной среды», благоприятных условий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132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2828"/>
                </a:solidFill>
                <a:latin typeface="Microsoft Sans Serif"/>
              </a:rPr>
              <a:t>Цель деятельности образовательного учреждения в условиях интеграции </a:t>
            </a: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– </a:t>
            </a:r>
            <a:br>
              <a:rPr sz="2400"/>
            </a:br>
            <a:r>
              <a:rPr b="0" lang="ru-RU" sz="2400" spc="-1" strike="noStrike">
                <a:solidFill>
                  <a:srgbClr val="282828"/>
                </a:solidFill>
                <a:latin typeface="Microsoft Sans Serif"/>
              </a:rPr>
              <a:t>дать всем учащимся возможность полноценной социальной жизни, активного участия в коллективе, сообществе, тем самым обеспечить наиболее полное взаимодействие и заботу друг о друге, как членах сообщества.</a:t>
            </a:r>
            <a:r>
              <a:rPr b="0" lang="ru-RU" sz="1200" spc="-1" strike="noStrike">
                <a:solidFill>
                  <a:srgbClr val="5f5f5f"/>
                </a:solidFill>
                <a:latin typeface="Microsoft Sans Serif"/>
              </a:rPr>
              <a:t>. </a:t>
            </a:r>
            <a:br>
              <a:rPr sz="1200"/>
            </a:br>
            <a:r>
              <a:rPr b="1" lang="ru-RU" sz="1600" spc="-1" strike="noStrike" u="sng">
                <a:solidFill>
                  <a:srgbClr val="282828"/>
                </a:solidFill>
                <a:uFillTx/>
                <a:latin typeface="Microsoft Sans Serif"/>
              </a:rPr>
              <a:t>Задачи: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создание единой психологически комфортной образовательной среды для детей, имеющих разные стартовые возможности.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организация системы эффективного психолого-педагогического сопровождения процесса интегрированного образования через взаимодействие диагностико -консультативного, коррекционно-развивающего, лечебно-профилактического, социально-трудового направлений деятельности.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мониторинг эффективности процессов коррекции, адаптации и социализации детей с особенностями развития на этапе школьного обучения.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преодоление негативных особенностей эмоционально-личностной сферы через включение детей в успешную деятельность.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постепенное повышение мотивации ребенка на основе его личной заинтересованности и через осознанное отношение к позитивной деятельности.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охрана и укрепление физического и нервно-психического здоровья детей.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-социально-трудовая адаптация школьников с особыми образовательными потребностями</a:t>
            </a:r>
            <a:br>
              <a:rPr sz="1600"/>
            </a:br>
            <a:r>
              <a:rPr b="1" lang="ru-RU" sz="1600" spc="-1" strike="noStrike">
                <a:solidFill>
                  <a:srgbClr val="282828"/>
                </a:solidFill>
                <a:latin typeface="Microsoft Sans Serif"/>
              </a:rPr>
              <a:t>изменение общественного сознания по отношению к детям с особенностями в развитии.</a:t>
            </a:r>
            <a:endParaRPr b="0" lang="en-US" sz="16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2828"/>
                </a:solidFill>
                <a:latin typeface="Microsoft Sans Serif"/>
              </a:rPr>
              <a:t>Задачи социальной интеграции:</a:t>
            </a:r>
            <a:br>
              <a:rPr sz="3600"/>
            </a:b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Создать условия, которые позволяют каждому ребенку с ОВЗ реализовать себя, быть уверенным в себе и жить в тесном контакте с другими людьми.</a:t>
            </a:r>
            <a:endParaRPr b="0" lang="en-US" sz="25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Помочь окружающим адекватно воспринимать детей с ограниченными возможностями, обеспечивать им равные со здоровыми детьми возможности.</a:t>
            </a:r>
            <a:endParaRPr b="0" lang="en-US" sz="25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Методологической базой интеграции детей является принцип</a:t>
            </a:r>
            <a:r>
              <a:rPr b="1" i="1" lang="ru-RU" sz="25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равных прав и возможностей в получении образования.</a:t>
            </a:r>
            <a:endParaRPr b="0" lang="en-US" sz="25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282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Максим</cp:lastModifiedBy>
  <dcterms:modified xsi:type="dcterms:W3CDTF">2017-12-14T12:45:53Z</dcterms:modified>
  <cp:revision>413</cp:revision>
  <dc:subject/>
  <dc:title>Name of presentation</dc:title>
</cp:coreProperties>
</file>