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3E9-8182-4818-B575-47A3E791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A6C2-7EE1-4250-B17E-84559355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66C-8065-4722-8CBF-2B3FFDCE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A54-EE2A-42D3-A54F-1931D8E2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B70A-F93E-4417-BE23-059A24B4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3BFC-6C9A-44A8-9273-08BAB87D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0295-71CD-49DC-9810-78B3686F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987A-19B7-40BC-BE73-F1CFA019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BE00-1FAA-48A3-A657-8F440CD2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4C91-B344-4682-AE4C-C2617EDD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3FC4-3B8C-47A4-9A99-A668AE98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6057-A062-40DF-97BB-AB6F53EA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F7A8-388C-4F31-BF6D-E62D29B2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D80C-F18D-4B7F-8A9B-6EE8DCFA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5EF7-DD52-4EE0-A03F-7C8501B2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EE82-4BD0-4F34-ADC1-F89B5B7E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D827-5B76-4799-8028-220B2E80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8A0-E013-4AEA-A6B7-B8A45D10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987-F8F3-4DAA-9223-2C5407B1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B882-BABC-4F1B-A8BE-6E07355C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BD9E-C52E-4A77-8094-BD031E2C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2FF-3960-431B-B8D8-757427BB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44F2-9321-4C5B-99C5-A2334E79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1C6-2680-4A67-AF48-3213F3DB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7673-C4CE-4248-BD9F-18CAA559D44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33EE-7DA5-48D0-B905-A22E243EAF60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00080" y="3071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5400" spc="-1" strike="noStrike">
                <a:solidFill>
                  <a:srgbClr val="402000"/>
                </a:solidFill>
                <a:latin typeface="Times New Roman"/>
              </a:rPr>
              <a:t>Неопределенная форма глагола.</a:t>
            </a:r>
            <a:br>
              <a:rPr sz="5400"/>
            </a:br>
            <a:r>
              <a:rPr b="1" lang="ru-RU" sz="5400" spc="-1" strike="noStrike">
                <a:solidFill>
                  <a:srgbClr val="402000"/>
                </a:solidFill>
                <a:latin typeface="Times New Roman"/>
              </a:rPr>
              <a:t> Начальная форма глагола</a:t>
            </a:r>
            <a:br>
              <a:rPr sz="4000"/>
            </a:b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3040" y="560520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4 класс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1" name="Picture 4" descr="bell_icn"/>
          <p:cNvPicPr/>
          <p:nvPr/>
        </p:nvPicPr>
        <p:blipFill>
          <a:blip r:embed="rId1"/>
          <a:stretch/>
        </p:blipFill>
        <p:spPr>
          <a:xfrm>
            <a:off x="1619280" y="476280"/>
            <a:ext cx="1763640" cy="156204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3500280" y="785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Урок русского язык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3319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3319"/>
                </a:solidFill>
                <a:latin typeface="Times New Roman"/>
              </a:rPr>
              <a:t>1. с. 72 упр. 420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3319"/>
                </a:solidFill>
                <a:latin typeface="Times New Roman"/>
              </a:rPr>
              <a:t>2. Составить 5 предложений с глаголами в неопределенной форме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3319"/>
                </a:solidFill>
                <a:latin typeface="Times New Roman"/>
              </a:rPr>
              <a:t>3. Составить рассказ на тему «Весна», используя глаголы в неопределенной форме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школьный профес"/>
          <p:cNvPicPr/>
          <p:nvPr/>
        </p:nvPicPr>
        <p:blipFill>
          <a:blip r:embed="rId1"/>
          <a:stretch/>
        </p:blipFill>
        <p:spPr>
          <a:xfrm>
            <a:off x="571680" y="214200"/>
            <a:ext cx="1591920" cy="1357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826920" y="2781360"/>
            <a:ext cx="33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1000080" y="1571760"/>
            <a:ext cx="75726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2000"/>
                </a:solidFill>
                <a:latin typeface="Times New Roman"/>
              </a:rPr>
              <a:t>Обращаться с языком кое-как — значит и мыслить кое-как: приблизительно, неточно, неверно. 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А.Н. Толсто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школьный профес"/>
          <p:cNvPicPr/>
          <p:nvPr/>
        </p:nvPicPr>
        <p:blipFill>
          <a:blip r:embed="rId1"/>
          <a:stretch/>
        </p:blipFill>
        <p:spPr>
          <a:xfrm>
            <a:off x="571680" y="214200"/>
            <a:ext cx="1591920" cy="1357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826920" y="2781360"/>
            <a:ext cx="33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1000080" y="1571760"/>
            <a:ext cx="75726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402000"/>
                </a:solidFill>
                <a:uFillTx/>
                <a:latin typeface="Times New Roman"/>
              </a:rPr>
              <a:t>Обращаться</a:t>
            </a:r>
            <a:r>
              <a:rPr b="1" lang="ru-RU" sz="5400" spc="-1" strike="noStrike">
                <a:solidFill>
                  <a:srgbClr val="402000"/>
                </a:solidFill>
                <a:latin typeface="Times New Roman"/>
              </a:rPr>
              <a:t> с языком кое-как — значит и </a:t>
            </a:r>
            <a:r>
              <a:rPr b="1" lang="ru-RU" sz="5400" spc="-1" strike="noStrike" u="sng">
                <a:solidFill>
                  <a:srgbClr val="402000"/>
                </a:solidFill>
                <a:uFillTx/>
                <a:latin typeface="Times New Roman"/>
              </a:rPr>
              <a:t>мыслить</a:t>
            </a:r>
            <a:r>
              <a:rPr b="1" lang="ru-RU" sz="5400" spc="-1" strike="noStrike">
                <a:solidFill>
                  <a:srgbClr val="402000"/>
                </a:solidFill>
                <a:latin typeface="Times New Roman"/>
              </a:rPr>
              <a:t> кое-как: приблизительно, неточно, неверно. 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А.Н. Толсто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школьный профес"/>
          <p:cNvPicPr/>
          <p:nvPr/>
        </p:nvPicPr>
        <p:blipFill>
          <a:blip r:embed="rId1"/>
          <a:stretch/>
        </p:blipFill>
        <p:spPr>
          <a:xfrm>
            <a:off x="2214720" y="1643040"/>
            <a:ext cx="4643280" cy="39578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4"/>
          <p:cNvSpPr/>
          <p:nvPr/>
        </p:nvSpPr>
        <p:spPr>
          <a:xfrm>
            <a:off x="3323520" y="642960"/>
            <a:ext cx="315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02000"/>
                </a:solidFill>
                <a:latin typeface="Arial Black"/>
              </a:rPr>
              <a:t>Глагол</a:t>
            </a:r>
            <a:endParaRPr b="0" lang="en-US" sz="6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1" name="1.wav" descr=""/>
          <p:cNvPicPr/>
          <p:nvPr/>
        </p:nvPicPr>
        <p:blipFill>
          <a:blip r:embed="rId2"/>
          <a:stretch/>
        </p:blipFill>
        <p:spPr>
          <a:xfrm>
            <a:off x="1000080" y="42148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4.wav" descr=""/>
          <p:cNvPicPr/>
          <p:nvPr/>
        </p:nvPicPr>
        <p:blipFill>
          <a:blip r:embed="rId3"/>
          <a:stretch/>
        </p:blipFill>
        <p:spPr>
          <a:xfrm>
            <a:off x="100008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2.wav" descr=""/>
          <p:cNvPicPr/>
          <p:nvPr/>
        </p:nvPicPr>
        <p:blipFill>
          <a:blip r:embed="rId4"/>
          <a:stretch/>
        </p:blipFill>
        <p:spPr>
          <a:xfrm>
            <a:off x="1000080" y="50007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5.wav" descr=""/>
          <p:cNvPicPr/>
          <p:nvPr/>
        </p:nvPicPr>
        <p:blipFill>
          <a:blip r:embed="rId5"/>
          <a:stretch/>
        </p:blipFill>
        <p:spPr>
          <a:xfrm>
            <a:off x="1000080" y="5429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3.wav" descr=""/>
          <p:cNvPicPr/>
          <p:nvPr/>
        </p:nvPicPr>
        <p:blipFill>
          <a:blip r:embed="rId6"/>
          <a:stretch/>
        </p:blipFill>
        <p:spPr>
          <a:xfrm>
            <a:off x="1000080" y="578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6.wav" descr=""/>
          <p:cNvPicPr/>
          <p:nvPr/>
        </p:nvPicPr>
        <p:blipFill>
          <a:blip r:embed="rId7"/>
          <a:stretch/>
        </p:blipFill>
        <p:spPr>
          <a:xfrm>
            <a:off x="100008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274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5717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698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8203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5134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243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0160" y="428760"/>
            <a:ext cx="57866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1a00"/>
                </a:solidFill>
                <a:latin typeface="Impact"/>
              </a:rPr>
              <a:t>Неопределенная форма глагола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682956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5155-8018-4B1E-B1CC-B39411AE2AF0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1928880" y="714240"/>
            <a:ext cx="6572160" cy="65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928800" y="2214720"/>
            <a:ext cx="2923920" cy="108252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191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351a00"/>
                </a:solidFill>
                <a:latin typeface="Impact"/>
              </a:rPr>
              <a:t>Что делать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072040" y="2214720"/>
            <a:ext cx="3429000" cy="1006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1a00"/>
                </a:solidFill>
                <a:latin typeface="Impact"/>
              </a:rPr>
              <a:t>Что сделать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1116000" y="3213000"/>
            <a:ext cx="2819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5500800" y="3000240"/>
            <a:ext cx="281916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32523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32523"/>
              </a:solidFill>
              <a:latin typeface="Arial"/>
              <a:ea typeface="Arial"/>
            </a:endParaRPr>
          </a:p>
        </p:txBody>
      </p:sp>
      <p:sp>
        <p:nvSpPr>
          <p:cNvPr id="115" name="Line 8"/>
          <p:cNvSpPr/>
          <p:nvPr/>
        </p:nvSpPr>
        <p:spPr>
          <a:xfrm flipH="1">
            <a:off x="2857680" y="1571760"/>
            <a:ext cx="1295280" cy="57132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5572080" y="1428840"/>
            <a:ext cx="1571760" cy="71424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2214720" y="385776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71919"/>
                </a:solidFill>
                <a:latin typeface="Constantia"/>
              </a:rPr>
              <a:t>   </a:t>
            </a:r>
            <a:r>
              <a:rPr b="1" lang="ru-RU" sz="4800" spc="-1" strike="noStrike">
                <a:solidFill>
                  <a:srgbClr val="671919"/>
                </a:solidFill>
                <a:latin typeface="Constantia"/>
              </a:rPr>
              <a:t>- </a:t>
            </a:r>
            <a:r>
              <a:rPr b="1" lang="ru-RU" sz="4800" spc="-1" strike="noStrike">
                <a:solidFill>
                  <a:srgbClr val="351a00"/>
                </a:solidFill>
                <a:latin typeface="Impact"/>
              </a:rPr>
              <a:t>ТЬ,  - ТИ,  -ЧЬ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2071800" y="3286080"/>
            <a:ext cx="1081080" cy="79236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 flipH="1">
            <a:off x="5643720" y="3286080"/>
            <a:ext cx="863280" cy="64764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3303720" y="4714920"/>
            <a:ext cx="257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51a00"/>
                </a:solidFill>
                <a:latin typeface="Impact"/>
              </a:rPr>
              <a:t>Время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51a00"/>
                </a:solidFill>
                <a:latin typeface="Impact"/>
              </a:rPr>
              <a:t>Число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Прямая соединительная линия 18"/>
          <p:cNvSpPr/>
          <p:nvPr/>
        </p:nvSpPr>
        <p:spPr>
          <a:xfrm>
            <a:off x="3429000" y="4714920"/>
            <a:ext cx="2357280" cy="1714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Прямая соединительная линия 20"/>
          <p:cNvSpPr/>
          <p:nvPr/>
        </p:nvSpPr>
        <p:spPr>
          <a:xfrm flipH="1">
            <a:off x="3357720" y="4786200"/>
            <a:ext cx="2428560" cy="16430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57160" y="55720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Comic Sans MS"/>
              </a:rPr>
              <a:t>        </a:t>
            </a:r>
            <a:r>
              <a:rPr b="1" lang="ru-RU" sz="6000" spc="-1" strike="noStrike">
                <a:solidFill>
                  <a:srgbClr val="0070c0"/>
                </a:solidFill>
                <a:latin typeface="Comic Sans MS"/>
              </a:rPr>
              <a:t>+</a:t>
            </a:r>
            <a:r>
              <a:rPr b="0" lang="ru-RU" sz="6000" spc="-1" strike="noStrike">
                <a:solidFill>
                  <a:srgbClr val="402000"/>
                </a:solidFill>
                <a:latin typeface="Comic Sans MS"/>
              </a:rPr>
              <a:t> </a:t>
            </a:r>
            <a:r>
              <a:rPr b="1" lang="ru-RU" sz="6000" spc="-1" strike="noStrike">
                <a:solidFill>
                  <a:srgbClr val="0070c0"/>
                </a:solidFill>
                <a:latin typeface="Comic Sans MS"/>
              </a:rPr>
              <a:t>о + о + + о +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763640" y="479736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2497680" y="214200"/>
            <a:ext cx="49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Comic Sans MS"/>
              </a:rPr>
              <a:t>Крестики-нолики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857160" y="879840"/>
            <a:ext cx="7572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лагол – это часть речи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Глагол – обозначает предмет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Глагол – изменяется по временам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лагол – отвечает на вопрос какой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Глагол – в прошедшем времени изменяется по родам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Глагол – изменяется по числам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Глаголы в предложении являются подлежащим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Глаголы прошедшего времени имеют суффикс -л-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5214960" y="8571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omic Sans MS"/>
              </a:rPr>
              <a:t>д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6929280" y="1643040"/>
            <a:ext cx="10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omic Sans MS"/>
              </a:rPr>
              <a:t>д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2500200" y="300024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omic Sans MS"/>
              </a:rPr>
              <a:t>д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6429240" y="3357720"/>
            <a:ext cx="10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omic Sans MS"/>
              </a:rPr>
              <a:t>д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2928960" y="507204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omic Sans MS"/>
              </a:rPr>
              <a:t>д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6000840" y="12859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omic Sans MS"/>
              </a:rPr>
              <a:t>нет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7175160" y="2214720"/>
            <a:ext cx="9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omic Sans MS"/>
              </a:rPr>
              <a:t>нет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3246120" y="4357800"/>
            <a:ext cx="9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omic Sans MS"/>
              </a:rPr>
              <a:t>нет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93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857760" y="1857240"/>
            <a:ext cx="795240" cy="86220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786120" y="3643200"/>
            <a:ext cx="1005120" cy="890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7207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         </a:t>
            </a:r>
            <a:r>
              <a:rPr b="1" lang="ru-RU" sz="3600" spc="-1" strike="noStrike">
                <a:solidFill>
                  <a:srgbClr val="00b0f0"/>
                </a:solidFill>
                <a:latin typeface="Arial"/>
                <a:ea typeface="Calibri"/>
              </a:rPr>
              <a:t>Неопределённая форма глагола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285920" y="1999080"/>
            <a:ext cx="71438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                             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                                 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Calibri"/>
              </a:rPr>
              <a:t>Начальная форма глагола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905120" y="3863880"/>
            <a:ext cx="57909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        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Calibri"/>
              </a:rPr>
              <a:t> 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Calibri"/>
              </a:rPr>
              <a:t>Инфинитив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2428920" y="357120"/>
            <a:ext cx="4071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Constantia"/>
              </a:rPr>
              <a:t>Одеть и надеть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Два этих слов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Мы часто путаем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Так бестолково!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28840" y="2500200"/>
          <a:ext cx="6691320" cy="884520"/>
        </p:xfrm>
        <a:graphic>
          <a:graphicData uri="http://schemas.openxmlformats.org/drawingml/2006/table">
            <a:tbl>
              <a:tblPr/>
              <a:tblGrid>
                <a:gridCol w="3346200"/>
                <a:gridCol w="3345120"/>
              </a:tblGrid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bfae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bfae2"/>
                          </a:solidFill>
                          <a:latin typeface="Times New Roman"/>
                        </a:rPr>
                        <a:t>надеть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</a:rPr>
                        <a:t>(что-нибудь)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18720">
                      <a:solidFill>
                        <a:srgbClr val="fbfae2"/>
                      </a:solidFill>
                    </a:lnB>
                    <a:solidFill>
                      <a:srgbClr val="351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bfae2"/>
                          </a:solidFill>
                          <a:latin typeface="Times New Roman"/>
                        </a:rPr>
                        <a:t>одеть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</a:rPr>
                        <a:t>(кого-нибудь)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18720">
                      <a:solidFill>
                        <a:srgbClr val="fbfae2"/>
                      </a:solidFill>
                    </a:lnB>
                    <a:solidFill>
                      <a:srgbClr val="351a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643040" y="3571920"/>
          <a:ext cx="6357960" cy="2786040"/>
        </p:xfrm>
        <a:graphic>
          <a:graphicData uri="http://schemas.openxmlformats.org/drawingml/2006/table">
            <a:tbl>
              <a:tblPr/>
              <a:tblGrid>
                <a:gridCol w="3179880"/>
                <a:gridCol w="317808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</a:rPr>
                        <a:t>форму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18720">
                      <a:solidFill>
                        <a:srgbClr val="fbfae2"/>
                      </a:solidFill>
                    </a:lnB>
                    <a:solidFill>
                      <a:srgbClr val="351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bfae2"/>
                          </a:solidFill>
                          <a:latin typeface="Times New Roman"/>
                        </a:rPr>
                        <a:t>Ребёнка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18720">
                      <a:solidFill>
                        <a:srgbClr val="fbfae2"/>
                      </a:solidFill>
                    </a:lnB>
                    <a:solidFill>
                      <a:srgbClr val="351a00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альто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872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евочку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872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туфли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больного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шапку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уклу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латье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бабушку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остюм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едушку</a:t>
                      </a: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cecccb"/>
                    </a:solidFill>
                  </a:tcPr>
                </a:tc>
              </a:tr>
            </a:tbl>
          </a:graphicData>
        </a:graphic>
      </p:graphicFrame>
      <p:pic>
        <p:nvPicPr>
          <p:cNvPr id="144" name="Рисунок 5" descr="BABY10.WMF"/>
          <p:cNvPicPr/>
          <p:nvPr/>
        </p:nvPicPr>
        <p:blipFill>
          <a:blip r:embed="rId1"/>
          <a:stretch/>
        </p:blipFill>
        <p:spPr>
          <a:xfrm>
            <a:off x="8109000" y="1500120"/>
            <a:ext cx="1035000" cy="22543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BD07446_.WMF"/>
          <p:cNvPicPr/>
          <p:nvPr/>
        </p:nvPicPr>
        <p:blipFill>
          <a:blip r:embed="rId2"/>
          <a:stretch/>
        </p:blipFill>
        <p:spPr>
          <a:xfrm rot="21367200">
            <a:off x="1042920" y="2384280"/>
            <a:ext cx="844560" cy="12988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8" descr="BD07454_.WMF"/>
          <p:cNvPicPr/>
          <p:nvPr/>
        </p:nvPicPr>
        <p:blipFill>
          <a:blip r:embed="rId3"/>
          <a:stretch/>
        </p:blipFill>
        <p:spPr>
          <a:xfrm rot="20743800">
            <a:off x="833040" y="4097160"/>
            <a:ext cx="1000080" cy="16671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9" descr="BD20172_.WMF"/>
          <p:cNvPicPr/>
          <p:nvPr/>
        </p:nvPicPr>
        <p:blipFill>
          <a:blip r:embed="rId4"/>
          <a:stretch/>
        </p:blipFill>
        <p:spPr>
          <a:xfrm>
            <a:off x="8143920" y="5143680"/>
            <a:ext cx="75888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000080" y="144756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d130c"/>
                </a:solidFill>
                <a:latin typeface="Times New Roman"/>
              </a:rPr>
              <a:t>Я учился…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d130c"/>
                </a:solidFill>
                <a:latin typeface="Times New Roman"/>
              </a:rPr>
              <a:t>Я узнал…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d130c"/>
                </a:solidFill>
                <a:latin typeface="Times New Roman"/>
              </a:rPr>
              <a:t>Мне было интересно…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d130c"/>
                </a:solidFill>
                <a:latin typeface="Times New Roman"/>
              </a:rPr>
              <a:t>Мне было трудно…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1020960" y="500040"/>
            <a:ext cx="762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34d26"/>
                </a:solidFill>
                <a:latin typeface="Arial"/>
              </a:rPr>
              <a:t>Продолжи одно из предложений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0" name="Picture 5" descr="школьный профес"/>
          <p:cNvPicPr/>
          <p:nvPr/>
        </p:nvPicPr>
        <p:blipFill>
          <a:blip r:embed="rId1"/>
          <a:stretch/>
        </p:blipFill>
        <p:spPr>
          <a:xfrm>
            <a:off x="5975280" y="928800"/>
            <a:ext cx="3168720" cy="27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3:31:06Z</dcterms:created>
  <dc:creator>Таня</dc:creator>
  <dc:description/>
  <dc:language>en-US</dc:language>
  <cp:lastModifiedBy>Admin</cp:lastModifiedBy>
  <dcterms:modified xsi:type="dcterms:W3CDTF">2014-03-18T20:18:59Z</dcterms:modified>
  <cp:revision>80</cp:revision>
  <dc:subject/>
  <dc:title>Тема: Начальная форма глагола</dc:title>
</cp:coreProperties>
</file>