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4.png" ContentType="image/png"/>
  <Override PartName="/ppt/media/image4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BFC-24E8-479A-A00C-CBEC580156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CFF-F1F0-41DD-912D-940543DECA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EB9-D550-4FD2-8C5E-796CBD4B72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361D-AAEA-4582-A804-7DB7C2A6D7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5C9-2834-40BD-9456-44E8B4FD5C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68B-259C-4E99-9592-C1D2775B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97C-FCE5-44F9-8A68-3B575D22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EDE-265B-4E69-8A3B-14CF78DA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84F-A66D-4EA0-99E9-46C342E5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94D-AB7B-44CD-B47A-641E25E7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D4D-204B-4C0D-A597-C04FAA9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B96-C6A8-4D02-B9EE-953BE80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026-65FF-45B5-8344-072AACB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07E-6D30-416A-A726-409E0D6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4CF-FB91-4729-A987-05AA019F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F6D-9897-4F03-9548-09B1791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1A3-D9D3-447F-A878-43C9DCF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209F-5CE0-435E-AF18-A25A46B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D24A-D753-4DEB-8593-00AD22C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A08-38C7-4E67-AA4E-F8F137BA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E92-F720-47AE-8883-FA89A239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F8C-2AE7-460C-BE31-9CF0196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E86F-0A8E-4E6D-B8F6-11D801DA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764F-57D1-4BAC-9A34-2616FCB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1EB6-79D5-4BA6-B149-BE10EE0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F6AA-F08C-4DA7-B23E-B840DE64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5E9A-6438-4C20-B18E-34AB04F2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B84-B5CE-4608-8FD1-98C73C4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E8B4-4B23-4A51-89A9-4DCDA19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17D5-00F1-4106-9001-7DE9D19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BA9C-5326-4442-ACB4-9338B30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1C90-B680-4F94-8958-1E4ADBF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1C75-3FF0-4B4E-979B-5EDA22C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0DF3-39FE-46FE-A10F-EA453F10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0625-AA58-4241-9BAE-05FD03C1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3651-ABF6-4559-A388-080B134F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CF39-A646-469D-8942-DC474E3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D3E7-40BF-441D-9321-8F3CB41A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3BD-B6D1-4F70-9BDF-ADAD5775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C086-8743-4EAC-9AC1-EB6587C4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7C2E-9C3C-4BCE-B962-8232D83A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7EB0-788D-421C-A452-F6F9039F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DBCF-7635-45F6-93B3-78F1B1C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0853-5E99-4DB5-B8C2-F69E4F8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0A81-647C-4A51-AE37-B395751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3E4C-21D0-4D32-88B2-6384712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CA03-5C4E-456A-A3BF-C61ADE4D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EBD4-6D5A-4240-A10B-362C033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46DE-6601-40F5-8591-B404D57E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988-74EA-4482-9F3D-8281EE2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9164-19F0-45A3-B1C9-6BD8CC3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8B5D-D81E-4ECE-825D-BB67829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62B5-1651-4728-9995-E854FB1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006B-7836-472E-9960-2600D4F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4087-7E24-4713-ABF4-F674359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1E81-D61A-4F51-A8A3-7DD290E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77D1-E2B9-4820-AA07-749BCA4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2897-606C-45CB-BA90-3286DD5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2913-7DF4-49EA-8F2E-9B4F69F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00B1-664D-47E6-8216-9400F2C9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1EE-EAC7-4043-AAA7-715DC08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98ED0-ECE9-4C64-8E3C-535E21D0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2F017-1516-4AAF-B9E5-C94C3205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375C-8769-4B7B-8692-86A53A7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2818-E348-40B4-9C75-71B6DE9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FCAD-F856-49E7-B6E8-BD759D5E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C892-8312-42BA-9540-3AF06CE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D4F3-C665-4379-BC8C-C905FD78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62964-AD8F-4778-99B4-D1C45E0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D0AEE-BBDA-4225-A926-461960F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9C4F-6015-482D-80AA-81FEE50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87E-DEA1-4691-8E37-F1C443F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7BD23-1F00-484A-8505-1D962BA0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CD9F-90B6-4325-A115-448D547B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94BF-6EA0-4A0F-8389-CE21E772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6B44-BAA8-44A5-B56F-CA9885B0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68E1-CC17-4197-B0FE-F125DFA3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595FB-5838-4A20-9BE7-EB8EB00D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F36E-FB5A-46C1-925B-5AC37AF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6D32-9714-478F-95F4-70523A0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242B-4EA4-46D5-9324-AEF2EDC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93E4-4E83-492D-9D59-5DDC4DB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A01-968A-436B-975F-5ADC04C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E125-8A57-4957-BAB5-8DC8ED02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84B2-0730-4415-8047-99578C5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1F58-93D8-4F39-B02B-5165836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F3D4-8B8C-4671-80A1-8C94A83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0896-D509-4E5E-8798-CF4F0863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397-183E-4F9F-8AA9-1FD32F7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D1BE-8274-40DF-9223-9CF06DB22E9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84A1-8893-4471-9CCB-7F411283FB81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B20-7F8E-4081-8561-5D8E88ED6D7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432-A9FC-4698-851D-EE6314B6E7A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9471-F918-402A-B5FF-F5C75227AE5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72C6-FD88-408E-B374-F674DD6A23E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0D7F-DEEE-4363-A7FE-0E06FC9438A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174160" cy="3144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785840" y="5437800"/>
            <a:ext cx="2143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F:\МОИ ДОКУМЕНТЫ-2\картинки биология\общая биология\цитология\химический состав клетки\роль кальция.jpg"/>
          <p:cNvPicPr/>
          <p:nvPr/>
        </p:nvPicPr>
        <p:blipFill>
          <a:blip r:embed="rId1"/>
          <a:stretch/>
        </p:blipFill>
        <p:spPr>
          <a:xfrm>
            <a:off x="776160" y="1428840"/>
            <a:ext cx="7493040" cy="54291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3"/>
          <p:cNvSpPr/>
          <p:nvPr/>
        </p:nvSpPr>
        <p:spPr>
          <a:xfrm>
            <a:off x="428760" y="214200"/>
            <a:ext cx="8001000" cy="1071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 – формирует костную тка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F:\МОИ ДОКУМЕНТЫ-2\картинки биология\общая биология\цитология\химический состав клетки\роль кальция и фосфора.jpg"/>
          <p:cNvPicPr/>
          <p:nvPr/>
        </p:nvPicPr>
        <p:blipFill>
          <a:blip r:embed="rId1"/>
          <a:srcRect l="2832" t="0" r="3436" b="0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:\МОИ ДОКУМЕНТЫ-2\картинки биология\общая биология\цитология\химический состав клетки\роль магния.jpg"/>
          <p:cNvPicPr/>
          <p:nvPr/>
        </p:nvPicPr>
        <p:blipFill>
          <a:blip r:embed="rId1"/>
          <a:stretch/>
        </p:blipFill>
        <p:spPr>
          <a:xfrm>
            <a:off x="642960" y="1028880"/>
            <a:ext cx="7929720" cy="582912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2"/>
          <p:cNvSpPr/>
          <p:nvPr/>
        </p:nvSpPr>
        <p:spPr>
          <a:xfrm>
            <a:off x="1000080" y="0"/>
            <a:ext cx="7500960" cy="9288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g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- основа хлорофилла и ферментов у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:\МОИ ДОКУМЕНТЫ-2\картинки биология\общая биология\цитология\химический состав клетки\роль марганца.jpg"/>
          <p:cNvPicPr/>
          <p:nvPr/>
        </p:nvPicPr>
        <p:blipFill>
          <a:blip r:embed="rId1"/>
          <a:srcRect l="0" t="0" r="0" b="14599"/>
          <a:stretch/>
        </p:blipFill>
        <p:spPr>
          <a:xfrm>
            <a:off x="157320" y="500040"/>
            <a:ext cx="8915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F:\МОИ ДОКУМЕНТЫ-2\картинки биология\общая биология\цитология\химический состав клетки\роль меди.jpg"/>
          <p:cNvPicPr/>
          <p:nvPr/>
        </p:nvPicPr>
        <p:blipFill>
          <a:blip r:embed="rId1"/>
          <a:srcRect l="0" t="0" r="5727" b="5025"/>
          <a:stretch/>
        </p:blipFill>
        <p:spPr>
          <a:xfrm>
            <a:off x="0" y="6660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2"/>
          <p:cNvSpPr/>
          <p:nvPr/>
        </p:nvSpPr>
        <p:spPr>
          <a:xfrm>
            <a:off x="357120" y="4929120"/>
            <a:ext cx="1785960" cy="15001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С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F:\МОИ ДОКУМЕНТЫ-2\картинки биология\общая биология\цитология\химический состав клетки\роль иода.jpg"/>
          <p:cNvPicPr/>
          <p:nvPr/>
        </p:nvPicPr>
        <p:blipFill>
          <a:blip r:embed="rId1"/>
          <a:srcRect l="0" t="0" r="3807" b="0"/>
          <a:stretch/>
        </p:blipFill>
        <p:spPr>
          <a:xfrm>
            <a:off x="1071720" y="12600"/>
            <a:ext cx="6858000" cy="684540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0" y="4714920"/>
            <a:ext cx="4000680" cy="2143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 – в составе тирокс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МОИ ДОКУМЕНТЫ-2\картинки биология\общая биология\цитология\химический состав клетки\роль фтора.jpg"/>
          <p:cNvPicPr/>
          <p:nvPr/>
        </p:nvPicPr>
        <p:blipFill>
          <a:blip r:embed="rId1"/>
          <a:stretch/>
        </p:blipFill>
        <p:spPr>
          <a:xfrm>
            <a:off x="714240" y="0"/>
            <a:ext cx="7796520" cy="571032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2"/>
          <p:cNvSpPr/>
          <p:nvPr/>
        </p:nvSpPr>
        <p:spPr>
          <a:xfrm>
            <a:off x="2857680" y="5715000"/>
            <a:ext cx="3071520" cy="11430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 –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в составе зубной эм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352000" cy="1622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F:\МОИ ДОКУМЕНТЫ-2\картинки биология\общая биология\цитология\химический состав клетки\вещества клетки 6 кл.jpg"/>
          <p:cNvPicPr/>
          <p:nvPr/>
        </p:nvPicPr>
        <p:blipFill>
          <a:blip r:embed="rId2"/>
          <a:stretch/>
        </p:blipFill>
        <p:spPr>
          <a:xfrm>
            <a:off x="500040" y="1628640"/>
            <a:ext cx="8215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534520" cy="2200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F:\МОИ ДОКУМЕНТЫ-2\картинки биология\общая биология\цитология\химический состав клетки\вода в живых клетках.jpg"/>
          <p:cNvPicPr/>
          <p:nvPr/>
        </p:nvPicPr>
        <p:blipFill>
          <a:blip r:embed="rId2"/>
          <a:stretch/>
        </p:blipFill>
        <p:spPr>
          <a:xfrm>
            <a:off x="2071800" y="2259000"/>
            <a:ext cx="53578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F:\МОИ ДОКУМЕНТЫ-2\картинки биология\общая биология\цитология\химический состав клетки\роль фтора.jpg"/>
          <p:cNvPicPr/>
          <p:nvPr/>
        </p:nvPicPr>
        <p:blipFill>
          <a:blip r:embed="rId1"/>
          <a:srcRect l="60815" t="0" r="1691" b="64024"/>
          <a:stretch/>
        </p:blipFill>
        <p:spPr>
          <a:xfrm>
            <a:off x="0" y="0"/>
            <a:ext cx="3252960" cy="228600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3714840" y="642960"/>
            <a:ext cx="5429160" cy="1071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В клетках эмали зубов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3" descr="F:\МОИ ДОКУМЕНТЫ-2\картинки биология\анатомия\нервная система, органы чувств\головной мозг 7.BMP"/>
          <p:cNvPicPr/>
          <p:nvPr/>
        </p:nvPicPr>
        <p:blipFill>
          <a:blip r:embed="rId2"/>
          <a:stretch/>
        </p:blipFill>
        <p:spPr>
          <a:xfrm>
            <a:off x="0" y="2286000"/>
            <a:ext cx="3214800" cy="27432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5"/>
          <p:cNvSpPr/>
          <p:nvPr/>
        </p:nvSpPr>
        <p:spPr>
          <a:xfrm>
            <a:off x="3857760" y="2928960"/>
            <a:ext cx="52862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В клетках головного мозга – 8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F:\МОИ ДОКУМЕНТЫ-2\картинки биология\анатомия\нервная система, органы чувств\глаз.jpg"/>
          <p:cNvPicPr/>
          <p:nvPr/>
        </p:nvPicPr>
        <p:blipFill>
          <a:blip r:embed="rId3"/>
          <a:stretch/>
        </p:blipFill>
        <p:spPr>
          <a:xfrm>
            <a:off x="571680" y="4929120"/>
            <a:ext cx="1928520" cy="19288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7"/>
          <p:cNvSpPr/>
          <p:nvPr/>
        </p:nvSpPr>
        <p:spPr>
          <a:xfrm>
            <a:off x="3214800" y="5357880"/>
            <a:ext cx="5929200" cy="1071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 клетках стекловидного тела глаза –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2322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МОИ ДОКУМЕНТЫ-2\картинки биология\общая биология\цитология\химический состав клетки\элементы клетки.jpg"/>
          <p:cNvPicPr/>
          <p:nvPr/>
        </p:nvPicPr>
        <p:blipFill>
          <a:blip r:embed="rId2"/>
          <a:stretch/>
        </p:blipFill>
        <p:spPr>
          <a:xfrm>
            <a:off x="204840" y="1857240"/>
            <a:ext cx="8724960" cy="477216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214200" y="1857240"/>
            <a:ext cx="2500560" cy="107172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2202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F:\МОИ ДОКУМЕНТЫ-2\картинки биология\растения\арбуз.jpg"/>
          <p:cNvPicPr/>
          <p:nvPr/>
        </p:nvPicPr>
        <p:blipFill>
          <a:blip r:embed="rId2"/>
          <a:stretch/>
        </p:blipFill>
        <p:spPr>
          <a:xfrm>
            <a:off x="0" y="2000160"/>
            <a:ext cx="2500200" cy="2894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F:\МОИ ДОКУМЕНТЫ-2\картинки биология\растения\огурец.jpg"/>
          <p:cNvPicPr/>
          <p:nvPr/>
        </p:nvPicPr>
        <p:blipFill>
          <a:blip r:embed="rId3"/>
          <a:stretch/>
        </p:blipFill>
        <p:spPr>
          <a:xfrm>
            <a:off x="2714760" y="20001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F:\МОИ ДОКУМЕНТЫ-2\картинки биология\беспозвоночные животные\простейшие, кишечнополостные\кишечнополостные\медуза корнерот.jpg"/>
          <p:cNvPicPr/>
          <p:nvPr/>
        </p:nvPicPr>
        <p:blipFill>
          <a:blip r:embed="rId4"/>
          <a:stretch/>
        </p:blipFill>
        <p:spPr>
          <a:xfrm>
            <a:off x="5715000" y="2000160"/>
            <a:ext cx="3392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59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15840" y="1573200"/>
            <a:ext cx="9144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сокая температура кипения и плавле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ярность молекулы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собность образовывать друг с другом водородные связи (способна к испарению)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зрачн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F:\МОИ ДОКУМЕНТЫ-2\картинки биология\общая биология\цитология\химический состав клетки\водородные связи в молекуле воды.jpg"/>
          <p:cNvPicPr/>
          <p:nvPr/>
        </p:nvPicPr>
        <p:blipFill>
          <a:blip r:embed="rId1"/>
          <a:stretch/>
        </p:blipFill>
        <p:spPr>
          <a:xfrm>
            <a:off x="-41400" y="61920"/>
            <a:ext cx="91854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F:\МОИ ДОКУМЕНТЫ-2\картинки биология\общая биология\цитология\химический состав клетки\молекула воды.gif"/>
          <p:cNvPicPr/>
          <p:nvPr/>
        </p:nvPicPr>
        <p:blipFill>
          <a:blip r:embed="rId1"/>
          <a:stretch/>
        </p:blipFill>
        <p:spPr>
          <a:xfrm>
            <a:off x="428760" y="50004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4358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0" y="122400"/>
            <a:ext cx="9504360" cy="1809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F:\МОИ ДОКУМЕНТЫ-2\картинки биология\общая биология\цитология\химический состав клетки\минеральные соли.jpg"/>
          <p:cNvPicPr/>
          <p:nvPr/>
        </p:nvPicPr>
        <p:blipFill>
          <a:blip r:embed="rId2"/>
          <a:stretch/>
        </p:blipFill>
        <p:spPr>
          <a:xfrm>
            <a:off x="928800" y="1835280"/>
            <a:ext cx="76086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F:\МОИ ДОКУМЕНТЫ-2\картинки биология\общая биология\цитология\химический состав клетки\соли в организме.jpg"/>
          <p:cNvPicPr/>
          <p:nvPr/>
        </p:nvPicPr>
        <p:blipFill>
          <a:blip r:embed="rId1"/>
          <a:stretch/>
        </p:blipFill>
        <p:spPr>
          <a:xfrm>
            <a:off x="0" y="357120"/>
            <a:ext cx="9148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F:\МОИ ДОКУМЕНТЫ-2\картинки биология\общая биология\цитология\химический состав клетки\соли кальция в организма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F:\МОИ ДОКУМЕНТЫ-2\картинки биология\общая биология\цитология\химический состав клетки\буферность.jpg"/>
          <p:cNvPicPr/>
          <p:nvPr/>
        </p:nvPicPr>
        <p:blipFill>
          <a:blip r:embed="rId1"/>
          <a:stretch/>
        </p:blipFill>
        <p:spPr>
          <a:xfrm>
            <a:off x="214200" y="2643120"/>
            <a:ext cx="8717040" cy="4014720"/>
          </a:xfrm>
          <a:prstGeom prst="rect">
            <a:avLst/>
          </a:prstGeom>
          <a:ln w="0">
            <a:noFill/>
          </a:ln>
        </p:spPr>
      </p:pic>
      <p:pic>
        <p:nvPicPr>
          <p:cNvPr id="361" name="Заголовок 2" descr=""/>
          <p:cNvPicPr/>
          <p:nvPr/>
        </p:nvPicPr>
        <p:blipFill>
          <a:blip r:embed="rId2"/>
          <a:stretch/>
        </p:blipFill>
        <p:spPr>
          <a:xfrm>
            <a:off x="0" y="182520"/>
            <a:ext cx="9497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F:\МОИ ДОКУМЕНТЫ-2\картинки биология\общая биология\цитология\химический состав клетки\содержание элементов в клетке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-13320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F:\МОИ ДОКУМЕНТЫ-2\картинки биология\общая биология\цитология\химический состав клетки\макро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53360" cy="3643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F:\МОИ ДОКУМЕНТЫ-2\картинки биология\общая биология\цитология\химический состав клетки\макроэлементы 2.jpg"/>
          <p:cNvPicPr/>
          <p:nvPr/>
        </p:nvPicPr>
        <p:blipFill>
          <a:blip r:embed="rId2"/>
          <a:stretch/>
        </p:blipFill>
        <p:spPr>
          <a:xfrm>
            <a:off x="785880" y="2781360"/>
            <a:ext cx="7786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F:\МОИ ДОКУМЕНТЫ-2\картинки биология\общая биология\цитология\химический состав клетки\микроэлементы.jpg"/>
          <p:cNvPicPr/>
          <p:nvPr/>
        </p:nvPicPr>
        <p:blipFill>
          <a:blip r:embed="rId1"/>
          <a:srcRect l="0" t="0" r="0" b="55457"/>
          <a:stretch/>
        </p:blipFill>
        <p:spPr>
          <a:xfrm>
            <a:off x="7920" y="0"/>
            <a:ext cx="9080640" cy="1714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F:\МОИ ДОКУМЕНТЫ-2\картинки биология\общая биология\цитология\химический состав клетки\ультрамикроэлементы 2.jpg"/>
          <p:cNvPicPr/>
          <p:nvPr/>
        </p:nvPicPr>
        <p:blipFill>
          <a:blip r:embed="rId2"/>
          <a:stretch/>
        </p:blipFill>
        <p:spPr>
          <a:xfrm>
            <a:off x="0" y="1785960"/>
            <a:ext cx="9144000" cy="394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F:\МОИ ДОКУМЕНТЫ-2\картинки биология\общая биология\цитология\химический состав клетки\ультрамикроэлементы.jpg"/>
          <p:cNvPicPr/>
          <p:nvPr/>
        </p:nvPicPr>
        <p:blipFill>
          <a:blip r:embed="rId3"/>
          <a:srcRect l="31407" t="0" r="0" b="73840"/>
          <a:stretch/>
        </p:blipFill>
        <p:spPr>
          <a:xfrm>
            <a:off x="809640" y="4714920"/>
            <a:ext cx="7623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F:\МОИ ДОКУМЕНТЫ-2\картинки биология\общая биология\цитология\химический состав клетки\биоэлементы.jpg"/>
          <p:cNvPicPr/>
          <p:nvPr/>
        </p:nvPicPr>
        <p:blipFill>
          <a:blip r:embed="rId1"/>
          <a:srcRect l="0" t="0" r="2029" b="0"/>
          <a:stretch/>
        </p:blipFill>
        <p:spPr>
          <a:xfrm>
            <a:off x="0" y="71424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F:\МОИ ДОКУМЕНТЫ-2\картинки биология\общая биология\цитология\химический состав клетки\ультрамикроэлементы  3.png"/>
          <p:cNvPicPr/>
          <p:nvPr/>
        </p:nvPicPr>
        <p:blipFill>
          <a:blip r:embed="rId1"/>
          <a:stretch/>
        </p:blipFill>
        <p:spPr>
          <a:xfrm>
            <a:off x="17640" y="1071720"/>
            <a:ext cx="91263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F:\МОИ ДОКУМЕНТЫ-2\картинки биология\общая биология\цитология\химический состав клетки\роль железа.jpg"/>
          <p:cNvPicPr/>
          <p:nvPr/>
        </p:nvPicPr>
        <p:blipFill>
          <a:blip r:embed="rId2"/>
          <a:stretch/>
        </p:blipFill>
        <p:spPr>
          <a:xfrm>
            <a:off x="2038320" y="1781280"/>
            <a:ext cx="7105680" cy="50767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357120" y="3500280"/>
            <a:ext cx="1357560" cy="1071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26:09Z</dcterms:created>
  <dc:creator>Саша МАРКОВ</dc:creator>
  <dc:description/>
  <dc:language>en-US</dc:language>
  <cp:lastModifiedBy>ксеня</cp:lastModifiedBy>
  <dcterms:modified xsi:type="dcterms:W3CDTF">2017-12-13T16:22:57Z</dcterms:modified>
  <cp:revision>10</cp:revision>
  <dc:subject/>
  <dc:title>Неорганические вещества клетки</dc:title>
</cp:coreProperties>
</file>