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B85A-DA39-4819-9DE3-1AD1CA369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3D62-2875-4499-A75E-1FB2119F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405D00-2E6B-48B7-B9D9-65ACFE8E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5A06F8-08C9-4AE5-BFE4-5CD753E0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2FAA76-E07D-4AE7-8F84-290D0070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12CAB9-B6B5-41D3-80A4-F4F65C35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ABAA80-E1F8-4A4C-BD66-C2241299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D295E1-7404-4F4D-A161-F238D538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2FC52D-2647-4B80-9D19-F9153201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DA1B34-0088-41A8-B3D1-7183DAFC2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78832A-086B-4487-984A-E1E496F85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63F096-AA4E-4F64-AF4B-22F81982B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AC81-15FB-41D5-90A7-27D3BDDD1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83E6B1-9748-44A4-95D2-8DCAF478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708BED-6818-4D6E-82F1-B5FD00F1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585DBC-52F3-4E12-9424-3A7757A5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DA81AF-0315-429B-9AB2-08B9ADF1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DAD286-4748-4A58-B121-FF189938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6A9A3D-6A71-479A-ABB3-9EC3238E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3E1EEA-2898-4688-9D1D-E2ED453D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8AFE6C-AC42-4B82-A2F8-1B17DA34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282187-8DFC-40D0-B45E-51AA4687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0209A5-9704-45E2-923C-C8952A4D4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34DB-AAB9-4996-ADCE-EB57F559B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F31911-DC38-432E-98C5-3C3EFD315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5152D-1556-49D9-AE14-F6FF8C92E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10DF51-171D-4E26-BC0F-CB5B2BC8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B07A38-578B-4898-BE0F-C340F22C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6DAF6D-C4EE-49BB-BCCF-4EFBA4FE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7E026A-E0CC-49FA-AC09-19766A9A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BC240-2E8B-4949-A759-DE609FBD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5495A-E522-428C-A89E-8C915684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973EDB-97E5-463E-8395-5E7BD872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382D5-E348-4B8B-BC5E-9ED41C78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1AE1-FEF3-4E67-B086-04E7BBD04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2B59A-8649-49AA-A64A-1B98837F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AD7E4-3473-4144-91DB-13910FB74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18145E-6BE4-42C4-8199-7B3D5C322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5AF495-A8FD-4D2E-AA9A-142AC2E35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DCC6B8-8B5F-404B-B6F8-803C1777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76BEFB-6071-49B5-8672-900830EA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516FF9-AB68-468C-AE4B-DFDA0419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7BC121-D292-478B-83CD-7D145A00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010186-E14D-4EC3-830D-5E5C1CBE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31C489-4C46-4756-A8EC-9F53C21B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F2F1-219B-49AA-9101-2ADDEF26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6BB008-E292-4C7D-A794-EFFDDC38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5081E4-8AD4-45B3-8774-3A3EDAA1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355521-DC8D-4AFC-9EA3-CB73A068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BCF9EE-76A2-47A1-8864-49DAA9D40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FE5BE7-13A6-4B6D-9430-61ACFC41B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93C6-9209-46B6-8EC2-CA2AC305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FE97-D8E9-4C26-B4D8-05D99991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8F0E-8200-47A5-A131-6FC5BF9F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32DB-5DA9-4F4F-BEA5-4D387F3C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5367-2869-43AB-BA6B-8C74672C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0ADC-1E54-43BF-B11A-65CFBE7C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E777-E69C-4CC5-B4EE-8377B2A3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BD3E6-0EB7-4745-A791-C530EC57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533A7-6EF8-4DBA-BCCB-12ADBF7C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446C-A580-47E3-B168-D3E027490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137E-A70C-4840-B33F-8A27238AC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4C662-17D9-4FFD-8F38-44F30A456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05ACC-BEAB-47A0-A5F5-17A05395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82F17-9AB7-46DE-8DBE-0E445367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EE37A-819F-4353-84B4-F823C5C7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4AFD4-77C5-4694-9B36-FEB49A53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B1CD-1426-4660-AFFF-584D0EDC1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837B7-2C60-4A83-8395-6696730A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E96DE-54DF-4353-8391-DA11B2BB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F646F-BF72-4BE7-BC1F-7AA41BE7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131EE-9780-4E39-BAED-0873523B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7121C-B048-4B8D-8C75-42357101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C4889-F3D1-415F-AAB2-F9593EC17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FE3FD-90AB-4D48-A513-77E1376A6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FF9DF-3A66-4242-8446-E5448952C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3ACB5-EE28-4945-9F15-05327A1B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E12B3-9A3A-452E-88B9-00ACCA33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45F9-DA3B-435E-ABB1-6F4ADF81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0270E-D05E-426A-A2BD-E1364D1A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3BB18-4D10-4DA3-AF03-BC1683A0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7F6F4-5906-4ECB-975C-2D340FE8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DD397-571F-4897-AAE3-0DA254CB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57CDF-24E0-45C9-9D16-365C6999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71EB5-0678-4096-8053-BA0A8CD0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E84A4-A0A5-45DE-A1E3-D8947D03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BC9E0-EA51-4381-AF24-4A936D4C7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205F1-6F02-450A-ABF6-EE95B0287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A544F-864C-46C5-AD3F-9ABDC11D4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B8B1-5E46-4CFF-8A74-AAB2BA62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3A5F4-25E2-4B71-8661-59EECED2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BBC23-85BE-45A7-B3FF-3C63598A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25FAC-77DE-43F9-8D04-D656A25A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9E4DD-DD39-422A-AE02-158725B3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7EB36-132F-4664-B976-E91F8927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20EE3-481A-4DD0-AF5A-4428752D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2A0A9-BFBB-4F72-80A7-B3A4645E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E11E3-4F08-4F20-8FB2-3C2171C4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52F70-E3E8-4521-A187-A15A64C7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1631B-C595-4125-A136-3DF093656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433F-3B61-41FE-A677-232ADB45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34E10-D135-4985-AB8C-EEC385720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D33FC-5037-426A-B5FF-EA116E0E9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7C4C7-C7AA-480A-8CF7-114009F9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9C019-3CF8-43FF-8C15-03B95539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E0351-F9F5-4771-B66B-555F2660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4E0DA-1FE3-416D-B879-65153A86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2FEE4-A37E-412C-A7D5-FA3D9427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4D8D7-F323-476F-BDE9-75FBD7EB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AE49A-A821-4609-BC21-2753996F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52D55-4115-435D-AFA6-7DD96FD3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8131-55FC-4F6A-BEAF-1EF17466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A1F7B-E4C2-43F6-AD61-C4E3B3AB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FEA1A-6EFE-467A-BE4C-52B1098D5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80583-84E4-4B5F-A428-00017D686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1FB6A-6D95-45ED-A1B7-5E8281684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4FAAE-3559-46A5-A8FC-86837CA7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AFAB2-5C97-441B-AC84-F529A2ED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6FC9E-FC2D-48C0-9F48-AC719E5F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E2629-7090-4FBD-8BDA-58351FFC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E8083-E225-4F40-AD42-9EC1AC3F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4F6C5-39FC-4A9B-9495-98F37EC1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8263-78F7-441E-941A-3CF08CBD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6D80B-B931-47FE-BDCB-D7A0E1D8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A8EFD-2D72-4906-AA76-D045F406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36D9C-B756-46B9-AD75-BA7550DC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9BC57-F490-4675-886F-8E389DACF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1E81B-AB5A-4CCD-BD6E-5415EDDA0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208FF-14E9-4C15-BC60-E1DB3F115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1891F-5208-4DB5-9E7B-CE0CBB88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84373-8118-4900-8551-FF5C6EAF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45E4D-55CB-41BA-B1EF-1C19E126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C3F0A-ADD1-4051-B429-278DC2CD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73B3-C40A-4C64-8C2D-EC5FCF28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951F7-1D2C-4299-892D-A54DBD7B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2380F-C5A2-484F-B1DB-59EACD38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41BF9-4E74-44B3-AFC5-12735BB6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0BC5B-A70A-4AA4-B104-D059F038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F2904-3D1D-4DF9-A5A4-D81363D1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081CB-C655-4064-A67D-C40E69178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7CFF5-2701-42DD-A3A4-7EA366511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3264D3-E3E7-4041-9E04-090ABF0A1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5B7414-5648-4D38-B0D3-C43285C4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480C55-5F44-4CC9-B0E6-1C818851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E7A3-D601-40EC-B707-69439F06B86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80D0-7E56-48AC-9B25-E3A7432FCB5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0296-A76B-4451-9730-457BF40C43F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D71B-8855-44E6-8DEB-4E1E33EC5E7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CFF8-DB4C-4A91-894D-3C0521108CF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3377-EE2C-4D41-8824-F9D1DBDC711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6669-862E-454E-8D9D-4B6E66C2980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A2E8-0095-4229-AB0B-F60B5FF7E61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8BA2-E494-4879-A888-BA9F0E7B502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91E7-975C-449B-935D-A57F9C607B0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3F7A-440E-4892-84BE-9319A582F03E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87C0-E07F-4C39-95B5-65F983C6F05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4"/>
          <p:cNvSpPr/>
          <p:nvPr/>
        </p:nvSpPr>
        <p:spPr>
          <a:xfrm>
            <a:off x="788400" y="785880"/>
            <a:ext cx="620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ПЛОСКОСТОП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cture 4" descr="C:\Documents and Settings\Djoni\Рабочий стол\ploskostopie-u-detej-e1445430959442.jpg"/>
          <p:cNvPicPr/>
          <p:nvPr/>
        </p:nvPicPr>
        <p:blipFill>
          <a:blip r:embed="rId1"/>
          <a:stretch/>
        </p:blipFill>
        <p:spPr>
          <a:xfrm>
            <a:off x="1285920" y="2498760"/>
            <a:ext cx="680400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67a"/>
                </a:solidFill>
                <a:latin typeface="Arial"/>
                <a:ea typeface="Arial"/>
              </a:rPr>
              <a:t>Ходьба после дневного сна по </a:t>
            </a:r>
            <a:r>
              <a:rPr b="1" lang="ru-RU" sz="2800" spc="-1" strike="noStrike" u="sng">
                <a:solidFill>
                  <a:srgbClr val="00467a"/>
                </a:solidFill>
                <a:uFillTx/>
                <a:latin typeface="Arial"/>
                <a:ea typeface="Arial"/>
              </a:rPr>
              <a:t>корригирующим дорожкам «Здоровья»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8" name="Picture 4" descr="C:\Documents and Settings\Djoni\Рабочий стол\Консулятации родители-педагоги\род собр.2млад.груп 2017\Новая папка\фото1238.jpg"/>
          <p:cNvPicPr/>
          <p:nvPr/>
        </p:nvPicPr>
        <p:blipFill>
          <a:blip r:embed="rId1"/>
          <a:stretch/>
        </p:blipFill>
        <p:spPr>
          <a:xfrm>
            <a:off x="625320" y="1428840"/>
            <a:ext cx="3643560" cy="485784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5" descr="C:\Documents and Settings\Djoni\Рабочий стол\Консулятации родители-педагоги\род собр.2млад.груп 2017\Новая папка\фото1242.jpg"/>
          <p:cNvPicPr/>
          <p:nvPr/>
        </p:nvPicPr>
        <p:blipFill>
          <a:blip r:embed="rId2"/>
          <a:stretch/>
        </p:blipFill>
        <p:spPr>
          <a:xfrm>
            <a:off x="4857840" y="1428840"/>
            <a:ext cx="36576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467a"/>
                </a:solidFill>
                <a:uFillTx/>
                <a:latin typeface="Arial"/>
                <a:ea typeface="Arial"/>
              </a:rPr>
              <a:t>Специальные занятия </a:t>
            </a:r>
            <a:r>
              <a:rPr b="1" lang="ru-RU" sz="2800" spc="-1" strike="noStrike">
                <a:solidFill>
                  <a:srgbClr val="00467a"/>
                </a:solidFill>
                <a:latin typeface="Arial"/>
                <a:ea typeface="Arial"/>
              </a:rPr>
              <a:t>по коррекции и профилактики плоскостопия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1" name="Рисунок 6" descr="C:\Documents and Settings\Djoni\Рабочий стол\Oc9F0FIsFQc.jpg"/>
          <p:cNvPicPr/>
          <p:nvPr/>
        </p:nvPicPr>
        <p:blipFill>
          <a:blip r:embed="rId1"/>
          <a:stretch/>
        </p:blipFill>
        <p:spPr>
          <a:xfrm>
            <a:off x="428760" y="1428840"/>
            <a:ext cx="3252600" cy="2143080"/>
          </a:xfrm>
          <a:prstGeom prst="rect">
            <a:avLst/>
          </a:prstGeom>
          <a:ln w="0">
            <a:noFill/>
          </a:ln>
        </p:spPr>
      </p:pic>
      <p:pic>
        <p:nvPicPr>
          <p:cNvPr id="632" name="Рисунок 7" descr="C:\Documents and Settings\Djoni\Рабочий стол\_wkUE2gk7RY (1).jpg"/>
          <p:cNvPicPr/>
          <p:nvPr/>
        </p:nvPicPr>
        <p:blipFill>
          <a:blip r:embed="rId2"/>
          <a:stretch/>
        </p:blipFill>
        <p:spPr>
          <a:xfrm>
            <a:off x="5357880" y="1428840"/>
            <a:ext cx="3181320" cy="2143080"/>
          </a:xfrm>
          <a:prstGeom prst="rect">
            <a:avLst/>
          </a:prstGeom>
          <a:ln w="0">
            <a:noFill/>
          </a:ln>
        </p:spPr>
      </p:pic>
      <p:pic>
        <p:nvPicPr>
          <p:cNvPr id="633" name="Рисунок 8" descr="C:\Documents and Settings\Djoni\Рабочий стол\q8w-x8LyO1Y.jpg"/>
          <p:cNvPicPr/>
          <p:nvPr/>
        </p:nvPicPr>
        <p:blipFill>
          <a:blip r:embed="rId3"/>
          <a:stretch/>
        </p:blipFill>
        <p:spPr>
          <a:xfrm>
            <a:off x="2786040" y="4000680"/>
            <a:ext cx="339552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467a"/>
                </a:solidFill>
                <a:latin typeface="Arial"/>
                <a:ea typeface="Arial"/>
              </a:rPr>
              <a:t>Диагностика плоскостопия в домашних условиях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680" y="1526760"/>
            <a:ext cx="555624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ебенка 3 лет (но не ранее) можно провести начальную диагностику патологии, используя самый распространенный метод - </a:t>
            </a:r>
            <a:r>
              <a:rPr b="1" lang="ru-RU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лантографию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тпечаток стопы). Это несложно сделать и в домашних условиях. На пол кладут чистый лист бумаги, а малыш становится на него обеими ногами. Лучше, чтобы подошвы были прокрашены яркой краской, тогда на бумаге останется их четкий отпечаток. Туловище при этом нужно держать прямо, ноги вместе. Контур стоп в таком положении обводится карандашом. Затем перпендикулярно линии контура проводится прямая, пересекающая всю узкую часть стопы. Сравните полученное с рисунком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6" name="Рисунок 4" descr="Определение степени плоскостопия у детей старше 6-7 лет по плантограмме"/>
          <p:cNvPicPr/>
          <p:nvPr/>
        </p:nvPicPr>
        <p:blipFill>
          <a:blip r:embed="rId1"/>
          <a:stretch/>
        </p:blipFill>
        <p:spPr>
          <a:xfrm>
            <a:off x="6143760" y="1571760"/>
            <a:ext cx="26431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78688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67a"/>
                </a:solidFill>
                <a:latin typeface="Arial"/>
                <a:ea typeface="Arial"/>
              </a:rPr>
              <a:t>Полезный комплекс упражнений для профилактики плоскостопия у малышей и младших школьников: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7120"/>
            <a:ext cx="8504280" cy="50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Упражнение № 1: положите в тазик с водой гладкие камушки. Пусть кроха поиграет с ними ножками, перебирает пальчики, а в конце – немного походит по ним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Упражнение № 2: сидя на стуле, катаем палку, бутылку с водой, скалку ступней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Упражнение № 3: разложите на полу толстую веревку. Пусть кроха походит по такой «змее»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Упражнение № 4: перебирание пальцами ножек разнообразные игрушки в т.ч. конструктор, кубики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Упражнение № 5: осторожно подпрыгиваем на пальчиках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Упражнение № 6: сидя на стуле, подтягиваем к себе коврик пальцами ножек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Упражнение № 7: захватываем ножками карандаш или ручку, пытаемся что-то нарисовать в воздухе или листе бумаги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Упражнение № 8: катание мяча поочередно одной и другой ногой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Упражнение № 9: ходьба и бег в летнее время по тёплой мягкой земле, траве, песочку и камешкам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2876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467a"/>
                </a:solidFill>
                <a:latin typeface="Arial"/>
                <a:ea typeface="Arial"/>
              </a:rPr>
              <a:t>Будьте здоровы!!!</a:t>
            </a:r>
            <a:endParaRPr b="0" lang="en-US" sz="54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467a"/>
                </a:solidFill>
                <a:latin typeface="Georgia"/>
              </a:rPr>
              <a:t>Плоскостопие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амое распространенное заболевание опорно-двигательной системы, при котором происходит деформация свода  стопы, приводящая к его уплощению. Другими словами, стопа становится плоской, постепенно утрачивая естественный изгиб своей внутренней поверхности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67a"/>
                </a:solidFill>
                <a:latin typeface="Times New Roman"/>
                <a:ea typeface="Times New Roman"/>
              </a:rPr>
              <a:t>По степени запущенности заболевания различают: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0" y="1357200"/>
            <a:ext cx="5199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тепени – слабовыраженное, скорее напоминает косметический дефект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степени – умеренно выраженное, заметное невооруженным глазом. Сопровождается несильными болями в голеностопе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степени – выраженное. Происходит полная деформация стопы, возникают сильные боли в ногах, заметно изменяется походка. На этой стадии заболевание уже довольно сложно вылечить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2" name="Picture 3" descr="C:\Documents and Settings\Djoni\Рабочий стол\Определить-наличие-плоскостопия-можно-даже-самостоятельно.jpg"/>
          <p:cNvPicPr/>
          <p:nvPr/>
        </p:nvPicPr>
        <p:blipFill>
          <a:blip r:embed="rId1"/>
          <a:stretch/>
        </p:blipFill>
        <p:spPr>
          <a:xfrm>
            <a:off x="5072040" y="1500120"/>
            <a:ext cx="371952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Text Box 4"/>
          <p:cNvSpPr/>
          <p:nvPr/>
        </p:nvSpPr>
        <p:spPr>
          <a:xfrm>
            <a:off x="1143000" y="0"/>
            <a:ext cx="757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467a"/>
                </a:solidFill>
                <a:latin typeface="Times New Roman"/>
                <a:ea typeface="Times New Roman"/>
              </a:rPr>
              <a:t>Основные причины плоскостопия у дете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Прямоугольник 3"/>
          <p:cNvSpPr/>
          <p:nvPr/>
        </p:nvSpPr>
        <p:spPr>
          <a:xfrm>
            <a:off x="357120" y="1428840"/>
            <a:ext cx="84297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рожденный дефек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еренесенная травма, после которой произошла деформация свода стоп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ЦП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ошение неправильной или неудобной обуви, а также обуви уже бывшей в употребле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еправильное питание, недостаток фосфора и кальция в рационе ребенка, а также витамина 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низкая двигательная активность, отсутствие регулярных физических нагруз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опасно поднятие тяжестей. Это способствует неравномерному распределению массы тела и деформации сто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4"/>
          <p:cNvSpPr/>
          <p:nvPr/>
        </p:nvSpPr>
        <p:spPr>
          <a:xfrm>
            <a:off x="536400" y="428760"/>
            <a:ext cx="860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ПРИЗНАКИ ПЛОСКОСТОП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5"/>
          <p:cNvSpPr/>
          <p:nvPr/>
        </p:nvSpPr>
        <p:spPr>
          <a:xfrm>
            <a:off x="642960" y="1357200"/>
            <a:ext cx="7796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оли в стопах и голенях, особенно после долгой ходьбы или каких-то физических нагруз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явление отечности в нижней части ног, которое иногда доходит до коле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бувь ребенка стоптана, а подошва стерта с внутренней сторо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ебенок начинает косолапить, походка становится несколько своеобраз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4"/>
          <p:cNvSpPr/>
          <p:nvPr/>
        </p:nvSpPr>
        <p:spPr>
          <a:xfrm>
            <a:off x="358920" y="357120"/>
            <a:ext cx="87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ПОСЛЕДСТВИЯ ПЛОСКОСТОП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5"/>
          <p:cNvSpPr/>
          <p:nvPr/>
        </p:nvSpPr>
        <p:spPr>
          <a:xfrm>
            <a:off x="465840" y="1714680"/>
            <a:ext cx="8481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* Некрасивая, раскачивающаяся поход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* Искривление позвоночн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* Частые головные бо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* Развитие артроза (деформация коленей и голеней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* Быстрая утомляем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* Раздражительность, нарушение работы нервной сист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 Box 4"/>
          <p:cNvSpPr/>
          <p:nvPr/>
        </p:nvSpPr>
        <p:spPr>
          <a:xfrm>
            <a:off x="179280" y="42876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ПРОФИЛАКТИКА ПЛОСКОСТОП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5"/>
          <p:cNvSpPr/>
          <p:nvPr/>
        </p:nvSpPr>
        <p:spPr>
          <a:xfrm>
            <a:off x="571680" y="1643040"/>
            <a:ext cx="8286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Частое хождение босиком по неровным поверхностям;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авильный рацион пит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ошение рациональной обув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граничение нагрузки на нижние конеч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оспитание правильной поход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ысокая двигательная актив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омплекс упражнений для профилактики плоскостоп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Массаж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3" name="Picture 2" descr="C:\Documents and Settings\Djoni\Рабочий стол\1330752886_vniman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85480" y="500040"/>
            <a:ext cx="842940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67a"/>
                </a:solidFill>
                <a:latin typeface="Arial"/>
                <a:ea typeface="Arial"/>
              </a:rPr>
              <a:t>В нашем детском саду проводятся такие мероприятия для профилактики плоскостопия, как </a:t>
            </a:r>
            <a:br>
              <a:rPr sz="2400"/>
            </a:br>
            <a:r>
              <a:rPr b="1" lang="ru-RU" sz="2400" spc="-1" strike="noStrike" u="sng">
                <a:solidFill>
                  <a:srgbClr val="00467a"/>
                </a:solidFill>
                <a:uFillTx/>
                <a:latin typeface="Arial"/>
                <a:ea typeface="Arial"/>
              </a:rPr>
              <a:t>гимнастика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5" name="Picture 5" descr="https://pp.userapi.com/c837637/v837637857/34ed0/uQhKIRzsmLE.jpg"/>
          <p:cNvPicPr/>
          <p:nvPr/>
        </p:nvPicPr>
        <p:blipFill>
          <a:blip r:embed="rId1"/>
          <a:stretch/>
        </p:blipFill>
        <p:spPr>
          <a:xfrm>
            <a:off x="500040" y="164304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7" descr="https://pp.userapi.com/c837637/v837637857/34ec7/LyietjuaC9s.jpg"/>
          <p:cNvPicPr/>
          <p:nvPr/>
        </p:nvPicPr>
        <p:blipFill>
          <a:blip r:embed="rId2"/>
          <a:stretch/>
        </p:blipFill>
        <p:spPr>
          <a:xfrm>
            <a:off x="4929120" y="3268800"/>
            <a:ext cx="3727440" cy="27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11:44:06Z</dcterms:created>
  <dc:creator>Пользователь</dc:creator>
  <dc:description/>
  <dc:language>en-US</dc:language>
  <cp:lastModifiedBy>админ</cp:lastModifiedBy>
  <dcterms:modified xsi:type="dcterms:W3CDTF">2017-12-17T12:26:05Z</dcterms:modified>
  <cp:revision>15</cp:revision>
  <dc:subject/>
  <dc:title>Слайд 1</dc:title>
</cp:coreProperties>
</file>