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784-1F76-4632-85DC-69FD2CDD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569-38A6-4C64-BDCD-8C999FF3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EC5-FA4A-4949-AACE-39AA2559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50E-BF04-4334-A307-3D5A93B3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829-2812-45E2-90CD-9D70812D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C00-F26B-4DF8-AE19-359200CE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052-FAED-46F7-9169-A96B9E9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ACD-9142-4558-BD8D-F303AE3C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EDA-D433-4F03-A788-98E589AA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0AA-ECF6-4EBA-99C6-F6CAAAF8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A33-BD41-4853-B486-03535812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1DC-9539-4C45-9E92-4B61E253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0FAB-98E5-4DC2-9938-73E9350320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1438200" y="603360"/>
            <a:ext cx="6168960" cy="3139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600200" y="4191120"/>
            <a:ext cx="738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рьянова Ольга Александ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ассный руководитель 1 «А» и 3 «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998640" y="196920"/>
            <a:ext cx="815328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ы родительских собр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рание – бес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рание диску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глый 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рание – конференц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сс-конферен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рание-семинар (семинар-практику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рание организационно - деятельностная 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ая мастер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рание-конку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рание-презент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ный журн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чер вопросов  и от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ьский рин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к-ш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ти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ф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рание в письм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ьское собрание на д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бинированная фор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254240" y="457200"/>
            <a:ext cx="73562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брание – бесе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из вариантов толкования слова «беседа» - это «официальный разговор». Именно так и следует воспринимать родительское собрание в форме беседы. Происходит официальный разговор учителя и родителей на данную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да – это традиционная форма проведения родительских собраний. Беседа имеет огромное значение в воспитательном плане. Беседу лучше всего использовать в профилактических целях, предупреждая возможные конфликтные ситуации. Хороша беседа для налаживания взаимоотношений между родителями и детьми и между родителями и педагогами. Собрание – беседа помогает создать доверительную атмосферу, выявить проблемные точки взаимоотношений. Структура такого собрания, как правило, состоит из краткого выступления учителя, диалога учителя и родителей и 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685800" y="117360"/>
            <a:ext cx="84582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брание диску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кование слова «дискуссия» - обсуждение какого-нибудь вопроса на собрании или в беседе. Таким образом, дискуссия – это часть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ую форму проведения родительского собрания можно использовать, если возникает необходимость обсудить какой-либо спорный вопрос, какую-либо спорную проблему воспитания и образования детей.  В этом случае сокращается выступление учителя на собрании, а большая часть времени отводится на обсуждение и анализ разных точек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ние – дискуссия позволяет родителям участвовать в обсуждении важнейших проблем воспитания и образования детей, способствуя формированию умения анализировать проблему с разных точек зрения. Дискуссия начинается после вступительного слова учителя или другого специалиста, в котором обозначается обсуждаемая тема. Как правило, после окончания дискуссии заслушивают мнение экспертов для того, чтобы проанализировать высказанные в процессе дискуссии разные точки зрения, и только затем подводит итоги собр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861840" y="380880"/>
            <a:ext cx="77486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брание – конфере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ние  - конференция – это расширенное родительское собрание. Конференция проводится с участием представителей различных организаций (детская поликлиника, комиссия по делам несовершеннолетних, консультативные психологические центры, ГИБДД и т.п.), интересующих родителей, администрации школы, психологов, социальных педагогов. Родители имеют возможность услышать компетентные ответы из уст профессион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ью собрания-конференции является то, что она принимает определённые решения и может определять комплекс мероприятий по выполнению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одительских собраниях-конференциях чаще всего обсуждаются проблемы общества, активными членами которого станут учащие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371600" y="117936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брание-презен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, или публичное представление чего-либо нового, недавно созданного с необычным опытом семейного воспитания, с нетрадиционными методами обучения, с новыми методами оздоровления, вновь созданными печатными изданиями, учебными пособиями и друг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066680" y="1319040"/>
            <a:ext cx="66294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сти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ьское собрание в форме гостиной – достаточно интересная форма работы с родительским коллективом, которые хорошо сплачивает родителей. Это собрание-беседа с включением поэзии, музыки, которые создают атмосферу праздника. Поэтические и музыкальные произведения подбираются таким образом, чтобы они помогали в поиске ответов на вопросы, которые перед родителями ставит и собственный ребёнок. Гостиные могут  проводиться 2-3 раза в 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219320" y="1447920"/>
            <a:ext cx="67053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ф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ьское собрание, проводимое в форме кафе, очень близко по форме к гостиной. Только в оформлении такого собрания, помимо звучащей музыки, будут дымящийся чай в чашках, конфеты, фрукты в вазах, может быть, блюда, предложенные родителями на дегустацию. (Окончание года или начальной школ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295280" y="533520"/>
            <a:ext cx="6782040" cy="54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брание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ьское собрание в письменной форме проводится всё чаще и чаще. Это очень удобная форма проведения собрания. Я направляют родителям документы, рекомендации, правила, другую информацию (Школьный портал, Вибер), а родители оценивают её и вносят свои предложен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ьское собрание в письменной форме -это очень удобная форма проведения собрания. Я направляю родителям документы, рекомендации, правила, другую информацию, а родители оценивают её и вносят свои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бинированная форма.(беседа-презент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ы и методы работы с родителями должны быть направлены на повышение культуры родителей, на укрепление взаимодействия школы и семь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808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ля большей части детей начало обучения в школе во многих отношениях представляет собой  стрессовую ситуацию, так как ведёт к кардинальным изменениям в их жизни. Школа предъявляет новый, усложненный круг требований к психической деятельности: необходимость длительно концентрировать внимание, способность к смысловому запоминанию, умение руководить эмоциями, желаниями и интересами, подчинять их школьной дисципли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ереход от условий воспитания в семье и  дошкольных учреждениях к качественно иной атмосфере школьного обучения, складывающейся из совокупности умственных, эмоциональных  и физических нагрузок, предъявляет новые, более сложные требования к личности ребенка и его интеллектуальным возможност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олько совместно  с родителями можно результативно преодолеть возникающие  трудности . В этот момент именно родительское собрание способно стать отправной точкой для выстраивания партнерских отношений в достижении главных целей образования: обучение и воспитание дет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321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032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4724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1066680" y="152280"/>
            <a:ext cx="78487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ункции родительского соб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ую  (просвещение родителей по организации учеб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ветительскую ( возможен обмен опытом  между родителя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ую  ( знакомство с образовательной программой, её ресурсами, методики выполнения дом. заданий, правильность ведения тетра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онная  ( диалог учителя и родителей при разрешении индивидуальных затрудн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ческая  ( предупреждение ожидаемых  и предсказуемых трудностей семейного воспитания , связанных с кризисом взросления детей, снижения учебной мотивации, проблемами  в общении, здоровьем де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ционная (координация и регулирование  действий всех участников образовательного проц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523880" y="685800"/>
            <a:ext cx="731520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ы родительских собраний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комительное собрание (ввод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рудности адаптационного периода первоклассников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начение эмоций  для формирования положительного взаимодействия  ребёнка с окружающим  миром. Режим первоклассника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одителям о внимании и внимательности. Правила выполнения разных видов письменных рабо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дведение  итогов адаптационного периода. Правила  безопасности жизни ребён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ерелистывая страницы учебного года» Итоги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</dc:creator>
  <dc:description/>
  <dc:language>en-US</dc:language>
  <cp:lastModifiedBy>user</cp:lastModifiedBy>
  <dcterms:modified xsi:type="dcterms:W3CDTF">2017-11-22T07:43:52Z</dcterms:modified>
  <cp:revision>30</cp:revision>
  <dc:subject/>
  <dc:title>Интерактивные  методы обучения</dc:title>
</cp:coreProperties>
</file>