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0F7-B6E5-418C-8BCC-CC13082F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ED4-67F6-4A5E-9DA6-BD06F022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A83-0591-45F7-AB9C-34A9D011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90D-A6B7-418D-806A-BAA02E98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57A-BEDB-4B72-A73D-F6928241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386-A469-40C3-A8D5-53A42D90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AB34-736E-451D-9E93-D4505E77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05D-FA81-485B-9105-68436FE5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79F-2C92-42D8-99CB-4A08333E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511-E0D6-4135-965A-B81A6E37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381-B184-47EE-A523-AB942300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07C-429E-4B37-9A8D-7172AB53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CA69-C9C5-4A0B-9FE3-BBB3735B9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Franklin Gothic Medium"/>
              </a:rPr>
              <a:t>Жизнь  и творчество поэта Велимира Хлебникова</a:t>
            </a:r>
            <a:br>
              <a:rPr sz="5400"/>
            </a:br>
            <a:r>
              <a:rPr b="1" lang="ru-RU" sz="3600" spc="-1" strike="noStrike">
                <a:solidFill>
                  <a:srgbClr val="0070c0"/>
                </a:solidFill>
                <a:latin typeface="Franklin Gothic Medium"/>
              </a:rPr>
              <a:t>«Астрахань - один из ключей к Хлебникову» (Д.П. Святополк-Мирски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44193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зентация выполнена ученицей 7 А класса МБОУ «СОШ №2 МО «Ахтубинский район» Мироновой Ксе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1e20"/>
                </a:solidFill>
                <a:latin typeface="Arial Unicode MS"/>
                <a:ea typeface="Arial Unicode MS"/>
              </a:rPr>
              <a:t>Учитель: Нуранова А.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52280" y="158760"/>
            <a:ext cx="426744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сной 1919 года поэт навсегда покидает Астрахань. Есть сведения, что в 1922 году, незадолго до смерти, его потянуло на родину. Были выхлопатаны командировка и бесплатный проезд по Волге. Но ему  суждено было умереть на чужбине – в деревне Санталово Новгородской губернии. Здесь им было написано последнее стихотворение «Святче божий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Святче божи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Старец, бородой сед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Ты скажи, кто т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Человек ли ес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Ли бес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И что –имя теб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И холмы отвеча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Человек ли е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Ли бес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И что имя теб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Молчал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Старче божи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чем идеш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И холмы отвеча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чем идеш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И какого ты роду-племен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http://culture.natm.ru/tinybrowser/images/meropriyatiya-v-rayonakh/kresttcy/_full/_8584415.jpg"/>
          <p:cNvPicPr/>
          <p:nvPr/>
        </p:nvPicPr>
        <p:blipFill>
          <a:blip r:embed="rId1"/>
          <a:stretch/>
        </p:blipFill>
        <p:spPr>
          <a:xfrm>
            <a:off x="4419720" y="457200"/>
            <a:ext cx="44193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380880" y="380880"/>
            <a:ext cx="403884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рахань увековечила память об известном поэте. Так, открыт Дом-музей Велимира Хлебникова, появилась улица его имени. Много мест в городе, связанных с его именем и родом: фамильный склеп Хлебниковых в Астрахани ; двухэтажный деревянный дом по улице Шаумяна,20, куда  в конце 1912 года, Владимир Алексеевич Хлебников (отец поэта) переезжает со всей семьёй после 30-летнего отрыва от Астрахани, сюда же в ноябре 1912 года в гости к родителям приезжает Велимир; здание драмтеатра на бывшей Московской улице (ныне Советская, 28), где в сентябре 1918 года побывал поэт Велимир Хлебников ; бывший дом Полякова (ныне ул. Свердлова, 53), где родители поэта проживали с 1914 по 1931 год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" descr="http://astrakult.ru/wp-content/uploads/2016/01/MG_2803-e1453292173521.jpg"/>
          <p:cNvPicPr/>
          <p:nvPr/>
        </p:nvPicPr>
        <p:blipFill>
          <a:blip r:embed="rId1"/>
          <a:stretch/>
        </p:blipFill>
        <p:spPr>
          <a:xfrm>
            <a:off x="4572000" y="609480"/>
            <a:ext cx="4343400" cy="53341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4648320" y="61552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Музей Велимира Хлебни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52280" y="58680"/>
            <a:ext cx="4648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ственный в мире Дом-музей Велимира Хлебникова мог бы поспорить с лотосами, осетрами и кремлем за звание главного символа и достопримечательности Астрахани. Пожалуй, не только из-за своего культурного значения, но и из-за того удивительного духа творчества, которое по-прежнему царит здесь. Погружение в особый мир поэта начинается у самой двери – высокой, старинной, узорчатой. Музейное пространство делится на две части: мемориальную и выставочные залы. Мраморная лестница с коваными перилами ведёт в привычную, будничную жизнь, где находятся обычные жилые квартиры. Посетители музея ходят по паркету из темного дуба, по которому в задумчивости мог вышагивать поэт. В поразительных интерьерах с изразцовыми голландскими печами и лепниной на потол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http://astrakult.ru/wp-content/uploads/2016/07/DAV_7653-e1467358625748.jpg"/>
          <p:cNvPicPr/>
          <p:nvPr/>
        </p:nvPicPr>
        <p:blipFill>
          <a:blip r:embed="rId1"/>
          <a:stretch/>
        </p:blipFill>
        <p:spPr>
          <a:xfrm>
            <a:off x="4800600" y="152280"/>
            <a:ext cx="4114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0" y="352800"/>
            <a:ext cx="48769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зее находится более 3 тысяч экспонатов – причём здесь собрано огромное количество вещей, помнящих Велимира: его ручка и карандаш, солдатский сундучок, галстук, подаренный Маяковским, прижизненные издания и автограф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1994 года Май Митурич- Хлебников приносит в дар Астрахани фамильную («хлебниковскую») коллекцию, долгие годы бережно хранимую его родителями, Верой Хлебниковой и Петром Митуричем, а после них- им самим. В эту поистине уникальную коллекцию вошли: личные вещи поэта, его прижизненные издания, антикварные книги, альманахи, журналы, афиши 10-20- х годов, семейный альбом фотографий, альбом открыток Веры и Велимира, фамильная библиотека, сохранившая на своих страницах автографы членов семьи, литературный архив Веры Хлебниковой, подлинные рисунки ее братьев- Велимира и Александра, фамильные письма и документы, и многое другое. Эта коллекция, представляющая собой исключительную художественную и научную ценность, и легла в основу новой экспозиции музе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Дом-музей Велимира Хлебникова, галстук Маяковского"/>
          <p:cNvPicPr/>
          <p:nvPr/>
        </p:nvPicPr>
        <p:blipFill>
          <a:blip r:embed="rId1"/>
          <a:stretch/>
        </p:blipFill>
        <p:spPr>
          <a:xfrm>
            <a:off x="4952880" y="228600"/>
            <a:ext cx="3962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28600" y="312120"/>
            <a:ext cx="4267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ую ценность представляют переданные книги с астраханской тематикой, такие как: «Достопримечательности города Астрахани и ее ближайшей окрестности».-1872 г., «Отчет Петровского общества исследователей Астраханского края за 1895 год».-1897 г., «Астрахань в старые годы»-1907 г. и другие. Может быть эти книги читал и Велимир Хлебников. Так, при написании рассказа «Есир» поэт пользовался домашней библиотекой. Исследователями обнаружено 20 заимствований из «Сборника трудов Петровского общества (1892 г.) и рассказа В. Хлебникова «Есир» («Творения», М., 1986 г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http://to-world-travel.ru/img/2015/042600/2632537"/>
          <p:cNvPicPr/>
          <p:nvPr/>
        </p:nvPicPr>
        <p:blipFill>
          <a:blip r:embed="rId1"/>
          <a:stretch/>
        </p:blipFill>
        <p:spPr>
          <a:xfrm>
            <a:off x="4648320" y="304920"/>
            <a:ext cx="4267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152280" y="304920"/>
            <a:ext cx="3124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вклад в изучение жизни и творчества поэта внес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Александрович Мамае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ботавший учителем русского языка и литературы. С 1994 года -заведующий Домом-музеем Велимира Хлебникова в Астрахани, автор исследований о Хлебникове, книг о Хлебнико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pyb09X_0jyc"/>
          <p:cNvPicPr/>
          <p:nvPr/>
        </p:nvPicPr>
        <p:blipFill>
          <a:blip r:embed="rId1"/>
          <a:stretch/>
        </p:blipFill>
        <p:spPr>
          <a:xfrm>
            <a:off x="3352680" y="228600"/>
            <a:ext cx="5562720" cy="380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www.astrakhan.ru/gallery/image.php?photo_id=2022&amp;w=500"/>
          <p:cNvPicPr/>
          <p:nvPr/>
        </p:nvPicPr>
        <p:blipFill>
          <a:blip r:embed="rId2"/>
          <a:stretch/>
        </p:blipFill>
        <p:spPr>
          <a:xfrm>
            <a:off x="3427560" y="4241880"/>
            <a:ext cx="2076480" cy="236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domvelimira.ru/data/books/museum_editions/mamaev_a_a_v_hlebnikove/1246_mainfoto_04.jpg"/>
          <p:cNvPicPr/>
          <p:nvPr/>
        </p:nvPicPr>
        <p:blipFill>
          <a:blip r:embed="rId3"/>
          <a:stretch/>
        </p:blipFill>
        <p:spPr>
          <a:xfrm>
            <a:off x="6489720" y="4124160"/>
            <a:ext cx="19051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380880" y="99360"/>
            <a:ext cx="411480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раханская поэтесса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нель Мордови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ла стихотворение «Музей Велимира Хлебникова», посвятив его А.А. Мамаеву, в котором есть такие стро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возь все режимы и «прижимы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возь глупость, зависть, слепо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ьется только одерж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оею верою в мечт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в этот дом старинной кл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ходят люди, словно в храм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ые здесь царят поряд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астные иным мир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есь Дух Поэта своев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ивет - он дышит и звуч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есь так душе светло и бо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 токи сердца горя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http://pam30.ru/lib/u/n/00/13/1_Ninel_Mordovina__1927-2001_.jpg"/>
          <p:cNvPicPr/>
          <p:nvPr/>
        </p:nvPicPr>
        <p:blipFill>
          <a:blip r:embed="rId1"/>
          <a:stretch/>
        </p:blipFill>
        <p:spPr>
          <a:xfrm>
            <a:off x="4343400" y="304920"/>
            <a:ext cx="4419720" cy="56386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 flipH="1">
            <a:off x="4419720" y="6095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нель Мордо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80880" y="246240"/>
            <a:ext cx="3962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астраханской тематики, летом 1913 года Хлебников занимается словотворчеством: театральные термины иностранного происхождения он заменяет русскими: автор- словач, литература-письмеса, комедия-смеярышня, хор-певава, зритель-созерцаль и др. Причем, русские слова, предложенные Хлебниковым, взамен иностранных, выразительнее, эмоциональнее последних. Его «Пролог к опере «Победа над солнцем», почти полностью состоящий из неологизмов, читается легко и свободно, хотя многие из них Хлебников не разъясня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4876920" y="533520"/>
            <a:ext cx="37335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Хлебников всю жизнь сочинял новые слова, так как рамки современного языка стесняли его. Он испытывал потребность обновить, улучшить слова. Им создано около 16.000 новых слов – неологизмов, окказионализмов                       (В. Маяковским- 2.000). Конечно, не все из них вошли в обиходную речь (поэт и не ставил такой задачи), но они вошли в его Творение- «огромный всероссийский требник - образник, из которого столетия и столетия будут черпать все, кому не лен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28600" y="220680"/>
            <a:ext cx="861048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над словом, звуками становилась самоцелью, тогда как о смысле стихов совершенно забывалось. Взять, например, стихотворение В.Хлебникова “Перевертень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           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Кони, топот, 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                   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Но не речь, а черен 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                  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Идем молод, долом ме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                 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Чин зван мечем навзни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                 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Город чем меч доло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              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Пал а норов худ и дух ворона лап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мысла в этом стихотворении никакого, но оно замечательно тем, что каждая строчка читается и слева направо, и справа нале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http://www.yuri-titov.com/aest/galerie/zeitunan/risunki/06/kniga.gif"/>
          <p:cNvPicPr/>
          <p:nvPr/>
        </p:nvPicPr>
        <p:blipFill>
          <a:blip r:embed="rId1"/>
          <a:stretch/>
        </p:blipFill>
        <p:spPr>
          <a:xfrm>
            <a:off x="838080" y="4191120"/>
            <a:ext cx="784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228600" y="514440"/>
            <a:ext cx="4419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е все современники понимали поэзию В. Хлебник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траурной речи В.Маяковский сказа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Хлебникова любили все знающие его. Но это была любовь здоровых к здоровому, образованнейшему, остроумнейшему поэту. Родных, способных самоотверженно ухаживать за ним, у него не было. Болезнь сделала Хлебникова требовательным. Видя людей, не уделявших ему все свое внимание, Хлебников стал подозрителен. Случайно брошенная даже без отношения к нему резкая фраза раздувалась в непризнание его поэзии, а поэтическое к нему пренебре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имя сохранения правильной литературной перспективы считаю долгом черным по белому напечатать от своего имени и, не сомневаюсь, от имени моих друзей, поэтов Асеева, Бурлюка, Крученных, Каменского, Пастернака, что считали его и считаем одним из наших поэтических учителей и великолепнейшим и честнейшим рыцарем в нашей поэтической борьбе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http://www.skifiabook.ru/netcat_files/141/283/83e8da27be0d0f14f8256e1276be22ac"/>
          <p:cNvPicPr/>
          <p:nvPr/>
        </p:nvPicPr>
        <p:blipFill>
          <a:blip r:embed="rId1"/>
          <a:stretch/>
        </p:blipFill>
        <p:spPr>
          <a:xfrm>
            <a:off x="4572000" y="609480"/>
            <a:ext cx="4267080" cy="48769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4648320" y="56386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Кручёных, Д.Бурлюк, В.Маяковский, Н.Бурлюк, Б.Ливши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5791320" y="4572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486400" y="0"/>
            <a:ext cx="36576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Виктор (Велими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Владимирович Хлеб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Century Schoolbook"/>
              </a:rPr>
              <a:t>(1885 – 192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867280" y="3352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 flipV="1" rot="10800000">
            <a:off x="5943240" y="3330000"/>
            <a:ext cx="297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Calibri"/>
              </a:rPr>
              <a:t>Астрахань- один из ключей к Хлебникову</a:t>
            </a:r>
            <a:r>
              <a:rPr b="1" lang="ru-RU" sz="2800" spc="-1" strike="noStrike">
                <a:solidFill>
                  <a:srgbClr val="19194d"/>
                </a:solidFill>
                <a:latin typeface="Calibri"/>
                <a:ea typeface="Calibri"/>
              </a:rPr>
              <a:t>»</a:t>
            </a: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Calibri"/>
              </a:rPr>
              <a:t> (Д.П. Святополк-Мир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Фото Хлебникова Велимира 1913 год"/>
          <p:cNvPicPr/>
          <p:nvPr/>
        </p:nvPicPr>
        <p:blipFill>
          <a:blip r:embed="rId1"/>
          <a:stretch/>
        </p:blipFill>
        <p:spPr>
          <a:xfrm>
            <a:off x="533520" y="228600"/>
            <a:ext cx="4800600" cy="6095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28600" y="262800"/>
            <a:ext cx="4267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тории литературы немного писателей с такой сложной судьбой, как Хлебников. Его стихи увлекали и отталкивали, его проза и драматургия ставили перед читателями вопросы, ориентированные на будущее и потому современникам часто непонятные. Легенды и литературные анекдоты, связанные с ним, еще более мешали пониманию его творчества. Из тридцати семи лет его жизни семнадцать были отданы поразительной по интеллектуальному напряжению литератур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Велимира Хлебникова воплотили подлинную любовь поэта к России, ярко запечатлели атмосферу войн и революций. История русской и советской литературы немыслима без того, что он внес в русскую поэзию XX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http://www.ote4estvo.ru/uploads/posts/2015-07/1435857248_img14.jpg"/>
          <p:cNvPicPr/>
          <p:nvPr/>
        </p:nvPicPr>
        <p:blipFill>
          <a:blip r:embed="rId1"/>
          <a:stretch/>
        </p:blipFill>
        <p:spPr>
          <a:xfrm>
            <a:off x="4648320" y="457200"/>
            <a:ext cx="4267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762120" y="60948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гда  умирают кони – дыш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гда умирают травы – сохн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гда умирают солнца – они гасн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гда умирают люди – поют пес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В. Хлебни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http://img-fotki.yandex.ru/get/6512/48059524.469/0_bc110_1edf6ec7_orig.jpg"/>
          <p:cNvPicPr/>
          <p:nvPr/>
        </p:nvPicPr>
        <p:blipFill>
          <a:blip r:embed="rId2"/>
          <a:stretch/>
        </p:blipFill>
        <p:spPr>
          <a:xfrm>
            <a:off x="1047600" y="2514600"/>
            <a:ext cx="70297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обложка"/>
          <p:cNvPicPr/>
          <p:nvPr/>
        </p:nvPicPr>
        <p:blipFill>
          <a:blip r:embed="rId2"/>
          <a:stretch/>
        </p:blipFill>
        <p:spPr>
          <a:xfrm rot="1369200">
            <a:off x="6171840" y="685800"/>
            <a:ext cx="2475000" cy="2701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28600" y="457200"/>
            <a:ext cx="67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бэ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и пелис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ээ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и пелись вз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иэ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 пелись б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э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й пелся обл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зи-гзи-гз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 пелась цеп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к на холсте каких-то соответ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е протяжения жило Лиц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Pa01112"/>
          <p:cNvPicPr/>
          <p:nvPr/>
        </p:nvPicPr>
        <p:blipFill>
          <a:blip r:embed="rId3"/>
          <a:stretch/>
        </p:blipFill>
        <p:spPr>
          <a:xfrm>
            <a:off x="2743200" y="3276720"/>
            <a:ext cx="2867040" cy="3190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152280" y="380880"/>
            <a:ext cx="3886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, рассмейтесь, смех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, засмейтесь, смех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Что смеются смех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что смеянствуют смеяльно,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, засмейтесь усмея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, рассмешиц надсмеяльных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мех усмейных смехаче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, иссмейся рассмеяль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мех надсмейных смеяче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мейево, смейе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Усмей, осм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мешики, смеш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меюнчики, смеюн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, рассмейтесь, смех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, засмейтесь, смех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C:\Users\Администратор\Downloads\8191-a74d8943e4b6197b1392097e4f62fb3e.jpg"/>
          <p:cNvPicPr/>
          <p:nvPr/>
        </p:nvPicPr>
        <p:blipFill>
          <a:blip r:embed="rId1"/>
          <a:stretch/>
        </p:blipFill>
        <p:spPr>
          <a:xfrm>
            <a:off x="4419720" y="380880"/>
            <a:ext cx="4267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"/>
          <p:cNvPicPr/>
          <p:nvPr/>
        </p:nvPicPr>
        <p:blipFill>
          <a:blip r:embed="rId2"/>
          <a:stretch/>
        </p:blipFill>
        <p:spPr>
          <a:xfrm>
            <a:off x="304920" y="1905120"/>
            <a:ext cx="4190760" cy="3733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28600" y="15228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В. Хлебников родился 28 октября (9 ноября) 1885 года в главной ставке  Малодербетовского  улуса  Астраханской губернии (ныне село Малые Дербеты, Калмык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80880" y="57150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катерина Николаевна Вербицкая- мать поэ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6"/>
          <p:cNvPicPr/>
          <p:nvPr/>
        </p:nvPicPr>
        <p:blipFill>
          <a:blip r:embed="rId3"/>
          <a:stretch/>
        </p:blipFill>
        <p:spPr>
          <a:xfrm>
            <a:off x="4724280" y="1905120"/>
            <a:ext cx="4011840" cy="3733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5410080" y="5715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ладимир Алексеевич Хлебников- отец поэ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380880" y="3733920"/>
            <a:ext cx="85345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е Хлебниковых  приходилось часто переезжать с места на место: в 1891 году отец семейства был переведён в Волынскую губернию, в 1895- в Симбирскую. В Симбирске, Виктор начал свою учёбу в гимн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98 году семья переехала в Казань, где Виктор поступил в 3-ю казанскую гимназию. Через пять лет он окончил курс гимназии, осенью 1903 года  поступил на математическое отделение физико-математического факультета Казанского универси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7"/>
          <p:cNvPicPr/>
          <p:nvPr/>
        </p:nvPicPr>
        <p:blipFill>
          <a:blip r:embed="rId1"/>
          <a:stretch/>
        </p:blipFill>
        <p:spPr>
          <a:xfrm>
            <a:off x="685800" y="228600"/>
            <a:ext cx="7772400" cy="34322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6"/>
          <p:cNvSpPr/>
          <p:nvPr/>
        </p:nvSpPr>
        <p:spPr>
          <a:xfrm>
            <a:off x="228600" y="380880"/>
            <a:ext cx="54864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 Велимира Хлебникова тесно связана  городом Астрахань. Он сам называл его «городом предков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жили его знаменитые родственники: прадед поэта Иван Матвеевич Хлебников, купец 1-ой гильдии, гласный городской Думы, первый потомственный почётный гражданин Астрахани в роду Хлебниковых; его внук (а Велимиру - двоюродный дядя) - Харлампий Николаевич Хлебников, астраханская знаменитость: рыбопромышленник, судовладелец, действительный статский советник, предводитель Астраханского губернского дворянства; его брат Павел Николаевич - известный астраханский жертвователь, построивший на свои средства каменный двухэтажный приют для девочек и за многие свои благодеяния удостоенный благодарности Императрицы Марии Фёдоровны, вкупе с её фотопортретом в бронзовой рамке;  дед поэта Алексей Иванович Хлебников, воспетый им в "Хаджи-Тархане"и умерший на поклонении в Иерусалиме;  его сын Пётр Алексеевич Хлебников, профессор Медико-хирургической академии в Санкт-Петербурге, автор объёмного труда "Физика Земного Шара"; другой его сын - Владимир Алексеевич Хлебников (отец поэта) - учёный-орнитолог и лесовед, один из основателей и первый директор Астраханского заповедника в дельте Волг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7" descr="http://www.stihi.ru/pics/2014/05/06/1429.jpg"/>
          <p:cNvPicPr/>
          <p:nvPr/>
        </p:nvPicPr>
        <p:blipFill>
          <a:blip r:embed="rId2"/>
          <a:stretch/>
        </p:blipFill>
        <p:spPr>
          <a:xfrm>
            <a:off x="5943600" y="304920"/>
            <a:ext cx="2819520" cy="54864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8"/>
          <p:cNvSpPr/>
          <p:nvPr/>
        </p:nvSpPr>
        <p:spPr>
          <a:xfrm flipH="1" flipV="1" rot="10800000">
            <a:off x="5790240" y="590616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мильный склеп семьи Хлебниковых в Астрах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4"/>
          <p:cNvSpPr/>
          <p:nvPr/>
        </p:nvSpPr>
        <p:spPr>
          <a:xfrm>
            <a:off x="457200" y="402480"/>
            <a:ext cx="43434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нужденный служить по найму, чтобы обеспечить семью, В.А. Хлебников на тридцать с лишним лет оторвался от родного города - Астрахани. Семья Хлебниковых возвратилась в неё лишь в 1912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ть сведения, что Велимир в ней бывал ещё в детстве (о чём свидетельствует семейная фотография, на которой он снят со своим старшим братом), но прочная связь с "городом предков" установилась у него с 1911 года, когда он гостил на Большой Демидовской улице у своего двоюродного брата Бориса Лаврентьевича Хлебникова и встречался с многочисленной астраханской роднё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4" descr="http://xn----9sbdblereaohiofr4b7d.xn--p1ai/biography/image/hlandbrother_big.jpg"/>
          <p:cNvPicPr/>
          <p:nvPr/>
        </p:nvPicPr>
        <p:blipFill>
          <a:blip r:embed="rId2"/>
          <a:stretch/>
        </p:blipFill>
        <p:spPr>
          <a:xfrm>
            <a:off x="4724280" y="457200"/>
            <a:ext cx="4267440" cy="53341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5"/>
          <p:cNvSpPr/>
          <p:nvPr/>
        </p:nvSpPr>
        <p:spPr>
          <a:xfrm>
            <a:off x="4800600" y="594936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то: (слева направо) Витя (Велимир) и Боря Хлебник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228600" y="20160"/>
            <a:ext cx="4495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45"/>
                </a:solidFill>
                <a:latin typeface="Times New Roman"/>
                <a:ea typeface="Calibri"/>
              </a:rPr>
              <a:t>Ни он, ни его родичи не были готовы понять и принять друг друга. Три месяца назад Хлебников был исключён из университета и находился не у дел. О том, что он поэт, родичи узнали из разгромных статей "Астраханского Вестника", где футуристов во главе с Велимиром называли "идиотичами" и "дураковичами". Горечь и обида за брата звучат в письме Шуры Хлебникова, который надеется, что со временем родственники "разберутся и, может быть, полюбят внечеловеческую, но милую душу Вити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http://a4format.ru/index_pic.php?data=photos/4190adf3.jpg&amp;percenta=1.00"/>
          <p:cNvPicPr/>
          <p:nvPr/>
        </p:nvPicPr>
        <p:blipFill>
          <a:blip r:embed="rId2"/>
          <a:stretch/>
        </p:blipFill>
        <p:spPr>
          <a:xfrm>
            <a:off x="4876920" y="38088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0"/>
          <p:cNvSpPr/>
          <p:nvPr/>
        </p:nvSpPr>
        <p:spPr>
          <a:xfrm flipV="1" rot="10800000">
            <a:off x="4800600" y="6042600"/>
            <a:ext cx="39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 Хлебников с братом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Александ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228600" y="281160"/>
            <a:ext cx="41148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оду Астрахани поэт посвятил ряд своих произведений: «Хаджи-Тархан», «Астраханская Джиоконда», «Есир» и другие. В 1911 году поэт приступает к поэме о старой Астрахани"Хаджи-Тархан" - переломной вехе всего своего творчества. Она знаменует его поворот к Азии, Восток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Где Волга прянула стрелою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    На хохот моря молодого,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    Гора Богдо своей чертою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    Темнеет взору рыболова…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    Темнеет степь; вдали хурул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    Чернеет тёмной своей кровлей,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    И город спит, и мир заснул,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    Устав разгулом и торговлей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    Как веет миром и языче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    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т этих дремлющих степе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http://cs10607.vkontakte.ru/u12230531/110281015/x_991ea242.jpg"/>
          <p:cNvPicPr/>
          <p:nvPr/>
        </p:nvPicPr>
        <p:blipFill>
          <a:blip r:embed="rId1"/>
          <a:stretch/>
        </p:blipFill>
        <p:spPr>
          <a:xfrm>
            <a:off x="4419720" y="380880"/>
            <a:ext cx="43434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4495680" y="594360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а Богдо пос. Н. Баскунчак Астраханская область Ахтуб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238680"/>
            <a:ext cx="44956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12 году в Астрахань возвращаются родители Велимира, и в течение шести лет он ежегодно их навещ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следние годы жизни у поэта обострился интерес к "живой" астраханской истории. Зимой 1917-18 гг. он становится очевидцем борьбы за политическую власть в Астрахани: "Это борются казаки и "нехорошие люди" - большаки". Чтобы не допустить казаков к крепости, большевики подожгли два близлежащих квартала. Горел русский гостиный двор, горел магазин братьев Гантшер, самый богатый в Поволжье, горела мужская гимназия, которую блестяще окончил в 15 лет Алексей Хлебников, дед поэта, горела Входоиерусалимская церковь. Это трагическое время Хлебников запечатлел в очерке "Никто не будет отрицать того…"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http://xn----9sbdblereaohiofr4b7d.xn--p1ai/biography/image/churchierus_big.jpg"/>
          <p:cNvPicPr/>
          <p:nvPr/>
        </p:nvPicPr>
        <p:blipFill>
          <a:blip r:embed="rId1"/>
          <a:stretch/>
        </p:blipFill>
        <p:spPr>
          <a:xfrm>
            <a:off x="4724280" y="152280"/>
            <a:ext cx="4267440" cy="6553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7-03-28T17:05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