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F25-F9A0-4212-AB08-2DF5D29E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F52-90A7-4C70-9F3E-39525726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CC8-0956-435C-BF14-AE267A5C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A44-21FE-4DAC-A8C4-3ABD57D7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7D3F-F2E7-4D61-9F7F-5C97F352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63A5-7739-4478-A2AD-30F88AEF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70ED-E34C-4F42-8AF4-E6E4AA6C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3C0A-C8AB-42C1-972C-FE80971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C91E-9F05-4EDB-A7AA-D10134D6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CAE2-B9AF-4200-B954-09BFF77E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4E6-219F-4A8D-A4FD-A64B0AF1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4FE-58A9-4BA2-8524-6DF7D36B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8070-605C-4F4A-AF22-03821555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CE0A-5729-46D6-A53D-35B0185C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7625-8552-4538-9196-12C0D44D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800F-52CF-4996-B1E8-D5ED6A50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6E4B-7A0B-422F-A908-470857EC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8FD-FE94-46B8-B649-7AF229F6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962-4053-4FFC-BF0E-CAED531A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1C2-0921-4069-BFCB-CCA3D327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91E-643C-4F0A-A4DE-B7A1AE74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DDB-064C-4AD2-A8DB-D23B6122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86B-296A-450E-B3C7-18E894D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88C-FC1A-4165-A10E-3C17C3E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A0DE-9295-4068-BBB3-132AE448DE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4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" name="6 Imagen" descr="Dibujo.bmp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3452-6BAA-4D19-9107-80DCF3EEDD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nowbiology.ru/pics/bnf522516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nowbiology.ru/pics/bnf5225162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384120" y="3200400"/>
            <a:ext cx="8454960" cy="2157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55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Информация, получаемая головным мозгом человека от органов чувств, формирует восприятие человеком окружающего мира и самого себ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Вики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4" descr="Картинка 5 из 98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482292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лаза – органы зрения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ждом глазу имеется около 130 миллионов клеточек — палочек, при помощи которых осуществляется черно-белое видение, и 7 миллионов клеток — колбочек, при помощи которых воспринимаются различные цве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глаз"/>
          <p:cNvPicPr/>
          <p:nvPr/>
        </p:nvPicPr>
        <p:blipFill>
          <a:blip r:embed="rId1"/>
          <a:stretch/>
        </p:blipFill>
        <p:spPr>
          <a:xfrm>
            <a:off x="4648320" y="1676520"/>
            <a:ext cx="3641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Ухо- орган слуха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ук измеряется в фонах. Шум листвы достигает силы в 10 фонов, умеренный разговор — 50 фонов. При 150 фонах лопается барабанная перепо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ухо"/>
          <p:cNvPicPr/>
          <p:nvPr/>
        </p:nvPicPr>
        <p:blipFill>
          <a:blip r:embed="rId1"/>
          <a:stretch/>
        </p:blipFill>
        <p:spPr>
          <a:xfrm>
            <a:off x="4572000" y="1600200"/>
            <a:ext cx="40561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с-орган обоня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ахи воспринимаются твоим мозгом, тоже как серии сигналов. Их поставляют в мозг органы обоняния. Где эти органы чувств расположены, всем хорошо известно — в нос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нос"/>
          <p:cNvPicPr/>
          <p:nvPr/>
        </p:nvPicPr>
        <p:blipFill>
          <a:blip r:embed="rId1"/>
          <a:stretch/>
        </p:blipFill>
        <p:spPr>
          <a:xfrm>
            <a:off x="4656240" y="2666880"/>
            <a:ext cx="4213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Язык – орган вкуса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ы вкуса находятся на языке. Ты их не видишь, потому что это всего лишь группы клеток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язык"/>
          <p:cNvPicPr/>
          <p:nvPr/>
        </p:nvPicPr>
        <p:blipFill>
          <a:blip r:embed="rId1"/>
          <a:stretch/>
        </p:blipFill>
        <p:spPr>
          <a:xfrm>
            <a:off x="4648320" y="1577880"/>
            <a:ext cx="410688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ожа – орган осяз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оже находятся органы осязания — рецепторы, которые воспринимают давление, тепло и холод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рука"/>
          <p:cNvPicPr/>
          <p:nvPr/>
        </p:nvPicPr>
        <p:blipFill>
          <a:blip r:embed="rId1"/>
          <a:stretch/>
        </p:blipFill>
        <p:spPr>
          <a:xfrm>
            <a:off x="4648320" y="1600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16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Нервная система постоянно получает сигналы от внешнего мира с помощью специальных датчиков. Они называются органами чув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Их надо бе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0"/>
          <a:ext cx="4386240" cy="4192560"/>
        </p:xfrm>
        <a:graphic>
          <a:graphicData uri="http://schemas.openxmlformats.org/drawingml/2006/table">
            <a:tbl>
              <a:tblPr/>
              <a:tblGrid>
                <a:gridCol w="3738240"/>
                <a:gridCol w="216000"/>
                <a:gridCol w="216000"/>
                <a:gridCol w="216000"/>
              </a:tblGrid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12-17T20:39:0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