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F66-2243-4E78-AD3C-8B040E6E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C0F1-15A7-4A63-8888-EA59E8D4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323D-1B51-4168-90C8-7A50E97D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89C-7653-4F4B-9F49-296FDF81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A06F-D46D-4E80-8037-DE2B4822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C900-0687-48D4-94F0-CCCA3494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5FFB-B341-4312-8214-A59293EE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B2F7-ED08-48B6-AD3C-1536952C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6A2D-1224-4784-A956-0C5A657A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877A-856C-4C9F-8A90-0B4FA0C7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693B-958B-4CD0-A192-7D7E7104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2285-6975-48A4-9A06-52945DA1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6CA6-387F-494C-B4B2-70218D57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71B5-E6DB-40BA-86CB-89E1ED2C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A1B4-E4A8-41AE-8D82-EFEB6135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9BAE-733B-43F6-9AE5-12E3E739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9B68-2F6F-4E50-8D4D-DE24214B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B361-0279-4496-A2DA-26F2474F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EC07-5B5D-4A0F-B126-1FB9C206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B0DA-95FD-4C59-9F40-9BB9EF43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EF2D-9CF0-4DEB-9F0C-6093604D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155D-D770-4D99-8474-46621B35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B8FA-EC2A-49FC-8497-ECA27E2D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6321-CF60-4361-81FD-BEB6E37D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00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3D7D-631F-4B95-AA7C-31436859A1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00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8CAD-CB50-4F39-A3B8-69F48A1123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00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Тема учебного проекта: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«Разнообразие животного мира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ставление проекта учител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р: Борисова Галина Анатольев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 начальных класс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У «СОШ с. Марьино-Лашмино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00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сновополагающий вопрос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92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се л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животные одинаковы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952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00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просы,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правляющие проект 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Когда вы слышите слово «животное», то кого представляе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Какие группы животных вы знае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410080" y="2438280"/>
            <a:ext cx="2819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00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Проблемы самостоятельных исследований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чем человеку знать классы животны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м отличается дикое животное от домашнего животног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аук - это насекомо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нгвин - это птиц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81480" y="2514600"/>
            <a:ext cx="1600200" cy="2362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10280" y="3200400"/>
            <a:ext cx="16002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00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чебные вопрос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каким признакам мы делим всех животных на класс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еда обитания животных разных клас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пи пи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лияние человека на жизнь живот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00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жидаемые результа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учимся работать в коман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учимся пользоваться терминами и определени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учимся распознавать царства животных по отличительным признакам, их взаимосвяз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886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00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роки проведения 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190476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ект рассчитан на три у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Желаю успехов в рабо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1640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429000" cy="2666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990720" y="3581280"/>
            <a:ext cx="3429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3-06-18T17:41:19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