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09C-6B1B-4543-9C00-56C83174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E43-7A9E-4106-93E2-E83FD11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16D-0D83-453D-ADC3-402480A7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76D-53A8-412C-9630-76796DDF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6E7-4A9A-48DD-BEEE-39C659A8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7CE-C2CE-4228-8722-DA240896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BEF-7B84-48FD-AA32-EB097E10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6F5-6560-4134-8E17-955072A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E30-6185-49B0-8200-DA45BDB3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D92-EA6A-4C00-86CF-8C3E76D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55F-34C1-49B7-8874-37EAC66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026-FEF9-490C-90B3-3BA78DD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097A-88A6-4A3E-AF88-221FD179A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ы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ло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1.jpg"/>
          <p:cNvPicPr/>
          <p:nvPr/>
        </p:nvPicPr>
        <p:blipFill>
          <a:blip r:embed="rId1"/>
          <a:stretch/>
        </p:blipFill>
        <p:spPr>
          <a:xfrm>
            <a:off x="838080" y="380880"/>
            <a:ext cx="2362320" cy="5131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2.jpg"/>
          <p:cNvPicPr/>
          <p:nvPr/>
        </p:nvPicPr>
        <p:blipFill>
          <a:blip r:embed="rId2"/>
          <a:stretch/>
        </p:blipFill>
        <p:spPr>
          <a:xfrm>
            <a:off x="3581280" y="685800"/>
            <a:ext cx="5114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78-79 правила знать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0T12:44:53Z</dcterms:created>
  <dc:creator>lenovo</dc:creator>
  <dc:description/>
  <dc:language>en-US</dc:language>
  <cp:lastModifiedBy>lenovo</cp:lastModifiedBy>
  <dcterms:modified xsi:type="dcterms:W3CDTF">2017-03-20T14:52:25Z</dcterms:modified>
  <cp:revision>12</cp:revision>
  <dc:subject/>
  <dc:title>Слайд 1</dc:title>
</cp:coreProperties>
</file>