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702-6BBC-4328-9A78-6ED3045E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436-C403-4A6B-BD18-AB9B0B36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E4A-8C00-4601-9736-E14330CB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46D-F8B4-46E4-ADD8-462F073F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2C4-4E4C-46D1-B0AC-16C39057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C68-9416-4A84-A4D3-8C785193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19E-A471-4617-8C74-1E3E71C4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DA0-DB9F-435C-A50B-4663ADC8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8CA-9C2E-4452-BA6E-D320B111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771-F3B1-47A4-9D0D-A44AED9C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702-85FD-4490-A57B-F6083AB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11E-C791-4210-BB8A-E65A740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5187-507F-46DB-8E85-7812F9D8C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14680" y="0"/>
            <a:ext cx="642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stem_leaf.png"/>
          <p:cNvPicPr/>
          <p:nvPr/>
        </p:nvPicPr>
        <p:blipFill>
          <a:blip r:embed="rId2"/>
          <a:stretch/>
        </p:blipFill>
        <p:spPr>
          <a:xfrm>
            <a:off x="5999040" y="2073240"/>
            <a:ext cx="2413080" cy="4552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0" descr="daisy.png"/>
          <p:cNvPicPr/>
          <p:nvPr/>
        </p:nvPicPr>
        <p:blipFill>
          <a:blip r:embed="rId3"/>
          <a:srcRect l="0" t="0" r="0" b="3701"/>
          <a:stretch/>
        </p:blipFill>
        <p:spPr>
          <a:xfrm>
            <a:off x="5786280" y="2000160"/>
            <a:ext cx="2986200" cy="462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Степени сравнения прилагательны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95440" y="4080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omic Sans MS"/>
              </a:rPr>
              <a:t>Учитель английского языка МКОУ СОШ №1 г. Лиски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omic Sans MS"/>
              </a:rPr>
              <a:t>Железняк Г.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2"/>
          <p:cNvGrpSpPr/>
          <p:nvPr/>
        </p:nvGrpSpPr>
        <p:grpSpPr>
          <a:xfrm>
            <a:off x="6858000" y="3214800"/>
            <a:ext cx="747720" cy="745920"/>
            <a:chOff x="6858000" y="3214800"/>
            <a:chExt cx="747720" cy="745920"/>
          </a:xfrm>
        </p:grpSpPr>
        <p:sp>
          <p:nvSpPr>
            <p:cNvPr id="47" name="Oval 3"/>
            <p:cNvSpPr/>
            <p:nvPr/>
          </p:nvSpPr>
          <p:spPr>
            <a:xfrm>
              <a:off x="685800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4"/>
            <p:cNvSpPr/>
            <p:nvPr/>
          </p:nvSpPr>
          <p:spPr>
            <a:xfrm>
              <a:off x="690552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Picture 1" descr="ladybug.png"/>
          <p:cNvPicPr/>
          <p:nvPr/>
        </p:nvPicPr>
        <p:blipFill>
          <a:blip r:embed="rId4"/>
          <a:stretch/>
        </p:blipFill>
        <p:spPr>
          <a:xfrm>
            <a:off x="7715160" y="3286080"/>
            <a:ext cx="1015920" cy="9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stem_leaf_2.png"/>
          <p:cNvPicPr/>
          <p:nvPr/>
        </p:nvPicPr>
        <p:blipFill>
          <a:blip r:embed="rId5"/>
          <a:stretch/>
        </p:blipFill>
        <p:spPr>
          <a:xfrm>
            <a:off x="212760" y="3786120"/>
            <a:ext cx="1427040" cy="285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53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1" descr="ladybug.png"/>
          <p:cNvPicPr/>
          <p:nvPr/>
        </p:nvPicPr>
        <p:blipFill>
          <a:blip r:embed="rId7"/>
          <a:stretch/>
        </p:blipFill>
        <p:spPr>
          <a:xfrm rot="9757200">
            <a:off x="207720" y="351000"/>
            <a:ext cx="69840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43280" y="779040"/>
            <a:ext cx="551016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7626"/>
                </a:solidFill>
                <a:latin typeface="Calibri"/>
              </a:rPr>
              <a:t>Заполни табл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2060640"/>
          <a:ext cx="8569080" cy="4602240"/>
        </p:xfrm>
        <a:graphic>
          <a:graphicData uri="http://schemas.openxmlformats.org/drawingml/2006/table">
            <a:tbl>
              <a:tblPr/>
              <a:tblGrid>
                <a:gridCol w="2855880"/>
                <a:gridCol w="2855880"/>
                <a:gridCol w="285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ожительная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тель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восход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g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bigg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pp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ppi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appi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all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old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nic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es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interes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 interes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mm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limm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n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ni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unni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 beauti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pic>
        <p:nvPicPr>
          <p:cNvPr id="90" name="Рисунок 6" descr=""/>
          <p:cNvPicPr/>
          <p:nvPr/>
        </p:nvPicPr>
        <p:blipFill>
          <a:blip r:embed="rId1"/>
          <a:stretch/>
        </p:blipFill>
        <p:spPr>
          <a:xfrm>
            <a:off x="468360" y="200160"/>
            <a:ext cx="2036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468360" y="200160"/>
            <a:ext cx="2036880" cy="1619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4880" y="230040"/>
            <a:ext cx="66387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7626"/>
                </a:solidFill>
                <a:latin typeface="Calibri"/>
              </a:rPr>
              <a:t>При сравнении степени качества одного предмета со степенью качества другого употребляется союз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an</a:t>
            </a:r>
            <a:r>
              <a:rPr b="1" lang="en-US" sz="3200" spc="-1" strike="noStrike">
                <a:solidFill>
                  <a:srgbClr val="267626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267626"/>
                </a:solidFill>
                <a:latin typeface="Calibri"/>
              </a:rPr>
              <a:t>че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6" descr=""/>
          <p:cNvPicPr/>
          <p:nvPr/>
        </p:nvPicPr>
        <p:blipFill>
          <a:blip r:embed="rId2"/>
          <a:stretch/>
        </p:blipFill>
        <p:spPr>
          <a:xfrm>
            <a:off x="4572000" y="2585880"/>
            <a:ext cx="3313080" cy="256248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370080" y="5541840"/>
            <a:ext cx="38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t is smalle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eleph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341240" y="5541840"/>
            <a:ext cx="37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lephant is bigge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c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11" descr=""/>
          <p:cNvPicPr/>
          <p:nvPr/>
        </p:nvPicPr>
        <p:blipFill>
          <a:blip r:embed="rId3"/>
          <a:stretch/>
        </p:blipFill>
        <p:spPr>
          <a:xfrm>
            <a:off x="1422360" y="3495600"/>
            <a:ext cx="14032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176040" y="1960560"/>
            <a:ext cx="2667240" cy="1295280"/>
          </a:xfrm>
          <a:prstGeom prst="rect">
            <a:avLst/>
          </a:prstGeom>
          <a:ln w="19080">
            <a:solidFill>
              <a:srgbClr val="267626"/>
            </a:solidFill>
            <a:miter/>
          </a:ln>
        </p:spPr>
      </p:pic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3222720" y="1941480"/>
            <a:ext cx="2609640" cy="1333440"/>
          </a:xfrm>
          <a:prstGeom prst="rect">
            <a:avLst/>
          </a:prstGeom>
          <a:ln w="19080">
            <a:solidFill>
              <a:srgbClr val="2b7132"/>
            </a:solidFill>
            <a:miter/>
          </a:ln>
        </p:spPr>
      </p:pic>
      <p:pic>
        <p:nvPicPr>
          <p:cNvPr id="99" name="Рисунок 5" descr=""/>
          <p:cNvPicPr/>
          <p:nvPr/>
        </p:nvPicPr>
        <p:blipFill>
          <a:blip r:embed="rId3"/>
          <a:stretch/>
        </p:blipFill>
        <p:spPr>
          <a:xfrm>
            <a:off x="176040" y="4508640"/>
            <a:ext cx="2676600" cy="1363680"/>
          </a:xfrm>
          <a:prstGeom prst="rect">
            <a:avLst/>
          </a:prstGeom>
          <a:ln w="19080">
            <a:solidFill>
              <a:srgbClr val="2b7132"/>
            </a:solidFill>
            <a:miter/>
          </a:ln>
        </p:spPr>
      </p:pic>
      <p:pic>
        <p:nvPicPr>
          <p:cNvPr id="100" name="Рисунок 6" descr=""/>
          <p:cNvPicPr/>
          <p:nvPr/>
        </p:nvPicPr>
        <p:blipFill>
          <a:blip r:embed="rId4"/>
          <a:stretch/>
        </p:blipFill>
        <p:spPr>
          <a:xfrm>
            <a:off x="3198960" y="4508640"/>
            <a:ext cx="2657160" cy="1363680"/>
          </a:xfrm>
          <a:prstGeom prst="rect">
            <a:avLst/>
          </a:prstGeom>
          <a:ln w="19080">
            <a:solidFill>
              <a:srgbClr val="267626"/>
            </a:solidFill>
            <a:miter/>
          </a:ln>
        </p:spPr>
      </p:pic>
      <p:pic>
        <p:nvPicPr>
          <p:cNvPr id="101" name="Рисунок 7" descr=""/>
          <p:cNvPicPr/>
          <p:nvPr/>
        </p:nvPicPr>
        <p:blipFill>
          <a:blip r:embed="rId5"/>
          <a:stretch/>
        </p:blipFill>
        <p:spPr>
          <a:xfrm>
            <a:off x="6227640" y="193680"/>
            <a:ext cx="2714760" cy="3085920"/>
          </a:xfrm>
          <a:prstGeom prst="rect">
            <a:avLst/>
          </a:prstGeom>
          <a:ln w="28440">
            <a:solidFill>
              <a:srgbClr val="267626"/>
            </a:solidFill>
            <a:miter/>
          </a:ln>
        </p:spPr>
      </p:pic>
      <p:pic>
        <p:nvPicPr>
          <p:cNvPr id="102" name="Рисунок 8" descr=""/>
          <p:cNvPicPr/>
          <p:nvPr/>
        </p:nvPicPr>
        <p:blipFill>
          <a:blip r:embed="rId6"/>
          <a:stretch/>
        </p:blipFill>
        <p:spPr>
          <a:xfrm>
            <a:off x="6242040" y="4508640"/>
            <a:ext cx="2638440" cy="1353960"/>
          </a:xfrm>
          <a:prstGeom prst="rect">
            <a:avLst/>
          </a:prstGeom>
          <a:ln w="19080">
            <a:solidFill>
              <a:srgbClr val="2b7132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040" y="801720"/>
            <a:ext cx="565632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7626"/>
                </a:solidFill>
                <a:latin typeface="Calibri"/>
              </a:rPr>
              <a:t>Answer the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76040" y="3274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s strong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3222720" y="3274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s small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227640" y="3308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s tall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76040" y="5872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s clean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3193920" y="5872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is short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6"/>
          <p:cNvSpPr/>
          <p:nvPr/>
        </p:nvSpPr>
        <p:spPr>
          <a:xfrm>
            <a:off x="6227640" y="58626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is cold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190440" y="790560"/>
            <a:ext cx="2782800" cy="16099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3338640" y="790560"/>
            <a:ext cx="2782800" cy="16099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"/>
          <p:cNvPicPr/>
          <p:nvPr/>
        </p:nvPicPr>
        <p:blipFill>
          <a:blip r:embed="rId3"/>
          <a:stretch/>
        </p:blipFill>
        <p:spPr>
          <a:xfrm>
            <a:off x="204840" y="2781360"/>
            <a:ext cx="2754360" cy="15904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"/>
          <p:cNvPicPr/>
          <p:nvPr/>
        </p:nvPicPr>
        <p:blipFill>
          <a:blip r:embed="rId4"/>
          <a:stretch/>
        </p:blipFill>
        <p:spPr>
          <a:xfrm>
            <a:off x="3348000" y="2771640"/>
            <a:ext cx="277344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"/>
          <p:cNvPicPr/>
          <p:nvPr/>
        </p:nvPicPr>
        <p:blipFill>
          <a:blip r:embed="rId5"/>
          <a:stretch/>
        </p:blipFill>
        <p:spPr>
          <a:xfrm>
            <a:off x="204840" y="4740120"/>
            <a:ext cx="2773440" cy="15814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"/>
          <p:cNvPicPr/>
          <p:nvPr/>
        </p:nvPicPr>
        <p:blipFill>
          <a:blip r:embed="rId6"/>
          <a:stretch/>
        </p:blipFill>
        <p:spPr>
          <a:xfrm>
            <a:off x="3355920" y="4740120"/>
            <a:ext cx="276228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"/>
          <p:cNvPicPr/>
          <p:nvPr/>
        </p:nvPicPr>
        <p:blipFill>
          <a:blip r:embed="rId7"/>
          <a:stretch/>
        </p:blipFill>
        <p:spPr>
          <a:xfrm>
            <a:off x="6303960" y="1843200"/>
            <a:ext cx="2743200" cy="16095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1" descr=""/>
          <p:cNvPicPr/>
          <p:nvPr/>
        </p:nvPicPr>
        <p:blipFill>
          <a:blip r:embed="rId8"/>
          <a:stretch/>
        </p:blipFill>
        <p:spPr>
          <a:xfrm>
            <a:off x="6307200" y="3930480"/>
            <a:ext cx="2771640" cy="1619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3608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7626"/>
                </a:solidFill>
                <a:latin typeface="Calibri"/>
              </a:rPr>
              <a:t>Look at the pictures and say: Which one is happi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204840" y="437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3355920" y="2389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c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2973240" y="141588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6"/>
          <p:cNvSpPr/>
          <p:nvPr/>
        </p:nvSpPr>
        <p:spPr>
          <a:xfrm>
            <a:off x="2959200" y="3386160"/>
            <a:ext cx="3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2975040" y="53467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3348000" y="4370400"/>
            <a:ext cx="26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y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190440" y="2419200"/>
            <a:ext cx="26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204840" y="6342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3338640" y="6342120"/>
            <a:ext cx="26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zo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6303960" y="14810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hot sum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6303960" y="55497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cold w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7445520" y="35146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8"/>
          <p:cNvSpPr/>
          <p:nvPr/>
        </p:nvSpPr>
        <p:spPr>
          <a:xfrm>
            <a:off x="963720" y="325440"/>
            <a:ext cx="678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clap your ha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clap your ha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And you really want to show i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clap your ha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2352240" y="1914480"/>
            <a:ext cx="678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stamp your f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stamp your f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And you really want to show i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stamp your f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963720" y="3500280"/>
            <a:ext cx="678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slap your kne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slap your kne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And you really want to show i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slap your kne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2101320" y="5087880"/>
            <a:ext cx="678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click your fin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click your fin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And you really want to show i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f you're happy and you know it, click your fin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3" descr=""/>
          <p:cNvPicPr/>
          <p:nvPr/>
        </p:nvPicPr>
        <p:blipFill>
          <a:blip r:embed="rId1"/>
          <a:stretch/>
        </p:blipFill>
        <p:spPr>
          <a:xfrm>
            <a:off x="100080" y="1852560"/>
            <a:ext cx="2244600" cy="12686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" descr=""/>
          <p:cNvPicPr/>
          <p:nvPr/>
        </p:nvPicPr>
        <p:blipFill>
          <a:blip r:embed="rId2"/>
          <a:stretch/>
        </p:blipFill>
        <p:spPr>
          <a:xfrm>
            <a:off x="755640" y="532116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6" descr=""/>
          <p:cNvPicPr/>
          <p:nvPr/>
        </p:nvPicPr>
        <p:blipFill>
          <a:blip r:embed="rId3"/>
          <a:stretch/>
        </p:blipFill>
        <p:spPr>
          <a:xfrm>
            <a:off x="7164360" y="3168720"/>
            <a:ext cx="1728720" cy="976320"/>
          </a:xfrm>
          <a:prstGeom prst="rect">
            <a:avLst/>
          </a:prstGeom>
          <a:ln w="0">
            <a:noFill/>
          </a:ln>
        </p:spPr>
      </p:pic>
      <p:pic>
        <p:nvPicPr>
          <p:cNvPr id="138" name="If you are happy and you know it - If you are happy......." descr=""/>
          <p:cNvPicPr/>
          <p:nvPr/>
        </p:nvPicPr>
        <p:blipFill>
          <a:blip r:embed="rId4"/>
          <a:stretch/>
        </p:blipFill>
        <p:spPr>
          <a:xfrm>
            <a:off x="22320" y="23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714680" y="0"/>
            <a:ext cx="642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stem_leaf.png"/>
          <p:cNvPicPr/>
          <p:nvPr/>
        </p:nvPicPr>
        <p:blipFill>
          <a:blip r:embed="rId2"/>
          <a:stretch/>
        </p:blipFill>
        <p:spPr>
          <a:xfrm>
            <a:off x="5999040" y="2073240"/>
            <a:ext cx="2413080" cy="455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0" descr="daisy.png"/>
          <p:cNvPicPr/>
          <p:nvPr/>
        </p:nvPicPr>
        <p:blipFill>
          <a:blip r:embed="rId3"/>
          <a:srcRect l="0" t="0" r="0" b="3701"/>
          <a:stretch/>
        </p:blipFill>
        <p:spPr>
          <a:xfrm>
            <a:off x="5786280" y="2000160"/>
            <a:ext cx="2986200" cy="46213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6858000" y="3214800"/>
            <a:ext cx="747720" cy="745920"/>
            <a:chOff x="6858000" y="3214800"/>
            <a:chExt cx="747720" cy="745920"/>
          </a:xfrm>
        </p:grpSpPr>
        <p:sp>
          <p:nvSpPr>
            <p:cNvPr id="144" name="Oval 3"/>
            <p:cNvSpPr/>
            <p:nvPr/>
          </p:nvSpPr>
          <p:spPr>
            <a:xfrm>
              <a:off x="685800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Oval 4"/>
            <p:cNvSpPr/>
            <p:nvPr/>
          </p:nvSpPr>
          <p:spPr>
            <a:xfrm>
              <a:off x="690552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6" name="Picture 1" descr="ladybug.png"/>
          <p:cNvPicPr/>
          <p:nvPr/>
        </p:nvPicPr>
        <p:blipFill>
          <a:blip r:embed="rId4"/>
          <a:stretch/>
        </p:blipFill>
        <p:spPr>
          <a:xfrm>
            <a:off x="7715160" y="3286080"/>
            <a:ext cx="1015920" cy="9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stem_leaf_2.png"/>
          <p:cNvPicPr/>
          <p:nvPr/>
        </p:nvPicPr>
        <p:blipFill>
          <a:blip r:embed="rId5"/>
          <a:stretch/>
        </p:blipFill>
        <p:spPr>
          <a:xfrm>
            <a:off x="212760" y="3786120"/>
            <a:ext cx="1427040" cy="2859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150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Picture 1" descr="ladybug.png"/>
          <p:cNvPicPr/>
          <p:nvPr/>
        </p:nvPicPr>
        <p:blipFill>
          <a:blip r:embed="rId7"/>
          <a:stretch/>
        </p:blipFill>
        <p:spPr>
          <a:xfrm rot="9757200">
            <a:off x="207720" y="351000"/>
            <a:ext cx="69840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1285920"/>
            <a:ext cx="548640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7132"/>
                </a:solidFill>
                <a:latin typeface="Calibri"/>
              </a:rPr>
              <a:t>Прилагатель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3068640"/>
          <a:ext cx="8496000" cy="289548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нослож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один сло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вуслож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два слог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ногосложные (более двух слог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n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a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n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f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468360" y="655560"/>
            <a:ext cx="20368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16000" y="1316160"/>
            <a:ext cx="604836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b7132"/>
                </a:solidFill>
                <a:latin typeface="Calibri"/>
              </a:rPr>
              <a:t>Степени сравнения прилагатель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6176880" y="2852640"/>
            <a:ext cx="2549520" cy="158436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1"/>
          <p:cNvSpPr/>
          <p:nvPr/>
        </p:nvSpPr>
        <p:spPr>
          <a:xfrm>
            <a:off x="558720" y="2852640"/>
            <a:ext cx="2549520" cy="1584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2"/>
          <p:cNvSpPr/>
          <p:nvPr/>
        </p:nvSpPr>
        <p:spPr>
          <a:xfrm>
            <a:off x="3324240" y="4317840"/>
            <a:ext cx="2549520" cy="158436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801720" y="3284640"/>
            <a:ext cx="208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оложительная степ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3556080" y="4724280"/>
            <a:ext cx="20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равнительная степ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6407280" y="326088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евосходная степ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Прямая со стрелкой 28"/>
          <p:cNvCxnSpPr/>
          <p:nvPr/>
        </p:nvCxnSpPr>
        <p:spPr>
          <a:xfrm flipH="1">
            <a:off x="4922640" y="1947600"/>
            <a:ext cx="234000" cy="11912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7" name="Прямая со стрелкой 30"/>
          <p:cNvCxnSpPr/>
          <p:nvPr/>
        </p:nvCxnSpPr>
        <p:spPr>
          <a:xfrm>
            <a:off x="7184520" y="1851120"/>
            <a:ext cx="267120" cy="9532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8" name="Прямая со стрелкой 43"/>
          <p:cNvCxnSpPr/>
          <p:nvPr/>
        </p:nvCxnSpPr>
        <p:spPr>
          <a:xfrm flipH="1">
            <a:off x="2665080" y="1947960"/>
            <a:ext cx="627840" cy="759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69" name="Рисунок 46" descr=""/>
          <p:cNvPicPr/>
          <p:nvPr/>
        </p:nvPicPr>
        <p:blipFill>
          <a:blip r:embed="rId1"/>
          <a:stretch/>
        </p:blipFill>
        <p:spPr>
          <a:xfrm>
            <a:off x="468360" y="506520"/>
            <a:ext cx="2036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520" y="1025640"/>
            <a:ext cx="551016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7626"/>
                </a:solidFill>
                <a:latin typeface="Calibri"/>
              </a:rPr>
              <a:t>Односложные и двусложные прилаг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2708280"/>
          <a:ext cx="8642160" cy="374976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ожительная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тель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восход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pp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72" name="Рисунок 5" descr=""/>
          <p:cNvPicPr/>
          <p:nvPr/>
        </p:nvPicPr>
        <p:blipFill>
          <a:blip r:embed="rId1"/>
          <a:stretch/>
        </p:blipFill>
        <p:spPr>
          <a:xfrm>
            <a:off x="468360" y="655560"/>
            <a:ext cx="20368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520" y="1025640"/>
            <a:ext cx="551016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7626"/>
                </a:solidFill>
                <a:latin typeface="Calibri"/>
              </a:rPr>
              <a:t>Односложные и двусложные прилаг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2708280"/>
          <a:ext cx="8642160" cy="374976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ожительная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тель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восход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mall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nic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old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gg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bi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gg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t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a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t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pp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pp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app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unn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75" name="Рисунок 5" descr=""/>
          <p:cNvPicPr/>
          <p:nvPr/>
        </p:nvPicPr>
        <p:blipFill>
          <a:blip r:embed="rId1"/>
          <a:stretch/>
        </p:blipFill>
        <p:spPr>
          <a:xfrm>
            <a:off x="468360" y="655560"/>
            <a:ext cx="20368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24200" y="1025640"/>
            <a:ext cx="550872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7626"/>
                </a:solidFill>
                <a:latin typeface="Calibri"/>
              </a:rPr>
              <a:t>Многосложные прилаг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2924280"/>
          <a:ext cx="8496000" cy="335412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ожительная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тель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восход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es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fort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nder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pic>
        <p:nvPicPr>
          <p:cNvPr id="78" name="Рисунок 5" descr=""/>
          <p:cNvPicPr/>
          <p:nvPr/>
        </p:nvPicPr>
        <p:blipFill>
          <a:blip r:embed="rId1"/>
          <a:stretch/>
        </p:blipFill>
        <p:spPr>
          <a:xfrm>
            <a:off x="468360" y="655560"/>
            <a:ext cx="20368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24200" y="1025640"/>
            <a:ext cx="550872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7626"/>
                </a:solidFill>
                <a:latin typeface="Calibri"/>
              </a:rPr>
              <a:t>Многосложные прилаг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2924280"/>
          <a:ext cx="8496000" cy="335412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ожительная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тель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восход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es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interes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 interes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pop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 pop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 beauti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fort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comfort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 comfort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use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 use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nder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wonder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 wonder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pic>
        <p:nvPicPr>
          <p:cNvPr id="81" name="Рисунок 5" descr=""/>
          <p:cNvPicPr/>
          <p:nvPr/>
        </p:nvPicPr>
        <p:blipFill>
          <a:blip r:embed="rId1"/>
          <a:stretch/>
        </p:blipFill>
        <p:spPr>
          <a:xfrm>
            <a:off x="468360" y="655560"/>
            <a:ext cx="20368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4560" y="779040"/>
            <a:ext cx="570852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7626"/>
                </a:solidFill>
                <a:latin typeface="Calibri"/>
              </a:rPr>
              <a:t>Прилагательные – исклю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2556000"/>
          <a:ext cx="8424720" cy="353700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ожитель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тель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восход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b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/Mu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b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arth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4" name="Рисунок 6" descr=""/>
          <p:cNvPicPr/>
          <p:nvPr/>
        </p:nvPicPr>
        <p:blipFill>
          <a:blip r:embed="rId1"/>
          <a:stretch/>
        </p:blipFill>
        <p:spPr>
          <a:xfrm>
            <a:off x="324000" y="200160"/>
            <a:ext cx="2036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3280" y="779040"/>
            <a:ext cx="551016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7626"/>
                </a:solidFill>
                <a:latin typeface="Calibri"/>
              </a:rPr>
              <a:t>Заполни табл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4000" y="2060640"/>
          <a:ext cx="8569080" cy="4602240"/>
        </p:xfrm>
        <a:graphic>
          <a:graphicData uri="http://schemas.openxmlformats.org/drawingml/2006/table">
            <a:tbl>
              <a:tblPr/>
              <a:tblGrid>
                <a:gridCol w="2855880"/>
                <a:gridCol w="2855880"/>
                <a:gridCol w="285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ожительная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тель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восходная 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bigg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pp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ppi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all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old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es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 interes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mm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n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unni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pic>
        <p:nvPicPr>
          <p:cNvPr id="87" name="Рисунок 6" descr=""/>
          <p:cNvPicPr/>
          <p:nvPr/>
        </p:nvPicPr>
        <p:blipFill>
          <a:blip r:embed="rId1"/>
          <a:stretch/>
        </p:blipFill>
        <p:spPr>
          <a:xfrm>
            <a:off x="468360" y="200160"/>
            <a:ext cx="2036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21:09:47Z</dcterms:created>
  <dc:creator>Admin</dc:creator>
  <dc:description/>
  <cp:keywords/>
  <dc:language>en-US</dc:language>
  <cp:lastModifiedBy>Владимир</cp:lastModifiedBy>
  <dcterms:modified xsi:type="dcterms:W3CDTF">2017-12-17T11:58:48Z</dcterms:modified>
  <cp:revision>23</cp:revision>
  <dc:subject/>
  <dc:title>Степени сравнения прилагательн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101909990</vt:lpwstr>
  </property>
</Properties>
</file>