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978D-81C2-42C2-86D8-66EA51CA8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F87A-8B63-4012-910F-C4A5FBF1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9244-7550-4643-B063-27C19B7D3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CFE1-F2FA-43C0-B01A-273F961FA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4C85-C3CB-4E2C-8F3D-C892E769A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B2C3-817B-4BC2-B1CD-3EB47AF4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578F-D215-4E68-A7BF-91E8D160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42FA-0C22-4017-9B0A-275C08A4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79105-2491-4D67-BD8D-59C8E28D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20B3-0ABA-4BA7-A766-7BF565E5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59F9-8691-40EE-8336-FAA57F7A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5AAC-44CB-4FEF-978B-2523BBB2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CD42-81DA-4430-BD6D-841B9D84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EAD0-83FD-4EE9-B955-13120B8C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E570-C720-497C-9697-2E9F2D66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B5CFC-8373-490C-95BD-707CD9291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2CF5-870A-4C46-8AEF-C33D7BC6D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1F91-D9E7-4B0E-9690-BBE12DF5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48C0-C57E-423A-872E-9DC9808E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E737-3881-4913-9DFE-33D6A32B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A2D6-84A2-4C73-B731-AE4D713A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5CAD-34F4-4A02-B6BF-2D64E1B0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BF0F-1BCD-40E9-A489-81508B79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56A4-E980-419F-856A-F3F4F45C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DA7D-CDF3-4A61-8E5D-A1EC79F4FA2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29A8-54B2-4C0C-BE98-96BA66A01C4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63560" y="439200"/>
            <a:ext cx="7129440" cy="8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6000" spc="-1" strike="noStrike">
                <a:solidFill>
                  <a:srgbClr val="ffffcc"/>
                </a:solidFill>
                <a:latin typeface="바탕"/>
              </a:rPr>
              <a:t>СТРОЕНИЕ    ЗЕМЛИ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80643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акое слово лишнее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Литосфер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Ядро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Мант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Компа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Земная кор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50920" y="62028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Компас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-прибор для определения сторон горизонта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    </a:t>
            </a: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Составь слово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  <a:ea typeface="Arial"/>
              </a:rPr>
              <a:t>ФАОТЛЕРС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Arial"/>
              </a:rPr>
              <a:t>Подсказка( слово встречалась на урок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"/>
          <p:cNvSpPr/>
          <p:nvPr/>
        </p:nvSpPr>
        <p:spPr>
          <a:xfrm>
            <a:off x="809280" y="5176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3c145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60036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a3c145"/>
                </a:solidFill>
                <a:uFillTx/>
                <a:latin typeface="Arial"/>
                <a:hlinkClick r:id="rId2" action="ppaction://hlinksldjump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Это интересно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Чем ближе к центру Земли  температура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 глубиной повышаетс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на 3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°</a:t>
            </a: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С н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каждом 100 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Давление с глубиной</a:t>
            </a: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                       </a:t>
            </a: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тоже повышае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Литосфера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                 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Задание в тетрад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468360" y="1844640"/>
          <a:ext cx="7977240" cy="4838760"/>
        </p:xfrm>
        <a:graphic>
          <a:graphicData uri="http://schemas.openxmlformats.org/drawingml/2006/table">
            <a:tbl>
              <a:tblPr/>
              <a:tblGrid>
                <a:gridCol w="2232000"/>
                <a:gridCol w="1641600"/>
                <a:gridCol w="2087280"/>
                <a:gridCol w="2016360"/>
              </a:tblGrid>
              <a:tr h="94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Внутренние оболочки Земл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Характеристика оболочек Земл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состоя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температур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давл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3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емная ко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верд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емпература с глубиной повышает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 среднем на 3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°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ждые 100 м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вление с глубиной повышает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ант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др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4" name=""/>
          <p:cNvSpPr/>
          <p:nvPr/>
        </p:nvSpPr>
        <p:spPr>
          <a:xfrm>
            <a:off x="468360" y="1341360"/>
            <a:ext cx="61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Заполните таблицу по образц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6 прочитать, уметь пересказа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меть отвечать на вопросы в конце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6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полнить таблицу(по учебнику и образцу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нести пластили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Спасибо за урок!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Говори хорошо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итосфе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емная ко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ант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Ядр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ловарь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итосфера- твердая оболочка Земл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емная кора- верхняя часть литосфер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антия- внутренняя часть Земли, находящаяся под земной кор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Ядро- центральная часть Земл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Запиши в тетрадь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      </a:t>
            </a:r>
            <a:r>
              <a:rPr b="1" lang="en-US" sz="4400" spc="-1" strike="noStrike">
                <a:solidFill>
                  <a:srgbClr val="0000ff"/>
                </a:solidFill>
                <a:latin typeface="Tahoma"/>
              </a:rPr>
              <a:t>История  Земл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007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озраст Земли 5 млр. Л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1979640" y="2637000"/>
            <a:ext cx="523872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    </a:t>
            </a: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Внутреннее строение Земли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539640" y="1098720"/>
            <a:ext cx="8209080" cy="57592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4335480" y="2565360"/>
            <a:ext cx="14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Радиу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3.500 к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82520" y="1211400"/>
            <a:ext cx="285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Ядро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–расплавленно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жидк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610160" y="164304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c6c"/>
                </a:solidFill>
                <a:latin typeface="Tahoma"/>
              </a:rPr>
              <a:t>2.900 к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040000" y="466884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c6c"/>
                </a:solidFill>
                <a:latin typeface="Tahoma"/>
              </a:rPr>
              <a:t>5 км-70 км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2219400"/>
            <a:ext cx="20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Температу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 ядр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4000-5000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°</a:t>
            </a: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 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7400" y="3516480"/>
            <a:ext cx="175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Температу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ант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2000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°</a:t>
            </a: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 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640720" cy="60483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468360" y="541980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Земная кора и  пластичный слой мантии образуют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литосфер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23680" y="4843440"/>
            <a:ext cx="580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Земная кора- твердая, слоистая оболоч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7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7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569080" cy="633744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586080" y="2795760"/>
            <a:ext cx="7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5 км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122520" y="4019400"/>
            <a:ext cx="7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75 к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80560" y="476280"/>
            <a:ext cx="32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Земная ко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Сделаем в тетради макет земной коры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атлас - стр.1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войства земной кор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lephant"/>
              </a:rPr>
              <a:t>Состоит из твердых минералов и твердых пор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lephant"/>
              </a:rPr>
              <a:t>На поверхности земной коры обнаружены неровности :материки и впади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lephant"/>
              </a:rPr>
              <a:t>Толщина Земной коры не везде одинакова: от 5 км-под океанами, до 75 км –под материк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Elephant"/>
              </a:rPr>
              <a:t> 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8:38:23Z</dcterms:created>
  <dc:creator>Lera</dc:creator>
  <dc:description/>
  <dc:language>en-US</dc:language>
  <cp:lastModifiedBy>Apple</cp:lastModifiedBy>
  <dcterms:modified xsi:type="dcterms:W3CDTF">2010-12-01T10:44:12Z</dcterms:modified>
  <cp:revision>15</cp:revision>
  <dc:subject/>
  <dc:title>СТРОЕНИЕ ЗЕМЛИ</dc:title>
</cp:coreProperties>
</file>