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4EEC-167F-4BD6-A57D-34F1481A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0579-D73A-40B5-B370-7679551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A228-BE18-4D21-9920-A66C581C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DE19-10B3-45EF-82D2-2FB6D2F0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76A6-78CA-4E98-B63F-F631DB09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B11-E738-4E8E-81E2-8CC57948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9F34-EFB6-4ED3-9A69-F8DA2C1D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09E6-D259-4E36-9E33-B9AF04B4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CE4B-E9DA-4C64-906C-F244CB60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2DB3-0DCC-4882-8B75-7FEB5402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D8C6-E929-4358-9B62-0B6CC7F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6A43-7C14-4178-8D3B-55A025AA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C315-2E56-40C3-B570-AFB72A69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617-ADFF-41EF-80A4-D280AB44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5A1-E520-44F6-BB8A-8E9E1D0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43E4-F09C-4664-80B9-65ABE32E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701-4F54-416E-9538-98FB3B5B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2584-5ADA-43CA-A000-BC2484C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357F-1B4C-4D5F-8814-2CC5783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04B6-D968-4676-888B-FAB21E36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6B3D-BB9E-40CE-82FC-E354D1B9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2369-73AE-4CCD-9ACD-AEFD6F0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8841-6722-4B4A-B69C-F892E2DF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3D17-C021-4DA0-8DAF-74421516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университет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oi-mummi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2EC8-4647-4DA7-A287-3E978714D9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f6f6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e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efa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3a4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efac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efa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f6f6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e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f6f6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e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efa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3a4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efac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efa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университет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oi-mummi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88AD-BF48-47E0-86D4-8ACA4F60D3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66680" y="1536480"/>
            <a:ext cx="7315200" cy="2836800"/>
          </a:xfrm>
          <a:prstGeom prst="rect">
            <a:avLst/>
          </a:prstGeom>
          <a:gradFill rotWithShape="0">
            <a:gsLst>
              <a:gs pos="0">
                <a:srgbClr val="f8c891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множение одночлена на многочл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ова Лидия Егоровна,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1                                 Вари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                                                          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6"/>
              <p:cNvSpPr txBox="1"/>
              <p:nvPr/>
            </p:nvSpPr>
            <p:spPr>
              <a:xfrm>
                <a:off x="0" y="0"/>
                <a:ext cx="409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01"/>
              <p:cNvSpPr txBox="1"/>
              <p:nvPr/>
            </p:nvSpPr>
            <p:spPr>
              <a:xfrm>
                <a:off x="838080" y="2895480"/>
                <a:ext cx="124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00"/>
              <p:cNvSpPr txBox="1"/>
              <p:nvPr/>
            </p:nvSpPr>
            <p:spPr>
              <a:xfrm>
                <a:off x="2514600" y="2971800"/>
                <a:ext cx="1295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9"/>
              <p:cNvSpPr txBox="1"/>
              <p:nvPr/>
            </p:nvSpPr>
            <p:spPr>
              <a:xfrm>
                <a:off x="4952880" y="2971800"/>
                <a:ext cx="1143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с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8"/>
              <p:cNvSpPr txBox="1"/>
              <p:nvPr/>
            </p:nvSpPr>
            <p:spPr>
              <a:xfrm>
                <a:off x="6781680" y="2971800"/>
                <a:ext cx="124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02"/>
          <p:cNvSpPr/>
          <p:nvPr/>
        </p:nvSpPr>
        <p:spPr>
          <a:xfrm>
            <a:off x="668160" y="3170160"/>
            <a:ext cx="323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5"/>
          <p:cNvSpPr/>
          <p:nvPr/>
        </p:nvSpPr>
        <p:spPr>
          <a:xfrm>
            <a:off x="668160" y="3170160"/>
            <a:ext cx="323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371600" y="3276720"/>
                <a:ext cx="26668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1"/>
              <p:cNvSpPr txBox="1"/>
              <p:nvPr/>
            </p:nvSpPr>
            <p:spPr>
              <a:xfrm>
                <a:off x="5943600" y="3200400"/>
                <a:ext cx="16002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1                                 Вариант 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600200" y="3124080"/>
                <a:ext cx="25146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5486400" y="3048120"/>
                <a:ext cx="2971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в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1066680" y="144792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85800" y="5029200"/>
                <a:ext cx="171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1"/>
              <p:cNvSpPr txBox="1"/>
              <p:nvPr/>
            </p:nvSpPr>
            <p:spPr>
              <a:xfrm>
                <a:off x="1219320" y="2362320"/>
                <a:ext cx="955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3"/>
              <p:cNvSpPr txBox="1"/>
              <p:nvPr/>
            </p:nvSpPr>
            <p:spPr>
              <a:xfrm>
                <a:off x="933480" y="3200400"/>
                <a:ext cx="15634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5"/>
              <p:cNvSpPr txBox="1"/>
              <p:nvPr/>
            </p:nvSpPr>
            <p:spPr>
              <a:xfrm>
                <a:off x="1081080" y="4114800"/>
                <a:ext cx="18748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7"/>
              <p:cNvSpPr txBox="1"/>
              <p:nvPr/>
            </p:nvSpPr>
            <p:spPr>
              <a:xfrm>
                <a:off x="1066680" y="4952880"/>
                <a:ext cx="25146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9"/>
              <p:cNvSpPr txBox="1"/>
              <p:nvPr/>
            </p:nvSpPr>
            <p:spPr>
              <a:xfrm>
                <a:off x="4952880" y="4876920"/>
                <a:ext cx="171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0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0"/>
              <p:cNvSpPr txBox="1"/>
              <p:nvPr/>
            </p:nvSpPr>
            <p:spPr>
              <a:xfrm>
                <a:off x="5334120" y="1295280"/>
                <a:ext cx="121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2"/>
              <p:cNvSpPr txBox="1"/>
              <p:nvPr/>
            </p:nvSpPr>
            <p:spPr>
              <a:xfrm>
                <a:off x="5486400" y="2209680"/>
                <a:ext cx="1131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4"/>
              <p:cNvSpPr txBox="1"/>
              <p:nvPr/>
            </p:nvSpPr>
            <p:spPr>
              <a:xfrm>
                <a:off x="5562720" y="2971800"/>
                <a:ext cx="13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сd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6"/>
              <p:cNvSpPr txBox="1"/>
              <p:nvPr/>
            </p:nvSpPr>
            <p:spPr>
              <a:xfrm>
                <a:off x="5638680" y="3962520"/>
                <a:ext cx="1760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8"/>
              <p:cNvSpPr txBox="1"/>
              <p:nvPr/>
            </p:nvSpPr>
            <p:spPr>
              <a:xfrm>
                <a:off x="5334120" y="4800600"/>
                <a:ext cx="2514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лем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2895480" y="2133720"/>
                <a:ext cx="322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971800" y="3581280"/>
                <a:ext cx="3354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работать   правило (алгоритм) умножения одночлена на многочлен и рассмотреть его применение на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груп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судите в группе решение последнего задания  диктанта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пытайтесь  сформулировать  правило умножения одночлена на многочлен и выдвиньте свою гипоте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оснуйте свою гипотезу (почему можно так дел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ерез три минуты представьте свой материал классу (используйте плакат, фломасте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590920" y="2666880"/>
                <a:ext cx="2209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льное свойство умно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(в+с)=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(в+с+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+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в + с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 +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 +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2х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в 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с = -7х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х                    2х      +2х          +2х   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4038480" y="2666880"/>
                <a:ext cx="62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838080" y="3505320"/>
                <a:ext cx="2654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9"/>
              <p:cNvSpPr txBox="1"/>
              <p:nvPr/>
            </p:nvSpPr>
            <p:spPr>
              <a:xfrm>
                <a:off x="4038480" y="3505320"/>
                <a:ext cx="644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0"/>
              <p:cNvSpPr txBox="1"/>
              <p:nvPr/>
            </p:nvSpPr>
            <p:spPr>
              <a:xfrm>
                <a:off x="5562720" y="3581280"/>
                <a:ext cx="1253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7696080" y="3581280"/>
                <a:ext cx="465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2"/>
              <p:cNvSpPr txBox="1"/>
              <p:nvPr/>
            </p:nvSpPr>
            <p:spPr>
              <a:xfrm>
                <a:off x="2887560" y="4572000"/>
                <a:ext cx="3894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600200" y="2393280"/>
            <a:ext cx="6934320" cy="2896920"/>
          </a:xfrm>
          <a:prstGeom prst="rect">
            <a:avLst/>
          </a:prstGeom>
          <a:gradFill rotWithShape="0">
            <a:gsLst>
              <a:gs pos="0">
                <a:srgbClr val="f8c891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…математика … выявляет порядок, симмет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определенность, а это – важнейшие виды прекрасног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истотель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057400" y="2743200"/>
                <a:ext cx="4724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1447920" y="2743200"/>
                <a:ext cx="54831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73160" y="2057400"/>
                <a:ext cx="796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"/>
              <p:cNvSpPr txBox="1"/>
              <p:nvPr/>
            </p:nvSpPr>
            <p:spPr>
              <a:xfrm>
                <a:off x="914400" y="2057400"/>
                <a:ext cx="28098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10"/>
          <p:cNvSpPr/>
          <p:nvPr/>
        </p:nvSpPr>
        <p:spPr>
          <a:xfrm>
            <a:off x="4437000" y="35517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514440" y="3124080"/>
                <a:ext cx="723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3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1371600" y="3200400"/>
                <a:ext cx="1149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5"/>
              <p:cNvSpPr txBox="1"/>
              <p:nvPr/>
            </p:nvSpPr>
            <p:spPr>
              <a:xfrm>
                <a:off x="2514600" y="3200400"/>
                <a:ext cx="609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Rectangle 18"/>
          <p:cNvSpPr/>
          <p:nvPr/>
        </p:nvSpPr>
        <p:spPr>
          <a:xfrm>
            <a:off x="-304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7"/>
              <p:cNvSpPr txBox="1"/>
              <p:nvPr/>
            </p:nvSpPr>
            <p:spPr>
              <a:xfrm>
                <a:off x="3048120" y="3276720"/>
                <a:ext cx="1447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2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9"/>
              <p:cNvSpPr txBox="1"/>
              <p:nvPr/>
            </p:nvSpPr>
            <p:spPr>
              <a:xfrm>
                <a:off x="4511520" y="3276720"/>
                <a:ext cx="6526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21"/>
              <p:cNvSpPr txBox="1"/>
              <p:nvPr/>
            </p:nvSpPr>
            <p:spPr>
              <a:xfrm>
                <a:off x="5105520" y="3276720"/>
                <a:ext cx="380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23"/>
          <p:cNvSpPr/>
          <p:nvPr/>
        </p:nvSpPr>
        <p:spPr>
          <a:xfrm>
            <a:off x="153000" y="3275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множение одночлена на много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efac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лните пропуски: чтобы умножить одночлен на многочл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efac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жно                           этот одночлен на                     чл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efac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олученные произведения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ыполните у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                      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Впишите пропущенный множ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838080" y="251460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6"/>
              <p:cNvSpPr txBox="1"/>
              <p:nvPr/>
            </p:nvSpPr>
            <p:spPr>
              <a:xfrm>
                <a:off x="1371600" y="2514600"/>
                <a:ext cx="620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2895480" y="2514600"/>
                <a:ext cx="489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0"/>
              <p:cNvSpPr txBox="1"/>
              <p:nvPr/>
            </p:nvSpPr>
            <p:spPr>
              <a:xfrm>
                <a:off x="3429000" y="2514600"/>
                <a:ext cx="762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4191120" y="2514600"/>
                <a:ext cx="490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4724280" y="2514600"/>
                <a:ext cx="7495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914400" y="3124080"/>
                <a:ext cx="457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1295280" y="3048120"/>
                <a:ext cx="20574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3352680" y="3048120"/>
                <a:ext cx="4572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2"/>
              <p:cNvSpPr txBox="1"/>
              <p:nvPr/>
            </p:nvSpPr>
            <p:spPr>
              <a:xfrm>
                <a:off x="3809880" y="3048120"/>
                <a:ext cx="53352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4"/>
              <p:cNvSpPr txBox="1"/>
              <p:nvPr/>
            </p:nvSpPr>
            <p:spPr>
              <a:xfrm>
                <a:off x="4343400" y="3048120"/>
                <a:ext cx="6397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6"/>
              <p:cNvSpPr txBox="1"/>
              <p:nvPr/>
            </p:nvSpPr>
            <p:spPr>
              <a:xfrm>
                <a:off x="4952880" y="3048120"/>
                <a:ext cx="1067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8"/>
              <p:cNvSpPr txBox="1"/>
              <p:nvPr/>
            </p:nvSpPr>
            <p:spPr>
              <a:xfrm>
                <a:off x="5943600" y="304812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30"/>
              <p:cNvSpPr txBox="1"/>
              <p:nvPr/>
            </p:nvSpPr>
            <p:spPr>
              <a:xfrm>
                <a:off x="6477120" y="3048120"/>
                <a:ext cx="2514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2"/>
              <p:cNvSpPr txBox="1"/>
              <p:nvPr/>
            </p:nvSpPr>
            <p:spPr>
              <a:xfrm>
                <a:off x="1219320" y="4038480"/>
                <a:ext cx="2514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ау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34"/>
              <p:cNvSpPr txBox="1"/>
              <p:nvPr/>
            </p:nvSpPr>
            <p:spPr>
              <a:xfrm>
                <a:off x="838080" y="4648320"/>
                <a:ext cx="60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3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6"/>
              <p:cNvSpPr txBox="1"/>
              <p:nvPr/>
            </p:nvSpPr>
            <p:spPr>
              <a:xfrm>
                <a:off x="2438280" y="4572000"/>
                <a:ext cx="16765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TextBox 38"/>
          <p:cNvSpPr/>
          <p:nvPr/>
        </p:nvSpPr>
        <p:spPr>
          <a:xfrm>
            <a:off x="5562720" y="1219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ажд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9"/>
          <p:cNvSpPr/>
          <p:nvPr/>
        </p:nvSpPr>
        <p:spPr>
          <a:xfrm>
            <a:off x="1905120" y="1219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но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0"/>
          <p:cNvSpPr/>
          <p:nvPr/>
        </p:nvSpPr>
        <p:spPr>
          <a:xfrm>
            <a:off x="7315200" y="1219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ногоч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1"/>
          <p:cNvSpPr/>
          <p:nvPr/>
        </p:nvSpPr>
        <p:spPr>
          <a:xfrm>
            <a:off x="4267080" y="1523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ло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39"/>
              <p:cNvSpPr txBox="1"/>
              <p:nvPr/>
            </p:nvSpPr>
            <p:spPr>
              <a:xfrm>
                <a:off x="1981080" y="2514600"/>
                <a:ext cx="728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0"/>
              <p:cNvSpPr txBox="1"/>
              <p:nvPr/>
            </p:nvSpPr>
            <p:spPr>
              <a:xfrm>
                <a:off x="5562720" y="2514600"/>
                <a:ext cx="16761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Box 44"/>
          <p:cNvSpPr/>
          <p:nvPr/>
        </p:nvSpPr>
        <p:spPr>
          <a:xfrm>
            <a:off x="7621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5"/>
          <p:cNvSpPr/>
          <p:nvPr/>
        </p:nvSpPr>
        <p:spPr>
          <a:xfrm>
            <a:off x="1447920" y="4572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а –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вариант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1752480" y="27446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 (2х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1143000" y="3505320"/>
                <a:ext cx="2925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9"/>
          <p:cNvSpPr/>
          <p:nvPr/>
        </p:nvSpPr>
        <p:spPr>
          <a:xfrm>
            <a:off x="6104880" y="27446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у (4у-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0"/>
              <p:cNvSpPr txBox="1"/>
              <p:nvPr/>
            </p:nvSpPr>
            <p:spPr>
              <a:xfrm>
                <a:off x="5638680" y="3429000"/>
                <a:ext cx="302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работать   правило (алгоритм) умножения одночлена на многочлен и рассмотреть его применение на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вляются ли одночленами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284120" y="1447920"/>
                <a:ext cx="15480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у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1266840" y="2092320"/>
                <a:ext cx="14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8"/>
              <p:cNvSpPr txBox="1"/>
              <p:nvPr/>
            </p:nvSpPr>
            <p:spPr>
              <a:xfrm>
                <a:off x="1271520" y="2666880"/>
                <a:ext cx="1592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1273320" y="3308400"/>
                <a:ext cx="849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278000" y="3962520"/>
                <a:ext cx="8506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4"/>
              <p:cNvSpPr txBox="1"/>
              <p:nvPr/>
            </p:nvSpPr>
            <p:spPr>
              <a:xfrm>
                <a:off x="1066680" y="4495680"/>
                <a:ext cx="1998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полнить умножение степе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538200" y="1981080"/>
                <a:ext cx="4335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366840" y="3505320"/>
                <a:ext cx="3730320" cy="14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5105520" y="2057400"/>
                <a:ext cx="19270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181480" y="3581280"/>
                <a:ext cx="162576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полнить возведение в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666720" y="2133720"/>
                <a:ext cx="3390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474840" y="3657600"/>
                <a:ext cx="3762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4906800" y="2104920"/>
                <a:ext cx="19576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029200" y="3733920"/>
                <a:ext cx="2119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иведите подобные члены многочл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33520" y="2971800"/>
                <a:ext cx="46004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33520" y="4114800"/>
                <a:ext cx="64688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5410080" y="2971800"/>
                <a:ext cx="2540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6934320" y="4114800"/>
                <a:ext cx="2058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Раскрыть скоб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380880" y="1828800"/>
                <a:ext cx="5238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304920" y="3505320"/>
                <a:ext cx="57099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5562720" y="1905120"/>
                <a:ext cx="3492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2133720" y="4495680"/>
                <a:ext cx="4860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3036960" y="5486400"/>
                <a:ext cx="3397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                                 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3"/>
              <p:cNvSpPr txBox="1"/>
              <p:nvPr/>
            </p:nvSpPr>
            <p:spPr>
              <a:xfrm>
                <a:off x="762120" y="3276720"/>
                <a:ext cx="3906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2"/>
              <p:cNvSpPr txBox="1"/>
              <p:nvPr/>
            </p:nvSpPr>
            <p:spPr>
              <a:xfrm>
                <a:off x="5715000" y="3276720"/>
                <a:ext cx="2362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44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1                                        Вари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1600200" y="2743200"/>
                <a:ext cx="1714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5410080" y="2819520"/>
                <a:ext cx="18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Rectangle 6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7-12-17T06:19:2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