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D37-E930-45A1-B22F-8C461507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7D3-5C7C-4CE8-884F-29497BE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D32-E4D2-4BF5-A98F-FD82579B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CAB-D166-4296-B26E-D1F9B3F0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00EC-4E73-416A-BA75-FCB0FA12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B1B3-BFFE-48F2-A4E9-56F023BB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1E3-4748-4729-9B4A-4D902311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FB8-28C8-45AC-9B32-6825E7F0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E273-2DF7-4F3E-95D4-3F4B654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A1E-86E0-4BE4-91C4-9B50742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5460-CD5B-40DF-BF87-D4AAC9F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948-4938-45EF-8580-3C3D5964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33E8-A4C6-4EA5-BA86-4957000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A48-FA76-483C-8683-1004FF2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B50E-3476-421B-B5B9-42F0EAD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84B-36C4-4FAD-8037-4129621B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117D-D994-4A2F-A2CA-287AD345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8651-3A65-43BF-92DB-7BCC4F0E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C384-CAA5-4C1B-97C2-0743979F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0B57-EFD3-4550-B34B-EFB16E2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D19B-C06B-4F84-9946-2CFA0DA2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F0B6-D507-410F-9BB0-E6D44D6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D9B-53CD-4CF0-A11B-8897D9A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76A5-DD75-40AA-8F0B-419A59E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86D1-6489-4BCB-871F-49405BB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9D25-C0CE-443A-BACF-D1A7F3F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1A52-8655-4D50-856F-9B217C8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B3D1-A00A-4F91-8A78-F7856E7D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9C7E-50DC-4DF8-BD48-39C1C814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8872-B52B-4141-BC79-718AF3B8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369A-3854-4191-89A7-17D1EC65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E980-86C9-4BC3-BB58-A26F4CA9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694F-3EBD-47B1-B06C-0E61D28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882-A0DD-40F3-987F-C96F21B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34EE-B0EE-4EDE-8B64-D6919C52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95DD-4C42-41D0-AE40-AE2C28F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1DFB-88EC-4F49-A79D-8A4F0842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645D-8950-4AE7-A872-BCFCF04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D9E6-3E6C-4449-A1D5-EEC454A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8232-ECCD-4EAD-9586-B980900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2C58-59FF-4E62-B541-59335E0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03C3-0F6C-4111-A040-BA81E88D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11F7-8447-4760-ACF0-4B6EC2D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FD2-9734-4BDA-84C5-183883A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A53-DF8F-4C36-BF3B-7593A7A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846-9E6F-4272-BE4B-A4BF511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0D7-A16D-4298-8CDD-2C87AD3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A0D-56BC-42CF-A737-3D85CDE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7B72-304C-4F9C-ABA5-F90EB58774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A0F-B5F0-46CB-9691-98B85F3C98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5068-D6A3-475D-BA9C-8E291A98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95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66C3-5A9A-4EAB-A211-5CD137F82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36666"/>
                </a:solidFill>
                <a:latin typeface="Arial Black"/>
              </a:rPr>
              <a:t>Роль универсальных учебных действий в  системе современного общего образования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0680" y="3852360"/>
            <a:ext cx="541332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к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Постановка и решение пробл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0" name="Freeform 2"/>
          <p:cNvSpPr/>
          <p:nvPr/>
        </p:nvSpPr>
        <p:spPr>
          <a:xfrm rot="20954400">
            <a:off x="2413080" y="3041280"/>
            <a:ext cx="3132000" cy="2498760"/>
          </a:xfrm>
          <a:custGeom>
            <a:avLst/>
            <a:gdLst>
              <a:gd name="textAreaLeft" fmla="*/ 0 w 3132000"/>
              <a:gd name="textAreaRight" fmla="*/ 3132360 w 3132000"/>
              <a:gd name="textAreaTop" fmla="*/ 0 h 2498760"/>
              <a:gd name="textAreaBottom" fmla="*/ 2499120 h 24987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ead88a"/>
              </a:gs>
              <a:gs pos="100000">
                <a:srgbClr val="cc9900"/>
              </a:gs>
            </a:gsLst>
            <a:lin ang="3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 rot="10552800">
            <a:off x="3568320" y="2063880"/>
            <a:ext cx="3314880" cy="241776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996e3"/>
              </a:gs>
              <a:gs pos="50000">
                <a:srgbClr val="afcef7"/>
              </a:gs>
              <a:gs pos="100000">
                <a:srgbClr val="4996e3"/>
              </a:gs>
            </a:gsLst>
            <a:lin ang="1374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68160" y="170172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формулировани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341960" y="4741920"/>
            <a:ext cx="43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амостоятельное создание способов решения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6666"/>
                </a:solidFill>
                <a:latin typeface="Arial Black"/>
              </a:rPr>
              <a:t>Коммуникативные УУД</a:t>
            </a:r>
            <a:endParaRPr b="0" lang="en-US" sz="5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5" name="Text Box 47"/>
          <p:cNvSpPr/>
          <p:nvPr/>
        </p:nvSpPr>
        <p:spPr>
          <a:xfrm>
            <a:off x="468360" y="2997360"/>
            <a:ext cx="237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ирование учебного сотрудничества с учителем и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6"/>
          <p:cNvSpPr/>
          <p:nvPr/>
        </p:nvSpPr>
        <p:spPr>
          <a:xfrm>
            <a:off x="2411280" y="177336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 достаточной полнотой и точностью выражать свои мысли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6443640" y="32860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поведением партнёра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2484360" y="5591160"/>
            <a:ext cx="19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0"/>
          <p:cNvSpPr/>
          <p:nvPr/>
        </p:nvSpPr>
        <p:spPr>
          <a:xfrm>
            <a:off x="5867280" y="55357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ешение конфли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2637000"/>
            <a:ext cx="3887640" cy="2736720"/>
          </a:xfrm>
          <a:prstGeom prst="star5">
            <a:avLst/>
          </a:prstGeom>
          <a:solidFill>
            <a:srgbClr val="cce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25600" y="198864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Bookman Old Style"/>
              </a:rPr>
              <a:t>Работа с одарённ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Bookman Old Style"/>
              </a:rPr>
              <a:t>деть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Bookman Old Style"/>
              </a:rPr>
              <a:t>на уроках русского я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ОДАРЕННЫЕ ДЕТИ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64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ШКОЛЬНИКИ С ВЫСОКО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ОЗНАВАТЕЛЬНОЙ АКТИВНОСТЬЮ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99900"/>
                </a:solidFill>
                <a:latin typeface="Garamond"/>
              </a:rPr>
              <a:t>Фонетическое задание</a:t>
            </a:r>
            <a:endParaRPr b="0" lang="en-US" sz="6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уровен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итать количество букв и звуков в слове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2637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3 буквы, 4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3141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уровен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ть транскрипцию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4653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уровен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сти примеры слов, в которых количество букв и звуков не сов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2000" y="4149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[</a:t>
            </a:r>
            <a:r>
              <a:rPr b="1" lang="ru-RU" sz="2400" spc="-1" strike="noStrike">
                <a:solidFill>
                  <a:srgbClr val="0066ff"/>
                </a:solidFill>
                <a:latin typeface="Verdana"/>
              </a:rPr>
              <a:t>й</a:t>
            </a: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’</a:t>
            </a:r>
            <a:r>
              <a:rPr b="1" lang="ru-RU" sz="2400" spc="-1" strike="noStrike">
                <a:solidFill>
                  <a:srgbClr val="0066ff"/>
                </a:solidFill>
                <a:latin typeface="Verdana"/>
              </a:rPr>
              <a:t>эщ</a:t>
            </a: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’</a:t>
            </a:r>
            <a:r>
              <a:rPr b="1" lang="ru-RU" sz="2400" spc="-1" strike="noStrike">
                <a:solidFill>
                  <a:srgbClr val="0066ff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40360" y="6021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яма, юла, втроём, гвоз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кие слова получатся, если в слов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куль, ноль, лей, лё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звуки произноси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обратном поряд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4067280" y="3645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(люк, лён, ель, нол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дбери  и запиши слова, соответствующие схем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328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  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е   … 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43340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   …  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5300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…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ы   … 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3357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Зелень, ремен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08440" y="4292640"/>
            <a:ext cx="41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Щука, чу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9440" y="522936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Мыш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99900"/>
                </a:solidFill>
                <a:latin typeface="Garamond"/>
              </a:rPr>
              <a:t>СЛОВО И СЛОГ</a:t>
            </a:r>
            <a:endParaRPr b="0" lang="en-US" sz="6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17002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каждого слова каждой строчки возьмите по одному слогу, образуйте и запишите нов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3789360"/>
            <a:ext cx="54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Красота, капитан, слива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Сапоги, парашют, фантазия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Косари, заморозки, полёт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30680" y="375444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3040" y="44370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сараф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86120" y="504828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самол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1280" y="285264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олик, вата, ткачи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алка, баранка, шкатул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лот, ондат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ежинка, гирь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1484280"/>
            <a:ext cx="838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слов каждой строчки составьте новое, используя для этого их первые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797200"/>
            <a:ext cx="23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кров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руб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п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47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Обыч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читайте, путем перестановки букв и слогов составьте слова и запишите их. Подчеркните лишнее слово, объясните, почему оно лиш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ыстачй, лодевой, мучезанный, горазв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5157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Verdana"/>
              </a:rPr>
              <a:t>(частный, деловой, замученный, </a:t>
            </a:r>
            <a:r>
              <a:rPr b="1" i="1" lang="en-US" sz="2400" spc="-1" strike="noStrike" u="sng">
                <a:solidFill>
                  <a:srgbClr val="3366ff"/>
                </a:solidFill>
                <a:uFillTx/>
                <a:latin typeface="Verdana"/>
              </a:rPr>
              <a:t>разговор</a:t>
            </a:r>
            <a:r>
              <a:rPr b="1" lang="en-US" sz="2400" spc="-1" strike="noStrike" u="sng">
                <a:solidFill>
                  <a:srgbClr val="3366ff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онятие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307800" y="1773360"/>
            <a:ext cx="3961080" cy="4464000"/>
          </a:xfrm>
          <a:custGeom>
            <a:avLst/>
            <a:gdLst>
              <a:gd name="textAreaLeft" fmla="*/ 193320 w 3961080"/>
              <a:gd name="textAreaRight" fmla="*/ 3767760 w 3961080"/>
              <a:gd name="textAreaTop" fmla="*/ 193320 h 4464000"/>
              <a:gd name="textAreaBottom" fmla="*/ 4270680 h 4464000"/>
            </a:gdLst>
            <a:ahLst/>
            <a:rect l="textAreaLeft" t="textAreaTop" r="textAreaRight" b="textAreaBottom"/>
            <a:pathLst>
              <a:path w="21600" h="24342">
                <a:moveTo>
                  <a:pt x="3600" y="0"/>
                </a:moveTo>
                <a:arcTo wR="3600" hR="3600" stAng="16200000" swAng="-5400000"/>
                <a:lnTo>
                  <a:pt x="0" y="20742"/>
                </a:lnTo>
                <a:arcTo wR="3600" hR="3600" stAng="10800000" swAng="-5400000"/>
                <a:lnTo>
                  <a:pt x="18000" y="24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40000"/>
            </a:srgbClr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989000"/>
            <a:ext cx="3527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учиться, т.е. способность субъекта к саморазвитию и самосовершенствованию путём сознательного и активного присвоения нового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1773360"/>
            <a:ext cx="3960720" cy="4464000"/>
          </a:xfrm>
          <a:custGeom>
            <a:avLst/>
            <a:gdLst>
              <a:gd name="textAreaLeft" fmla="*/ 193320 w 3960720"/>
              <a:gd name="textAreaRight" fmla="*/ 3767400 w 3960720"/>
              <a:gd name="textAreaTop" fmla="*/ 193320 h 4464000"/>
              <a:gd name="textAreaBottom" fmla="*/ 4270680 h 4464000"/>
            </a:gdLst>
            <a:ahLst/>
            <a:rect l="textAreaLeft" t="textAreaTop" r="textAreaRight" b="textAreaBottom"/>
            <a:pathLst>
              <a:path w="21600" h="24344">
                <a:moveTo>
                  <a:pt x="3600" y="0"/>
                </a:moveTo>
                <a:arcTo wR="3600" hR="3600" stAng="16200000" swAng="-5400000"/>
                <a:lnTo>
                  <a:pt x="0" y="20744"/>
                </a:lnTo>
                <a:arcTo wR="3600" hR="3600" stAng="10800000" swAng="-5400000"/>
                <a:lnTo>
                  <a:pt x="18000" y="243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40000"/>
            </a:srgbClr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99040" y="1762200"/>
            <a:ext cx="403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вокупность 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чащегося, обеспечивающих социальную компетентность, способность к самостоятельному усвоению новых зна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умений, включая организацию этого процесса, культурную идентичность и толеран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разуйте новые слова, переставляя буквы, но не изменяя их количе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755640" y="47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Обыч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9000" y="544500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79240" y="479736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п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38200" y="4149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77440" y="34765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14520" y="2781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ж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48960" y="28274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ж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46800" y="34765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67320" y="41133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зам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00440" y="47973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то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0120" y="5445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з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50920" y="1628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ишите предложения  в порядке следования падежей при склонении, ориентируясь на слово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ис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32590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листом связано здоровье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214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Склонение имён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0800" y="616896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 под  ветром не ломаетс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7480" y="544824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ста гибкая нож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7840" y="47005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лки придают листу пр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7920" y="3979800"/>
            <a:ext cx="83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ним  в лист поступают вода и питательные веществ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1520" y="30528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00080" y="3830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4880" y="452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50920" y="5272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В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4292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8902 L 0.00174 -0.42196 E">
                                      <p:cBhvr>
                                        <p:cTn id="97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12139E-006 L -3.61111E-006 0.4319 E">
                                      <p:cBhvr>
                                        <p:cTn id="100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78035E-008 L -2.77778E-007 -0.21757 E">
                                      <p:cBhvr>
                                        <p:cTn id="103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02312E-006 L 0.00191 0.22219 E">
                                      <p:cBhvr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99900"/>
                </a:solidFill>
                <a:latin typeface="Garamond"/>
              </a:rPr>
              <a:t>ФРАЗЕОЛОГИЗМЫ</a:t>
            </a:r>
            <a:endParaRPr b="0" lang="en-US" sz="6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413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берите к данным устойчивым выражениям противоположные по 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249228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деть слож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Держать ухо во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От рук отб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Во всю ивановскую (крич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На чужой шее сид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03640" y="2492280"/>
            <a:ext cx="39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. Не покладая р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. Ворон 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3. В руки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4. Воды в рот наб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5. Своим горбом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8440" y="162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 русском языке много образных выражений, связанных с водой. Например, «как в воду кануть» -бесследно исчезнуть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1406520"/>
            <a:ext cx="396072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спомните какие устойчивые выражения соответствуют следующим знач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Хранить мол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еще как сказать, неизвестно, каков будет ис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гадал, правильно предска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бивать с толку окружающих, умышленно вносить неразбериху в какой-либо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ыть готовым на любой поступок во имя привязанности,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32360" y="2637000"/>
            <a:ext cx="42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Воды в рот набр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Вилами по воде пис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Как в воду гля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Воду му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И в огонь, и в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99900"/>
                </a:solidFill>
                <a:latin typeface="Garamond"/>
              </a:rPr>
              <a:t>ПОСЛОВИЦЫ</a:t>
            </a:r>
            <a:endParaRPr b="0" lang="en-US" sz="6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1557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 иностранным пословицам и поговоркам подберите подходящие по смыслу 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2492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Когда у меня на ладони волосы вырас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35280" y="58626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В тихом омуте черти в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26200" y="3716280"/>
            <a:ext cx="61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Находясь среди ворон, нужно каркать, как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19000" y="514188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Тихая вода берега под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96200" y="29973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Когда рак на горе свис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98720" y="4437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С волками жить - по-волчьи вы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76360" y="2509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каждой данной пословицы выберите по одному слову  и составьте новую послов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220500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912320"/>
            <a:ext cx="8496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иной похвалы хоть в землю уй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жебоке и солнце не в пору восходи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олома красит гумно, а з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а встречают по одежке, а провожают по у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охота и труд, там и поля цве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551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Землю солнце красит, а человека -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96960" y="2492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настырь, не, уставом, в, ходят, чужой, со, свои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684360" y="15289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данных слов составьте послов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47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Обыч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62640" y="3475080"/>
            <a:ext cx="56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угому, яму, упадешь, не, сам, в, неё, 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5400" y="462744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ю, не, в, дареному, зубы, смотр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83880" y="5680080"/>
            <a:ext cx="77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онишься, за, ни, не, двумя, зайцами, одного, поймаеш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90560" y="2997360"/>
            <a:ext cx="67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В чужой монастырь со своим уставом не хо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71480" y="4076640"/>
            <a:ext cx="71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Не рой яму другому, сам в неё упа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84440" y="5157720"/>
            <a:ext cx="72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Дарёному коню в зубы не смот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623736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За двумя зайцами погонишься – ни одного не пойм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39640" y="2637000"/>
            <a:ext cx="8064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Функции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497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еспечение возможностей обучающегося самостоятельно осуществлять деятельность учения, ставить учебные це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ать и использовать необходимые средства и способы их достижения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ировать и оценивать процесс и результаты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условий для гармоничного развития личности и её самореализации на основе готовности к непрерывному образ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еспечение успешного усвоения зна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ирования умений, навыков и компетентностей в любой предметн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66"/>
                </a:solidFill>
                <a:latin typeface="Arial Black"/>
              </a:rPr>
              <a:t>Виды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708280"/>
            <a:ext cx="3240000" cy="1584360"/>
          </a:xfrm>
          <a:prstGeom prst="ellipse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94400" y="2679840"/>
            <a:ext cx="3240000" cy="1584360"/>
          </a:xfrm>
          <a:prstGeom prst="ellipse">
            <a:avLst/>
          </a:prstGeom>
          <a:solidFill>
            <a:srgbClr val="ffcc99">
              <a:alpha val="40000"/>
            </a:srgbClr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00240" y="4508640"/>
            <a:ext cx="3240000" cy="158436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2240" y="4508640"/>
            <a:ext cx="3240000" cy="1584360"/>
          </a:xfrm>
          <a:prstGeom prst="ellipse">
            <a:avLst/>
          </a:prstGeom>
          <a:solidFill>
            <a:srgbClr val="99ccff">
              <a:alpha val="40000"/>
            </a:srgbClr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771640" y="1844640"/>
            <a:ext cx="1440000" cy="9367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1844640"/>
            <a:ext cx="1296720" cy="100800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635280" y="1916280"/>
            <a:ext cx="720720" cy="26650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1916280"/>
            <a:ext cx="792360" cy="26650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5157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59200" y="5070600"/>
            <a:ext cx="2951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знав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67560" y="3241800"/>
            <a:ext cx="29509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32000" y="5084640"/>
            <a:ext cx="2950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гуля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3213000"/>
            <a:ext cx="2951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Личностные 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5280" y="1773360"/>
            <a:ext cx="2592000" cy="4104720"/>
            <a:chOff x="395280" y="1773360"/>
            <a:chExt cx="2592000" cy="4104720"/>
          </a:xfrm>
        </p:grpSpPr>
        <p:sp>
          <p:nvSpPr>
            <p:cNvPr id="202" name=""/>
            <p:cNvSpPr/>
            <p:nvPr/>
          </p:nvSpPr>
          <p:spPr>
            <a:xfrm>
              <a:off x="395280" y="2152800"/>
              <a:ext cx="2592000" cy="3725280"/>
            </a:xfrm>
            <a:custGeom>
              <a:avLst/>
              <a:gdLst>
                <a:gd name="textAreaLeft" fmla="*/ 126360 w 2592000"/>
                <a:gd name="textAreaRight" fmla="*/ 2465640 w 2592000"/>
                <a:gd name="textAreaTop" fmla="*/ 126360 h 3725280"/>
                <a:gd name="textAreaBottom" fmla="*/ 3598920 h 3725280"/>
              </a:gdLst>
              <a:ahLst/>
              <a:rect l="textAreaLeft" t="textAreaTop" r="textAreaRight" b="textAreaBottom"/>
              <a:pathLst>
                <a:path w="21600" h="31043">
                  <a:moveTo>
                    <a:pt x="3600" y="0"/>
                  </a:moveTo>
                  <a:arcTo wR="3600" hR="3600" stAng="16200000" swAng="-5400000"/>
                  <a:lnTo>
                    <a:pt x="0" y="27443"/>
                  </a:lnTo>
                  <a:arcTo wR="3600" hR="3600" stAng="10800000" swAng="-5400000"/>
                  <a:lnTo>
                    <a:pt x="18000" y="31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72160" y="1773360"/>
              <a:ext cx="950400" cy="82836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05160" y="2133720"/>
            <a:ext cx="2592000" cy="4104720"/>
            <a:chOff x="3305160" y="2133720"/>
            <a:chExt cx="2592000" cy="4104720"/>
          </a:xfrm>
        </p:grpSpPr>
        <p:sp>
          <p:nvSpPr>
            <p:cNvPr id="205" name=""/>
            <p:cNvSpPr/>
            <p:nvPr/>
          </p:nvSpPr>
          <p:spPr>
            <a:xfrm>
              <a:off x="3305160" y="2513160"/>
              <a:ext cx="2592000" cy="3725280"/>
            </a:xfrm>
            <a:custGeom>
              <a:avLst/>
              <a:gdLst>
                <a:gd name="textAreaLeft" fmla="*/ 126360 w 2592000"/>
                <a:gd name="textAreaRight" fmla="*/ 2465640 w 2592000"/>
                <a:gd name="textAreaTop" fmla="*/ 126360 h 3725280"/>
                <a:gd name="textAreaBottom" fmla="*/ 3598920 h 3725280"/>
              </a:gdLst>
              <a:ahLst/>
              <a:rect l="textAreaLeft" t="textAreaTop" r="textAreaRight" b="textAreaBottom"/>
              <a:pathLst>
                <a:path w="21600" h="31043">
                  <a:moveTo>
                    <a:pt x="3600" y="0"/>
                  </a:moveTo>
                  <a:arcTo wR="3600" hR="3600" stAng="16200000" swAng="-5400000"/>
                  <a:lnTo>
                    <a:pt x="0" y="27443"/>
                  </a:lnTo>
                  <a:arcTo wR="3600" hR="3600" stAng="10800000" swAng="-5400000"/>
                  <a:lnTo>
                    <a:pt x="18000" y="310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2040" y="2133720"/>
              <a:ext cx="950400" cy="8283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84800" y="1744560"/>
            <a:ext cx="2592000" cy="4105080"/>
            <a:chOff x="6184800" y="1744560"/>
            <a:chExt cx="2592000" cy="4105080"/>
          </a:xfrm>
        </p:grpSpPr>
        <p:sp>
          <p:nvSpPr>
            <p:cNvPr id="208" name=""/>
            <p:cNvSpPr/>
            <p:nvPr/>
          </p:nvSpPr>
          <p:spPr>
            <a:xfrm>
              <a:off x="6184800" y="2124000"/>
              <a:ext cx="2592000" cy="3725640"/>
            </a:xfrm>
            <a:custGeom>
              <a:avLst/>
              <a:gdLst>
                <a:gd name="textAreaLeft" fmla="*/ 126360 w 2592000"/>
                <a:gd name="textAreaRight" fmla="*/ 2465640 w 2592000"/>
                <a:gd name="textAreaTop" fmla="*/ 126360 h 3725640"/>
                <a:gd name="textAreaBottom" fmla="*/ 3599280 h 3725640"/>
              </a:gdLst>
              <a:ahLst/>
              <a:rect l="textAreaLeft" t="textAreaTop" r="textAreaRight" b="textAreaBottom"/>
              <a:pathLst>
                <a:path w="21600" h="31046">
                  <a:moveTo>
                    <a:pt x="3600" y="0"/>
                  </a:moveTo>
                  <a:arcTo wR="3600" hR="3600" stAng="16200000" swAng="-5400000"/>
                  <a:lnTo>
                    <a:pt x="0" y="27446"/>
                  </a:lnTo>
                  <a:arcTo wR="3600" hR="3600" stAng="10800000" swAng="-5400000"/>
                  <a:lnTo>
                    <a:pt x="18000" y="310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61680" y="1744560"/>
              <a:ext cx="950400" cy="8287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95280" y="2959200"/>
            <a:ext cx="28083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личнос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рофессиональ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жизн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амо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7920" y="3357720"/>
            <a:ext cx="273528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действие смысло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становление обучающимися связи между целью учебной деятельности и её мотив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7640" y="2924280"/>
            <a:ext cx="244800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равств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эт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цени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060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1817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54400" y="21906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340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Регулятивные 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2565360"/>
            <a:ext cx="2087280" cy="649440"/>
          </a:xfrm>
          <a:prstGeom prst="rect">
            <a:avLst/>
          </a:prstGeom>
          <a:solidFill>
            <a:srgbClr val="ccffcc">
              <a:alpha val="40000"/>
            </a:srgbClr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666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целепол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3429000"/>
            <a:ext cx="2087640" cy="6494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35120" y="4365720"/>
            <a:ext cx="2303640" cy="6490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7080" y="5300640"/>
            <a:ext cx="2087280" cy="649440"/>
          </a:xfrm>
          <a:prstGeom prst="rect">
            <a:avLst/>
          </a:prstGeom>
          <a:solidFill>
            <a:srgbClr val="ffcc99">
              <a:alpha val="40000"/>
            </a:srgbClr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7080" y="4365720"/>
            <a:ext cx="2087640" cy="6490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3429000"/>
            <a:ext cx="2087640" cy="6494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2563920"/>
            <a:ext cx="2087280" cy="649080"/>
          </a:xfrm>
          <a:prstGeom prst="rect">
            <a:avLst/>
          </a:prstGeom>
          <a:solidFill>
            <a:srgbClr val="ccffcc">
              <a:alpha val="40000"/>
            </a:srgbClr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8560" y="3490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2280" y="4465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рогноз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537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092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732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0680" y="3500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763640" y="1844640"/>
            <a:ext cx="2232000" cy="6476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00360" y="1916280"/>
            <a:ext cx="1511280" cy="14414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19280" y="1989000"/>
            <a:ext cx="936360" cy="23036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2060640"/>
            <a:ext cx="0" cy="31687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1989000"/>
            <a:ext cx="1008000" cy="23036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76720" y="1916280"/>
            <a:ext cx="1511280" cy="14414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19640" y="1844640"/>
            <a:ext cx="2089080" cy="64764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Познавательные  УУД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1916280"/>
            <a:ext cx="6408720" cy="792000"/>
          </a:xfrm>
          <a:prstGeom prst="rect">
            <a:avLst/>
          </a:prstGeom>
          <a:solidFill>
            <a:srgbClr val="ccffcc">
              <a:alpha val="40000"/>
            </a:srgbClr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учеб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74600" y="3443400"/>
            <a:ext cx="6913800" cy="863640"/>
          </a:xfrm>
          <a:prstGeom prst="rect">
            <a:avLst/>
          </a:prstGeom>
          <a:solidFill>
            <a:srgbClr val="ffcc99">
              <a:alpha val="40000"/>
            </a:srgbClr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997520"/>
            <a:ext cx="8352000" cy="936720"/>
          </a:xfrm>
          <a:prstGeom prst="rect">
            <a:avLst/>
          </a:prstGeom>
          <a:solidFill>
            <a:srgbClr val="99ccff">
              <a:alpha val="40000"/>
            </a:srgbClr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постановка и 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280980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70320" y="442260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Общеучебные универсальные</a:t>
            </a:r>
            <a:br>
              <a:rPr sz="3300"/>
            </a:b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действ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246" name="Прямоугольник 47"/>
          <p:cNvGrpSpPr/>
          <p:nvPr/>
        </p:nvGrpSpPr>
        <p:grpSpPr>
          <a:xfrm>
            <a:off x="468360" y="1916280"/>
            <a:ext cx="4122360" cy="575640"/>
            <a:chOff x="468360" y="1916280"/>
            <a:chExt cx="4122360" cy="575640"/>
          </a:xfrm>
        </p:grpSpPr>
        <p:pic>
          <p:nvPicPr>
            <p:cNvPr id="247" name="Прямоугольник 47" descr=""/>
            <p:cNvPicPr/>
            <p:nvPr/>
          </p:nvPicPr>
          <p:blipFill>
            <a:blip r:embed="rId1">
              <a:alphaModFix amt="40000"/>
            </a:blip>
            <a:stretch/>
          </p:blipFill>
          <p:spPr>
            <a:xfrm>
              <a:off x="468360" y="1916280"/>
              <a:ext cx="4122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84200" y="1936440"/>
              <a:ext cx="4087080" cy="5364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еление познавательной  ц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Прямоугольник 49"/>
          <p:cNvGrpSpPr/>
          <p:nvPr/>
        </p:nvGrpSpPr>
        <p:grpSpPr>
          <a:xfrm>
            <a:off x="523800" y="2611440"/>
            <a:ext cx="3992760" cy="471600"/>
            <a:chOff x="523800" y="2611440"/>
            <a:chExt cx="3992760" cy="471600"/>
          </a:xfrm>
        </p:grpSpPr>
        <p:pic>
          <p:nvPicPr>
            <p:cNvPr id="250" name="Прямоугольник 49" descr=""/>
            <p:cNvPicPr/>
            <p:nvPr/>
          </p:nvPicPr>
          <p:blipFill>
            <a:blip r:embed="rId2">
              <a:alphaModFix amt="40000"/>
            </a:blip>
            <a:stretch/>
          </p:blipFill>
          <p:spPr>
            <a:xfrm>
              <a:off x="523800" y="2611440"/>
              <a:ext cx="39927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39640" y="2628000"/>
              <a:ext cx="3961080" cy="43956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уктурирование  зн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Прямоугольник 50"/>
          <p:cNvGrpSpPr/>
          <p:nvPr/>
        </p:nvGrpSpPr>
        <p:grpSpPr>
          <a:xfrm>
            <a:off x="5219640" y="1916280"/>
            <a:ext cx="3600000" cy="471240"/>
            <a:chOff x="5219640" y="1916280"/>
            <a:chExt cx="3600000" cy="471240"/>
          </a:xfrm>
        </p:grpSpPr>
        <p:pic>
          <p:nvPicPr>
            <p:cNvPr id="253" name="Прямоугольник 50" descr=""/>
            <p:cNvPicPr/>
            <p:nvPr/>
          </p:nvPicPr>
          <p:blipFill>
            <a:blip r:embed="rId3">
              <a:alphaModFix amt="40000"/>
            </a:blip>
            <a:stretch/>
          </p:blipFill>
          <p:spPr>
            <a:xfrm>
              <a:off x="5219640" y="1916280"/>
              <a:ext cx="360000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244480" y="1932840"/>
              <a:ext cx="3554280" cy="43884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иск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Прямоугольник 51"/>
          <p:cNvGrpSpPr/>
          <p:nvPr/>
        </p:nvGrpSpPr>
        <p:grpSpPr>
          <a:xfrm>
            <a:off x="523800" y="3371760"/>
            <a:ext cx="3992760" cy="471600"/>
            <a:chOff x="523800" y="3371760"/>
            <a:chExt cx="3992760" cy="471600"/>
          </a:xfrm>
        </p:grpSpPr>
        <p:pic>
          <p:nvPicPr>
            <p:cNvPr id="256" name="Прямоугольник 51" descr=""/>
            <p:cNvPicPr/>
            <p:nvPr/>
          </p:nvPicPr>
          <p:blipFill>
            <a:blip r:embed="rId4">
              <a:alphaModFix amt="40000"/>
            </a:blip>
            <a:stretch/>
          </p:blipFill>
          <p:spPr>
            <a:xfrm>
              <a:off x="523800" y="3371760"/>
              <a:ext cx="39927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39640" y="3385800"/>
              <a:ext cx="3961080" cy="4392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бор способов решения за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Прямоугольник 53"/>
          <p:cNvGrpSpPr/>
          <p:nvPr/>
        </p:nvGrpSpPr>
        <p:grpSpPr>
          <a:xfrm>
            <a:off x="539640" y="4149720"/>
            <a:ext cx="3992760" cy="471600"/>
            <a:chOff x="539640" y="4149720"/>
            <a:chExt cx="3992760" cy="471600"/>
          </a:xfrm>
        </p:grpSpPr>
        <p:pic>
          <p:nvPicPr>
            <p:cNvPr id="259" name="Прямоугольник 53" descr=""/>
            <p:cNvPicPr/>
            <p:nvPr/>
          </p:nvPicPr>
          <p:blipFill>
            <a:blip r:embed="rId5">
              <a:alphaModFix amt="40000"/>
            </a:blip>
            <a:stretch/>
          </p:blipFill>
          <p:spPr>
            <a:xfrm>
              <a:off x="539640" y="4149720"/>
              <a:ext cx="39927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55480" y="4167720"/>
              <a:ext cx="3961080" cy="43956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ысловое чт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Прямоугольник 55"/>
          <p:cNvGrpSpPr/>
          <p:nvPr/>
        </p:nvGrpSpPr>
        <p:grpSpPr>
          <a:xfrm>
            <a:off x="5219640" y="3371760"/>
            <a:ext cx="3600000" cy="471600"/>
            <a:chOff x="5219640" y="3371760"/>
            <a:chExt cx="3600000" cy="471600"/>
          </a:xfrm>
        </p:grpSpPr>
        <p:pic>
          <p:nvPicPr>
            <p:cNvPr id="262" name="Прямоугольник 55" descr=""/>
            <p:cNvPicPr/>
            <p:nvPr/>
          </p:nvPicPr>
          <p:blipFill>
            <a:blip r:embed="rId6">
              <a:alphaModFix amt="40000"/>
            </a:blip>
            <a:stretch/>
          </p:blipFill>
          <p:spPr>
            <a:xfrm>
              <a:off x="5219640" y="3371760"/>
              <a:ext cx="36000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244480" y="3385800"/>
              <a:ext cx="3554280" cy="4392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ь и оценка процес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Прямоугольник 57"/>
          <p:cNvGrpSpPr/>
          <p:nvPr/>
        </p:nvGrpSpPr>
        <p:grpSpPr>
          <a:xfrm>
            <a:off x="5219640" y="2611440"/>
            <a:ext cx="3600000" cy="471600"/>
            <a:chOff x="5219640" y="2611440"/>
            <a:chExt cx="3600000" cy="471600"/>
          </a:xfrm>
        </p:grpSpPr>
        <p:pic>
          <p:nvPicPr>
            <p:cNvPr id="265" name="Прямоугольник 57" descr=""/>
            <p:cNvPicPr/>
            <p:nvPr/>
          </p:nvPicPr>
          <p:blipFill>
            <a:blip r:embed="rId7">
              <a:alphaModFix amt="40000"/>
            </a:blip>
            <a:stretch/>
          </p:blipFill>
          <p:spPr>
            <a:xfrm>
              <a:off x="5219640" y="2611440"/>
              <a:ext cx="36000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244120" y="2628000"/>
              <a:ext cx="3552840" cy="43956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чевое разви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Прямоугольник 59"/>
          <p:cNvGrpSpPr/>
          <p:nvPr/>
        </p:nvGrpSpPr>
        <p:grpSpPr>
          <a:xfrm>
            <a:off x="5219640" y="4125960"/>
            <a:ext cx="3600000" cy="471600"/>
            <a:chOff x="5219640" y="4125960"/>
            <a:chExt cx="3600000" cy="471600"/>
          </a:xfrm>
        </p:grpSpPr>
        <p:pic>
          <p:nvPicPr>
            <p:cNvPr id="268" name="Прямоугольник 59" descr=""/>
            <p:cNvPicPr/>
            <p:nvPr/>
          </p:nvPicPr>
          <p:blipFill>
            <a:blip r:embed="rId8">
              <a:alphaModFix amt="40000"/>
            </a:blip>
            <a:stretch/>
          </p:blipFill>
          <p:spPr>
            <a:xfrm>
              <a:off x="5219640" y="4125960"/>
              <a:ext cx="36000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244480" y="4143960"/>
              <a:ext cx="3554280" cy="43956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Прямоугольник 61"/>
          <p:cNvGrpSpPr/>
          <p:nvPr/>
        </p:nvGrpSpPr>
        <p:grpSpPr>
          <a:xfrm>
            <a:off x="811080" y="4886280"/>
            <a:ext cx="7521840" cy="469800"/>
            <a:chOff x="811080" y="4886280"/>
            <a:chExt cx="7521840" cy="469800"/>
          </a:xfrm>
        </p:grpSpPr>
        <p:pic>
          <p:nvPicPr>
            <p:cNvPr id="271" name="Прямоугольник 61" descr=""/>
            <p:cNvPicPr/>
            <p:nvPr/>
          </p:nvPicPr>
          <p:blipFill>
            <a:blip r:embed="rId9">
              <a:alphaModFix amt="66000"/>
            </a:blip>
            <a:stretch/>
          </p:blipFill>
          <p:spPr>
            <a:xfrm>
              <a:off x="811080" y="4886280"/>
              <a:ext cx="7521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26920" y="4902840"/>
              <a:ext cx="7490160" cy="437400"/>
            </a:xfrm>
            <a:prstGeom prst="rect">
              <a:avLst/>
            </a:prstGeom>
            <a:solidFill>
              <a:srgbClr val="ccec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знаково-символические действ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Прямоугольник 31"/>
          <p:cNvGrpSpPr/>
          <p:nvPr/>
        </p:nvGrpSpPr>
        <p:grpSpPr>
          <a:xfrm>
            <a:off x="1023840" y="5710320"/>
            <a:ext cx="3279960" cy="471240"/>
            <a:chOff x="1023840" y="5710320"/>
            <a:chExt cx="3279960" cy="471240"/>
          </a:xfrm>
        </p:grpSpPr>
        <p:pic>
          <p:nvPicPr>
            <p:cNvPr id="274" name="Прямоугольник 31" descr=""/>
            <p:cNvPicPr/>
            <p:nvPr/>
          </p:nvPicPr>
          <p:blipFill>
            <a:blip r:embed="rId10">
              <a:alphaModFix amt="75000"/>
            </a:blip>
            <a:stretch/>
          </p:blipFill>
          <p:spPr>
            <a:xfrm>
              <a:off x="1023840" y="5710320"/>
              <a:ext cx="327996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042920" y="5724000"/>
              <a:ext cx="3241800" cy="439200"/>
            </a:xfrm>
            <a:prstGeom prst="rect">
              <a:avLst/>
            </a:prstGeom>
            <a:solidFill>
              <a:srgbClr val="ccec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Прямоугольник 32"/>
          <p:cNvGrpSpPr/>
          <p:nvPr/>
        </p:nvGrpSpPr>
        <p:grpSpPr>
          <a:xfrm>
            <a:off x="4767120" y="5710320"/>
            <a:ext cx="3407040" cy="471240"/>
            <a:chOff x="4767120" y="5710320"/>
            <a:chExt cx="3407040" cy="471240"/>
          </a:xfrm>
        </p:grpSpPr>
        <p:pic>
          <p:nvPicPr>
            <p:cNvPr id="277" name="Прямоугольник 32" descr=""/>
            <p:cNvPicPr/>
            <p:nvPr/>
          </p:nvPicPr>
          <p:blipFill>
            <a:blip r:embed="rId11">
              <a:alphaModFix amt="75000"/>
            </a:blip>
            <a:stretch/>
          </p:blipFill>
          <p:spPr>
            <a:xfrm>
              <a:off x="4767120" y="5710320"/>
              <a:ext cx="340704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788000" y="5724000"/>
              <a:ext cx="3368520" cy="439200"/>
            </a:xfrm>
            <a:prstGeom prst="rect">
              <a:avLst/>
            </a:prstGeom>
            <a:solidFill>
              <a:srgbClr val="ccec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еобразование мод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2" descr="C:\Users\Света\Pictures\картинки к презентациям\анимация\стрелки\ar19.gif"/>
          <p:cNvPicPr/>
          <p:nvPr/>
        </p:nvPicPr>
        <p:blipFill>
          <a:blip r:embed="rId12"/>
          <a:stretch/>
        </p:blipFill>
        <p:spPr>
          <a:xfrm rot="2361000">
            <a:off x="5924160" y="5376600"/>
            <a:ext cx="465120" cy="30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Света\Pictures\картинки к презентациям\анимация\стрелки\ar19.gif"/>
          <p:cNvPicPr/>
          <p:nvPr/>
        </p:nvPicPr>
        <p:blipFill>
          <a:blip r:embed="rId13"/>
          <a:stretch/>
        </p:blipFill>
        <p:spPr>
          <a:xfrm rot="7760400">
            <a:off x="3135960" y="5364720"/>
            <a:ext cx="408240" cy="342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Света\Pictures\картинки к презентациям\анимация\стрелки\ar19.gif"/>
          <p:cNvPicPr/>
          <p:nvPr/>
        </p:nvPicPr>
        <p:blipFill>
          <a:blip r:embed="rId14"/>
          <a:stretch/>
        </p:blipFill>
        <p:spPr>
          <a:xfrm rot="5400000">
            <a:off x="4655160" y="4366440"/>
            <a:ext cx="4078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 Black"/>
              </a:rPr>
              <a:t>Логические универсальные действ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283" name="Прямоугольник 67"/>
          <p:cNvGrpSpPr/>
          <p:nvPr/>
        </p:nvGrpSpPr>
        <p:grpSpPr>
          <a:xfrm>
            <a:off x="4653000" y="5262480"/>
            <a:ext cx="4138560" cy="974520"/>
            <a:chOff x="4653000" y="5262480"/>
            <a:chExt cx="4138560" cy="974520"/>
          </a:xfrm>
        </p:grpSpPr>
        <p:pic>
          <p:nvPicPr>
            <p:cNvPr id="284" name="Прямоугольник 67" descr=""/>
            <p:cNvPicPr/>
            <p:nvPr/>
          </p:nvPicPr>
          <p:blipFill>
            <a:blip r:embed="rId1">
              <a:alphaModFix amt="40000"/>
            </a:blip>
            <a:stretch/>
          </p:blipFill>
          <p:spPr>
            <a:xfrm>
              <a:off x="4653000" y="5262480"/>
              <a:ext cx="41385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41920" y="5351400"/>
              <a:ext cx="3959280" cy="7920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движение гипотез и их обосн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Прямоугольник 69"/>
          <p:cNvGrpSpPr/>
          <p:nvPr/>
        </p:nvGrpSpPr>
        <p:grpSpPr>
          <a:xfrm>
            <a:off x="4653000" y="3297240"/>
            <a:ext cx="4138560" cy="976320"/>
            <a:chOff x="4653000" y="3297240"/>
            <a:chExt cx="4138560" cy="976320"/>
          </a:xfrm>
        </p:grpSpPr>
        <p:pic>
          <p:nvPicPr>
            <p:cNvPr id="287" name="Прямоугольник 69" descr=""/>
            <p:cNvPicPr/>
            <p:nvPr/>
          </p:nvPicPr>
          <p:blipFill>
            <a:blip r:embed="rId2">
              <a:alphaModFix amt="40000"/>
            </a:blip>
            <a:stretch/>
          </p:blipFill>
          <p:spPr>
            <a:xfrm>
              <a:off x="4653000" y="3297240"/>
              <a:ext cx="4138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41920" y="3390840"/>
              <a:ext cx="3959280" cy="7920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строение логической цепочки рассужд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Прямоугольник 72"/>
          <p:cNvGrpSpPr/>
          <p:nvPr/>
        </p:nvGrpSpPr>
        <p:grpSpPr>
          <a:xfrm>
            <a:off x="403200" y="2081160"/>
            <a:ext cx="3565440" cy="682560"/>
            <a:chOff x="403200" y="2081160"/>
            <a:chExt cx="3565440" cy="682560"/>
          </a:xfrm>
        </p:grpSpPr>
        <p:pic>
          <p:nvPicPr>
            <p:cNvPr id="290" name="Прямоугольник 72" descr=""/>
            <p:cNvPicPr/>
            <p:nvPr/>
          </p:nvPicPr>
          <p:blipFill>
            <a:blip r:embed="rId3">
              <a:alphaModFix amt="40000"/>
            </a:blip>
            <a:stretch/>
          </p:blipFill>
          <p:spPr>
            <a:xfrm>
              <a:off x="403200" y="2081160"/>
              <a:ext cx="356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93560" y="2170080"/>
              <a:ext cx="3382920" cy="50472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нализ  объек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Прямоугольник 75"/>
          <p:cNvGrpSpPr/>
          <p:nvPr/>
        </p:nvGrpSpPr>
        <p:grpSpPr>
          <a:xfrm>
            <a:off x="4653000" y="4395960"/>
            <a:ext cx="4138560" cy="682560"/>
            <a:chOff x="4653000" y="4395960"/>
            <a:chExt cx="4138560" cy="682560"/>
          </a:xfrm>
        </p:grpSpPr>
        <p:pic>
          <p:nvPicPr>
            <p:cNvPr id="293" name="Прямоугольник 75" descr=""/>
            <p:cNvPicPr/>
            <p:nvPr/>
          </p:nvPicPr>
          <p:blipFill>
            <a:blip r:embed="rId4">
              <a:alphaModFix amt="40000"/>
            </a:blip>
            <a:stretch/>
          </p:blipFill>
          <p:spPr>
            <a:xfrm>
              <a:off x="4653000" y="4395960"/>
              <a:ext cx="4138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41920" y="4488120"/>
              <a:ext cx="3959280" cy="50004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оказатель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Прямоугольник 76"/>
          <p:cNvGrpSpPr/>
          <p:nvPr/>
        </p:nvGrpSpPr>
        <p:grpSpPr>
          <a:xfrm>
            <a:off x="403200" y="2900520"/>
            <a:ext cx="3565440" cy="974520"/>
            <a:chOff x="403200" y="2900520"/>
            <a:chExt cx="3565440" cy="974520"/>
          </a:xfrm>
        </p:grpSpPr>
        <p:pic>
          <p:nvPicPr>
            <p:cNvPr id="296" name="Прямоугольник 76" descr=""/>
            <p:cNvPicPr/>
            <p:nvPr/>
          </p:nvPicPr>
          <p:blipFill>
            <a:blip r:embed="rId5">
              <a:alphaModFix amt="40000"/>
            </a:blip>
            <a:stretch/>
          </p:blipFill>
          <p:spPr>
            <a:xfrm>
              <a:off x="403200" y="2900520"/>
              <a:ext cx="3565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93560" y="2992320"/>
              <a:ext cx="3382920" cy="79164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интез — составление целого из ча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Прямоугольник 78"/>
          <p:cNvGrpSpPr/>
          <p:nvPr/>
        </p:nvGrpSpPr>
        <p:grpSpPr>
          <a:xfrm>
            <a:off x="403200" y="5262480"/>
            <a:ext cx="3492360" cy="974520"/>
            <a:chOff x="403200" y="5262480"/>
            <a:chExt cx="3492360" cy="974520"/>
          </a:xfrm>
        </p:grpSpPr>
        <p:pic>
          <p:nvPicPr>
            <p:cNvPr id="299" name="Прямоугольник 78" descr=""/>
            <p:cNvPicPr/>
            <p:nvPr/>
          </p:nvPicPr>
          <p:blipFill>
            <a:blip r:embed="rId6">
              <a:alphaModFix amt="40000"/>
            </a:blip>
            <a:stretch/>
          </p:blipFill>
          <p:spPr>
            <a:xfrm>
              <a:off x="403200" y="5262480"/>
              <a:ext cx="34923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93560" y="5351400"/>
              <a:ext cx="3311640" cy="79200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дведение под поня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Прямоугольник 82"/>
          <p:cNvGrpSpPr/>
          <p:nvPr/>
        </p:nvGrpSpPr>
        <p:grpSpPr>
          <a:xfrm>
            <a:off x="403200" y="3963960"/>
            <a:ext cx="3492360" cy="1120680"/>
            <a:chOff x="403200" y="3963960"/>
            <a:chExt cx="3492360" cy="1120680"/>
          </a:xfrm>
        </p:grpSpPr>
        <p:pic>
          <p:nvPicPr>
            <p:cNvPr id="302" name="Прямоугольник 82" descr=""/>
            <p:cNvPicPr/>
            <p:nvPr/>
          </p:nvPicPr>
          <p:blipFill>
            <a:blip r:embed="rId7">
              <a:alphaModFix amt="40000"/>
            </a:blip>
            <a:stretch/>
          </p:blipFill>
          <p:spPr>
            <a:xfrm>
              <a:off x="403200" y="3963960"/>
              <a:ext cx="3492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93560" y="4055760"/>
              <a:ext cx="3311640" cy="93528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бор оснований и критериев для срав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Прямоугольник 84"/>
          <p:cNvGrpSpPr/>
          <p:nvPr/>
        </p:nvGrpSpPr>
        <p:grpSpPr>
          <a:xfrm>
            <a:off x="4653000" y="2068560"/>
            <a:ext cx="4138560" cy="1116000"/>
            <a:chOff x="4653000" y="2068560"/>
            <a:chExt cx="4138560" cy="1116000"/>
          </a:xfrm>
        </p:grpSpPr>
        <p:pic>
          <p:nvPicPr>
            <p:cNvPr id="305" name="Прямоугольник 84" descr=""/>
            <p:cNvPicPr/>
            <p:nvPr/>
          </p:nvPicPr>
          <p:blipFill>
            <a:blip r:embed="rId8">
              <a:alphaModFix amt="40000"/>
            </a:blip>
            <a:stretch/>
          </p:blipFill>
          <p:spPr>
            <a:xfrm>
              <a:off x="4653000" y="2068560"/>
              <a:ext cx="4138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41920" y="2157480"/>
              <a:ext cx="3959280" cy="93672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установл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чинно-следственных связ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Штриховая стрелка вправо 31"/>
          <p:cNvSpPr/>
          <p:nvPr/>
        </p:nvSpPr>
        <p:spPr>
          <a:xfrm rot="7408800">
            <a:off x="2129760" y="1753560"/>
            <a:ext cx="432000" cy="358920"/>
          </a:xfrm>
          <a:custGeom>
            <a:avLst/>
            <a:gdLst>
              <a:gd name="textAreaLeft" fmla="*/ 55800 w 432000"/>
              <a:gd name="textAreaRight" fmla="*/ 342360 w 4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431800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close/>
                <a:moveTo>
                  <a:pt x="56059" y="89694"/>
                </a:moveTo>
                <a:lnTo>
                  <a:pt x="252413" y="89694"/>
                </a:lnTo>
                <a:lnTo>
                  <a:pt x="252413" y="0"/>
                </a:lnTo>
                <a:lnTo>
                  <a:pt x="431800" y="179388"/>
                </a:lnTo>
                <a:lnTo>
                  <a:pt x="252413" y="358775"/>
                </a:lnTo>
                <a:lnTo>
                  <a:pt x="252413" y="269081"/>
                </a:lnTo>
                <a:lnTo>
                  <a:pt x="56059" y="269081"/>
                </a:lnTo>
                <a:close/>
              </a:path>
            </a:pathLst>
          </a:custGeom>
          <a:solidFill>
            <a:srgbClr val="97cdcc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Штриховая стрелка вправо 32"/>
          <p:cNvSpPr/>
          <p:nvPr/>
        </p:nvSpPr>
        <p:spPr>
          <a:xfrm rot="3141600">
            <a:off x="6298560" y="1743120"/>
            <a:ext cx="432000" cy="358920"/>
          </a:xfrm>
          <a:custGeom>
            <a:avLst/>
            <a:gdLst>
              <a:gd name="textAreaLeft" fmla="*/ 55800 w 432000"/>
              <a:gd name="textAreaRight" fmla="*/ 342360 w 4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431800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close/>
                <a:moveTo>
                  <a:pt x="56059" y="89694"/>
                </a:moveTo>
                <a:lnTo>
                  <a:pt x="252413" y="89694"/>
                </a:lnTo>
                <a:lnTo>
                  <a:pt x="252413" y="0"/>
                </a:lnTo>
                <a:lnTo>
                  <a:pt x="431800" y="179388"/>
                </a:lnTo>
                <a:lnTo>
                  <a:pt x="252413" y="358775"/>
                </a:lnTo>
                <a:lnTo>
                  <a:pt x="252413" y="269081"/>
                </a:lnTo>
                <a:lnTo>
                  <a:pt x="56059" y="269081"/>
                </a:lnTo>
                <a:close/>
              </a:path>
            </a:pathLst>
          </a:custGeom>
          <a:solidFill>
            <a:srgbClr val="97cdcc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9:55:16Z</dcterms:created>
  <dc:creator>1</dc:creator>
  <dc:description/>
  <dc:language>en-US</dc:language>
  <cp:lastModifiedBy>1</cp:lastModifiedBy>
  <dcterms:modified xsi:type="dcterms:W3CDTF">2011-12-11T13:20:50Z</dcterms:modified>
  <cp:revision>74</cp:revision>
  <dc:subject/>
  <dc:title>УНИВЕРСАЛЬНЫЕ УЧЕБНЫЕ ДЕЙСТВИЯ</dc:title>
</cp:coreProperties>
</file>