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5A6-5F2A-4498-8714-FE2E524A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151-3926-46CE-ACA1-FC2620DE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073-1E90-4D88-BF26-9A621C6F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581-70A1-454E-B134-65D2A491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76C-AD07-4ECE-8994-92CDD63C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24C5-70A8-47AA-AF65-F8A65751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0B72-9F41-4123-A978-C947499C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4809-A7C8-47B4-89E3-70D78BA9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21D4-0675-4408-8CDF-94C5426C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57E7-9864-4528-B0B1-41460EB1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01BE-CA9E-4F2C-94A4-42FD9205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474-8D47-4020-ADD6-D3C63A30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3A29-ED6A-4948-A0E8-F4C9FEC6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655E-0471-431F-BFC8-A69BFA02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11B9-F4A4-4E6A-9E3B-B847C8B5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A336-8DCC-4D50-9259-6D18D807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A829-ADE1-482C-A311-82D38C20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BAC-6D1C-4A31-88AE-627AA81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2A8-523C-4025-B6E4-1381F60C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2AE-B560-4132-8062-8750B1EF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6F3-EEE9-4552-9A6C-F4174A87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A2E-D07A-4602-A451-401EE6F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D5E-900E-41A8-9279-17D71F5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4A6-5C0A-4485-85C7-95A9C717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809E-DF56-4FE0-AE95-B86D89A0DE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F25-33CF-4465-ADE4-CD8966EBB0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66"/>
                </a:solidFill>
                <a:latin typeface="Arial"/>
              </a:rPr>
              <a:t>«В жостовском   подносе - все цветы России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13" descr="230[1]"/>
          <p:cNvPicPr/>
          <p:nvPr/>
        </p:nvPicPr>
        <p:blipFill>
          <a:blip r:embed="rId1"/>
          <a:stretch/>
        </p:blipFill>
        <p:spPr>
          <a:xfrm>
            <a:off x="2411280" y="2781360"/>
            <a:ext cx="4897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235[2]"/>
          <p:cNvPicPr/>
          <p:nvPr/>
        </p:nvPicPr>
        <p:blipFill>
          <a:blip r:embed="rId1"/>
          <a:stretch/>
        </p:blipFill>
        <p:spPr>
          <a:xfrm>
            <a:off x="1332000" y="549360"/>
            <a:ext cx="734364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post-45623-1190549091[1]"/>
          <p:cNvPicPr/>
          <p:nvPr/>
        </p:nvPicPr>
        <p:blipFill>
          <a:blip r:embed="rId1"/>
          <a:stretch/>
        </p:blipFill>
        <p:spPr>
          <a:xfrm>
            <a:off x="2843280" y="620640"/>
            <a:ext cx="446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208[1]"/>
          <p:cNvPicPr/>
          <p:nvPr/>
        </p:nvPicPr>
        <p:blipFill>
          <a:blip r:embed="rId1"/>
          <a:stretch/>
        </p:blipFill>
        <p:spPr>
          <a:xfrm>
            <a:off x="1332000" y="333360"/>
            <a:ext cx="720072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Основные компози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Picture 6" descr="P310[1]"/>
          <p:cNvPicPr/>
          <p:nvPr/>
        </p:nvPicPr>
        <p:blipFill>
          <a:blip r:embed="rId1"/>
          <a:stretch/>
        </p:blipFill>
        <p:spPr>
          <a:xfrm>
            <a:off x="2700360" y="1609560"/>
            <a:ext cx="475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post-80-1212588978[1]"/>
          <p:cNvPicPr/>
          <p:nvPr/>
        </p:nvPicPr>
        <p:blipFill>
          <a:blip r:embed="rId1"/>
          <a:stretch/>
        </p:blipFill>
        <p:spPr>
          <a:xfrm>
            <a:off x="971640" y="549360"/>
            <a:ext cx="77119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260280"/>
            <a:ext cx="7313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Этапы  росписи  жостовских  подносов.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5f5f"/>
                </a:solidFill>
                <a:latin typeface="Verdana"/>
              </a:rPr>
              <a:t>Грунтов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5f5f"/>
                </a:solidFill>
                <a:latin typeface="Verdana"/>
              </a:rPr>
              <a:t>Замалев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5f5f"/>
                </a:solidFill>
                <a:latin typeface="Verdana"/>
              </a:rPr>
              <a:t>Тенеж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5f5f"/>
                </a:solidFill>
                <a:latin typeface="Verdana"/>
              </a:rPr>
              <a:t>Проклад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5f5f"/>
                </a:solidFill>
                <a:latin typeface="Verdana"/>
              </a:rPr>
              <a:t>Бликов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5f5f"/>
                </a:solidFill>
                <a:latin typeface="Verdana"/>
              </a:rPr>
              <a:t>Чертеж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5f5f"/>
                </a:solidFill>
                <a:latin typeface="Verdana"/>
              </a:rPr>
              <a:t>Привяз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5f5f"/>
                </a:solidFill>
                <a:latin typeface="Verdana"/>
              </a:rPr>
              <a:t>Убор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45370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Грунтов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Прежде чем художник начнет расписывать металлическую заготовку подноса, её грунтуют, шпаклюют, шлифуют и покрывают лаком. На этом этапе выбирают цвет для фона. Чаще всего он бывает чёрным, но может быть и белым, красным, синим, бирюзовым и т. д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5243400" y="182736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Замалёвок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Начало и основа композиции будущего узор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Разбавленной краской на подготовленную поверхность художник наносит силуэты цветов и листьев в соответствии со своим замысл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5245200" y="1844640"/>
            <a:ext cx="324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Тенёж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Следующий этап росписи после замалёвк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Полупрозрачными красками художник наносит цветные тени. Слово «тенёжка»—созвучно слову «тень». У цветов появляется объём, обозначаются теневые места расте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246640" y="184464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оклад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Пожалуй, самый ответственный этап послойного жостовского письма. Форма букета обретает плоть - уточняются многие детали, высветляется и реализуется контрастный или более гармоничный строй всей композици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273640" y="1827360"/>
            <a:ext cx="323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.М.Кустодиев «Купчиха за чаем»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Picture 5" descr="Kustodiev_Merchants_Wife"/>
          <p:cNvPicPr/>
          <p:nvPr/>
        </p:nvPicPr>
        <p:blipFill>
          <a:blip r:embed="rId1"/>
          <a:stretch/>
        </p:blipFill>
        <p:spPr>
          <a:xfrm>
            <a:off x="2484360" y="1557360"/>
            <a:ext cx="4700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Бликов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Наложение  бликов  выявляет  свет  и объе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Букет  кажется  освещенным множеством  независимых  источников света.  Бликовка  создает  настроение  и  колорит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5234040" y="1827360"/>
            <a:ext cx="3316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Чертёж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Это заключительная часть работы над букетом. При помощи специальной тонкой кисти художник наносит небольшие, но очень значительные штрихи — рисует прожилки и кружевные края на листочках, «семенца» в центре чашечек цвет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211720" y="184464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ивяз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Предпоследний этап росписи подноса, когда уже готовый букет как бы вживается в фон изделия. При помощи тонких стебельков, травинок и усиков букет оформляется в единое целое и связывается с фон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5281560" y="1844640"/>
            <a:ext cx="317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Убор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5f5f5f"/>
                </a:solidFill>
                <a:latin typeface="Verdana"/>
              </a:rPr>
              <a:t>Украшение борта подноса, состоящее из геометрических или растительных узоров. Уборка может быть скромной, а может соперничать с роскошными старинными рамами для картин. Без уборки изделие выглядит незаконченны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178600" y="1844640"/>
            <a:ext cx="337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pic1656[1]"/>
          <p:cNvPicPr/>
          <p:nvPr/>
        </p:nvPicPr>
        <p:blipFill>
          <a:blip r:embed="rId1"/>
          <a:stretch/>
        </p:blipFill>
        <p:spPr>
          <a:xfrm>
            <a:off x="1835280" y="549360"/>
            <a:ext cx="648000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Вопросы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В чем особенности жостовской роспис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Назовите основные формы подносов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В каких еще народных промыслах используются цветочные композици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samovar1[1]"/>
          <p:cNvPicPr/>
          <p:nvPr/>
        </p:nvPicPr>
        <p:blipFill>
          <a:blip r:embed="rId1"/>
          <a:stretch/>
        </p:blipFill>
        <p:spPr>
          <a:xfrm>
            <a:off x="1835280" y="692280"/>
            <a:ext cx="6408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Работа в художественных мастерских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981080" y="1844640"/>
            <a:ext cx="71629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205[1]"/>
          <p:cNvPicPr/>
          <p:nvPr/>
        </p:nvPicPr>
        <p:blipFill>
          <a:blip r:embed="rId1"/>
          <a:stretch/>
        </p:blipFill>
        <p:spPr>
          <a:xfrm>
            <a:off x="2050920" y="620640"/>
            <a:ext cx="58327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228[2]"/>
          <p:cNvPicPr/>
          <p:nvPr/>
        </p:nvPicPr>
        <p:blipFill>
          <a:blip r:embed="rId1"/>
          <a:stretch/>
        </p:blipFill>
        <p:spPr>
          <a:xfrm>
            <a:off x="1332000" y="549360"/>
            <a:ext cx="741672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7" descr="post-80-1212589007[1]"/>
          <p:cNvPicPr/>
          <p:nvPr/>
        </p:nvPicPr>
        <p:blipFill>
          <a:blip r:embed="rId1"/>
          <a:stretch/>
        </p:blipFill>
        <p:spPr>
          <a:xfrm>
            <a:off x="1403280" y="620640"/>
            <a:ext cx="727236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1" descr="257[2]"/>
          <p:cNvPicPr/>
          <p:nvPr/>
        </p:nvPicPr>
        <p:blipFill>
          <a:blip r:embed="rId1"/>
          <a:stretch/>
        </p:blipFill>
        <p:spPr>
          <a:xfrm>
            <a:off x="1403280" y="476280"/>
            <a:ext cx="734544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Формы подносов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5" descr="204[1]"/>
          <p:cNvPicPr/>
          <p:nvPr/>
        </p:nvPicPr>
        <p:blipFill>
          <a:blip r:embed="rId1"/>
          <a:stretch/>
        </p:blipFill>
        <p:spPr>
          <a:xfrm>
            <a:off x="2771640" y="1628640"/>
            <a:ext cx="460872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7:57:54Z</dcterms:created>
  <dc:creator>Asus</dc:creator>
  <dc:description/>
  <dc:language>en-US</dc:language>
  <cp:lastModifiedBy>Admin</cp:lastModifiedBy>
  <dcterms:modified xsi:type="dcterms:W3CDTF">2017-12-17T19:17:02Z</dcterms:modified>
  <cp:revision>4</cp:revision>
  <dc:subject/>
  <dc:title>Жостовские подносы  Урок изобразительного искусства в 5 классе.</dc:title>
</cp:coreProperties>
</file>