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047-05D7-4854-89EB-AA33DA15DA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5FE5-0FA8-4C08-960B-4715EE35F8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4BE-39D9-4ED4-8DD6-F08DFF74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AE4-7692-42E9-BC65-0F771D2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C5E-9744-4D5E-AD52-72718091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CEF-B4DE-4B91-8C16-10B43F25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980-A8F2-46C1-9FAE-850D863F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628-C3A5-4CAF-8ECB-D0A821F5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9FDA-F7B7-4D2B-946B-06087FD7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C9B-9F89-4DE5-8CEF-566D7E7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4E12-9D68-424B-9905-0749A9EC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FED2-71FD-463C-8748-005AB68D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F2C4-43E0-4592-85EB-18721B3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645-851D-47C2-B268-0C0BF742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3725-69C2-4FFC-BC04-1696C20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96F-ED05-4356-80E0-6ADEF9C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BD9-563F-453A-9A53-4AB0B0E1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649-445A-4951-8249-B4999CA0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D453-F587-4F18-98C7-3458A8D9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71EC-92FE-43AF-95BF-9806B383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5570-F464-4524-B53D-FAA4322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D443-24E0-461D-82F7-8CB456C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A4CA-A88C-4F9E-8CD7-6EE79C4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38F9-21E7-45BD-A31B-73D2C826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3B4-8B32-4DFF-A09F-1D438D2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6CA7-57B0-4356-9C2A-C9FC200C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5D1C-9974-491C-B429-A429254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88B5-7562-4E84-86F4-AEDFCF2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41DC-6664-47C4-A3B9-6D5BE51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CCEF-4C85-4311-B0E3-E192AA8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6ADE-AFB6-4A4B-A2A6-2561A262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748A-A44C-4B6C-B070-4745A0CF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0652-1FCE-44D8-AEFA-9BF5598C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CC52-F994-4D2B-ACEF-D7D03E33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BFC2-526C-4DFA-8FF8-E8057A3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14C-3E4D-4343-B0D9-AB8DE11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D7DE-B7E3-4F36-ADE5-9730D645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E5CA-B632-4390-80CC-03C7162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08B4-E986-486D-A0F2-8CD12877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616A-1E88-487D-BF59-A7EB1A3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A08F-4C98-46F8-9000-A456629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582E-A389-4A5D-AD63-078FF9E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6370-B765-4FCE-9D64-BE4BC61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4784-0AEA-46D8-B654-53FDF9A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05B0-E466-414D-8114-B89B6C94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1D60-FC6F-4C84-989D-1A589C2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E53-815C-49FB-84C7-AD3FD00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D885-7A5D-4011-8FA6-8E56AC5D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DA1C-B0E7-4341-B75B-EE1790F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74DD-3B51-45FF-B000-958D1CE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75AD-0BBB-44A3-800B-0BC6B47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2493-8044-426A-8D73-B6544DD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DB7D-2D93-4B7A-A632-7913F27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8EA7-AD25-4762-BF82-9A31D98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457C-5875-45F9-A9D2-4F53FF1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07E3-E76F-4811-8A09-A3A3A00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901B-61A6-48DD-AC45-2B7EADD1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393-5974-485A-BA42-5B1D37F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2311-C01B-4673-AB18-1A82B40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6030C-4CA5-46F9-8921-7FA3E735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B907-A0FE-467A-9FC1-FED9A83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0C7F-643B-4BA2-82E4-72E29053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A066-FB71-43E7-A459-1461C4A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903E-8D3F-495A-BE44-BEB186F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D546-B2FA-49BF-87BE-FD78108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B92C-14F4-4249-BE56-1BD826D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BB76C-631B-488E-8F56-F58BD689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5598-2232-48D9-8CF0-8F5CBFF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7A8-9E99-4F0D-BB37-C0CEB6F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6B4E-A796-4192-86AB-A329BFE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FF4D-7AFE-4748-A6BD-B07484A6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8D740-6DE2-4892-B7F3-12E5416F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E5A1-F1DE-4A32-80CF-5191E53C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1E77-88D4-4CC2-8611-41A3BBD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8FA6-059E-40FC-8E11-860ED87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49E2-D18A-41E1-8085-B64B2D0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8FC2-36B1-48CD-A37C-7507948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D7CD-5406-4DA1-AE4D-858C9E8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A9A5F-9022-4219-9DC8-6F55D1B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00-C4B0-48C2-909B-684A32D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16E5-5A7C-4502-8001-14309AC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4F2A-8ACE-4F27-BC1C-E8239E9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0940-0E99-4BDC-B8F5-EACAE074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D0B1-62D3-4957-8D6E-783D2F6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30F1-3B3C-4DC2-965C-519AF8BF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0D8-4651-410C-8951-52A5C9F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CBA-6E51-4A0F-A59E-0248862DC1A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7AA1-C291-45C3-9BC9-A9721554BCA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40F-0E3B-49F4-B709-3E69D81C80D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BB3-7410-4E2E-A862-2C2BEC46EB8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E31-9749-4677-B883-D62508D91A7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BB1-4566-482D-977A-0CD4FA06EB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9AED-D247-401A-B992-9D22C91D97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seportrety.ru/nikolay-rz%20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chron.eduhmao.ru/img_10_17_0_3.jpe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5" descr=""/>
          <p:cNvPicPr/>
          <p:nvPr/>
        </p:nvPicPr>
        <p:blipFill>
          <a:blip r:embed="rId1"/>
          <a:stretch/>
        </p:blipFill>
        <p:spPr>
          <a:xfrm>
            <a:off x="963720" y="2146320"/>
            <a:ext cx="7358040" cy="4815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d4d2d0"/>
                </a:solidFill>
                <a:latin typeface="Monotype Corsiva"/>
              </a:rPr>
              <a:t>        </a:t>
            </a:r>
            <a:r>
              <a:rPr b="1" lang="tt-RU" sz="2000" spc="-1" strike="noStrike">
                <a:solidFill>
                  <a:srgbClr val="d4d2d0"/>
                </a:solidFill>
                <a:latin typeface="Monotype Corsiva"/>
              </a:rPr>
              <a:t>Кукморский район  МОУ СОШ   Байлянгар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21620" t="14139" r="27680" b="9296"/>
          <a:stretch/>
        </p:blipFill>
        <p:spPr>
          <a:xfrm>
            <a:off x="0" y="-68400"/>
            <a:ext cx="9144000" cy="691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21620" t="12436" r="27680" b="7594"/>
          <a:stretch/>
        </p:blipFill>
        <p:spPr>
          <a:xfrm>
            <a:off x="0" y="468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3091b"/>
                </a:solidFill>
                <a:latin typeface="Monotype Corsiva"/>
              </a:rPr>
              <a:t>Каким должен быть депутат?</a:t>
            </a:r>
            <a:endParaRPr b="0" lang="en-US" sz="4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901"/>
              </a:spcBef>
              <a:buClr>
                <a:srgbClr val="d4d2d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Ответственно относится на свою рабо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901"/>
              </a:spcBef>
              <a:buClr>
                <a:srgbClr val="d4d2d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Депутат –чест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901"/>
              </a:spcBef>
              <a:buClr>
                <a:srgbClr val="d4d2d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На судьбу страны  и  народа не  безразличе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901"/>
              </a:spcBef>
              <a:buClr>
                <a:srgbClr val="d4d2d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4d2d0"/>
                </a:solidFill>
                <a:latin typeface="Monotype Corsiva"/>
              </a:rPr>
              <a:t>Старается принимать законы  в пользу граждан  Росс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литические партии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3" descr=""/>
          <p:cNvPicPr/>
          <p:nvPr/>
        </p:nvPicPr>
        <p:blipFill>
          <a:blip r:embed="rId2"/>
          <a:stretch/>
        </p:blipFill>
        <p:spPr>
          <a:xfrm>
            <a:off x="682560" y="1279440"/>
            <a:ext cx="7785000" cy="4299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3091b"/>
                </a:solidFill>
                <a:latin typeface="Monotype Corsiva"/>
              </a:rPr>
              <a:t>Благодарю за внимание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0" name="Rectangle 3" descr=""/>
          <p:cNvPicPr/>
          <p:nvPr/>
        </p:nvPicPr>
        <p:blipFill>
          <a:blip r:embed="rId1"/>
          <a:stretch/>
        </p:blipFill>
        <p:spPr>
          <a:xfrm>
            <a:off x="390600" y="1547640"/>
            <a:ext cx="7478640" cy="454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6" descr="Рисунок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2746440"/>
            <a:ext cx="7632720" cy="3852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7724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Franklin Gothic Book"/>
              </a:rPr>
              <a:t>1.Система государственного управления в Афина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2560" y="1268280"/>
            <a:ext cx="784872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8c3"/>
            </a:solidFill>
            <a:miter/>
          </a:ln>
        </p:spPr>
        <p:txBody>
          <a:bodyPr anchor="t">
            <a:normAutofit/>
          </a:bodyPr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b3b"/>
                </a:solidFill>
                <a:latin typeface="Arial"/>
              </a:rPr>
              <a:t>Система государственного управления в Афи-нах называлась </a:t>
            </a:r>
            <a:r>
              <a:rPr b="1" lang="ru-RU" sz="2800" spc="-1" strike="noStrike" u="sng">
                <a:solidFill>
                  <a:srgbClr val="3b3b3b"/>
                </a:solidFill>
                <a:uFillTx/>
                <a:latin typeface="Arial"/>
              </a:rPr>
              <a:t>«ДЕМОКРАТИЕЙ».(</a:t>
            </a:r>
            <a:r>
              <a:rPr b="1" lang="ru-RU" sz="2800" spc="-1" strike="noStrike">
                <a:solidFill>
                  <a:srgbClr val="3b3b3b"/>
                </a:solidFill>
                <a:latin typeface="Arial"/>
              </a:rPr>
              <a:t>От «Де мос»-народ, «Кратос»-вл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67652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ea0b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0" name="Group 9"/>
          <p:cNvGrpSpPr/>
          <p:nvPr/>
        </p:nvGrpSpPr>
        <p:grpSpPr>
          <a:xfrm>
            <a:off x="304920" y="4038480"/>
            <a:ext cx="5852880" cy="486000"/>
            <a:chOff x="304920" y="4038480"/>
            <a:chExt cx="5852880" cy="486000"/>
          </a:xfrm>
        </p:grpSpPr>
        <p:sp>
          <p:nvSpPr>
            <p:cNvPr id="311" name="AutoShape 6"/>
            <p:cNvSpPr/>
            <p:nvPr/>
          </p:nvSpPr>
          <p:spPr>
            <a:xfrm>
              <a:off x="304920" y="4038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6ea0b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AutoShape 7"/>
            <p:cNvSpPr/>
            <p:nvPr/>
          </p:nvSpPr>
          <p:spPr>
            <a:xfrm>
              <a:off x="2666880" y="4038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6ea0b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AutoShape 8"/>
            <p:cNvSpPr/>
            <p:nvPr/>
          </p:nvSpPr>
          <p:spPr>
            <a:xfrm>
              <a:off x="5181480" y="4038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6ea0b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4" name="Group 21"/>
          <p:cNvGrpSpPr/>
          <p:nvPr/>
        </p:nvGrpSpPr>
        <p:grpSpPr>
          <a:xfrm>
            <a:off x="732600" y="4188240"/>
            <a:ext cx="6631560" cy="678960"/>
            <a:chOff x="732600" y="4188240"/>
            <a:chExt cx="6631560" cy="678960"/>
          </a:xfrm>
        </p:grpSpPr>
        <p:sp>
          <p:nvSpPr>
            <p:cNvPr id="315" name="AutoShape 10"/>
            <p:cNvSpPr/>
            <p:nvPr/>
          </p:nvSpPr>
          <p:spPr>
            <a:xfrm rot="1851600">
              <a:off x="761760" y="4343400"/>
              <a:ext cx="685800" cy="30492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AutoShape 16"/>
            <p:cNvSpPr/>
            <p:nvPr/>
          </p:nvSpPr>
          <p:spPr>
            <a:xfrm rot="1851600">
              <a:off x="1752120" y="4343400"/>
              <a:ext cx="685800" cy="30492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AutoShape 17"/>
            <p:cNvSpPr/>
            <p:nvPr/>
          </p:nvSpPr>
          <p:spPr>
            <a:xfrm rot="1851600">
              <a:off x="3047760" y="4343400"/>
              <a:ext cx="685800" cy="30492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AutoShape 18"/>
            <p:cNvSpPr/>
            <p:nvPr/>
          </p:nvSpPr>
          <p:spPr>
            <a:xfrm rot="1851600">
              <a:off x="4419360" y="4343400"/>
              <a:ext cx="685800" cy="30492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AutoShape 19"/>
            <p:cNvSpPr/>
            <p:nvPr/>
          </p:nvSpPr>
          <p:spPr>
            <a:xfrm rot="1851600">
              <a:off x="5562360" y="4343400"/>
              <a:ext cx="685800" cy="30492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AutoShape 20"/>
            <p:cNvSpPr/>
            <p:nvPr/>
          </p:nvSpPr>
          <p:spPr>
            <a:xfrm rot="1851600">
              <a:off x="6629040" y="4336920"/>
              <a:ext cx="685800" cy="3812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ea0b0"/>
            </a:solidFill>
            <a:ln w="5724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22"/>
          <p:cNvSpPr/>
          <p:nvPr/>
        </p:nvSpPr>
        <p:spPr>
          <a:xfrm>
            <a:off x="682560" y="1268280"/>
            <a:ext cx="784872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Высшим органом власти являлось «Народное Собрание»-Законодательный орган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682560" y="1268280"/>
            <a:ext cx="784872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Народное собрание выбирало Стратегов, Су- дей, и других чиновников-они представляли Исполнительную и Судебную Вл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4920" y="1268280"/>
            <a:ext cx="91440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Исполнительная власть руководила другими органами государственной власти-флотом, войском,судом,тюрьмой,полицией,сбором нало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Рисунок2"/>
          <p:cNvPicPr/>
          <p:nvPr/>
        </p:nvPicPr>
        <p:blipFill>
          <a:blip r:embed="rId1"/>
          <a:stretch/>
        </p:blipFill>
        <p:spPr>
          <a:xfrm>
            <a:off x="2627280" y="1233360"/>
            <a:ext cx="5832360" cy="3635640"/>
          </a:xfrm>
          <a:prstGeom prst="rect">
            <a:avLst/>
          </a:prstGeom>
          <a:ln w="76320">
            <a:solidFill>
              <a:srgbClr val="d4d2d0"/>
            </a:solidFill>
            <a:miter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50920" y="4869000"/>
            <a:ext cx="8672400" cy="1798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d4d2d0"/>
            </a:solidFill>
            <a:miter/>
          </a:ln>
        </p:spPr>
        <p:txBody>
          <a:bodyPr anchor="t">
            <a:normAutofit fontScale="86000"/>
          </a:bodyPr>
          <a:p>
            <a:pPr marL="360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брании участвовали только граждане не моложе 2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0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ирались 1 раз в 3-4 месяца. Открытым голосованием выбирали первого стратега. Тайным голосованием принимали законы объявляли войну, заключали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Franklin Gothic Book"/>
              </a:rPr>
              <a:t>2.Роль Народного Собрания в управлении городом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54680" y="2016000"/>
            <a:ext cx="198972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d4d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Народ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собр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Соврем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исун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3" descr="Рисунок1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812520"/>
            <a:ext cx="9144000" cy="99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d4d2d0"/>
            </a:solidFill>
            <a:miter/>
          </a:ln>
        </p:spPr>
        <p:txBody>
          <a:bodyPr anchor="t">
            <a:normAutofit/>
          </a:bodyPr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ом управлял СЕНАТ из 300 человек. Это звание было пожизнен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d4d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ждый год граждане выбирали из сенаторов государственные должностные 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73120" y="76320"/>
            <a:ext cx="7772400" cy="731880"/>
          </a:xfrm>
          <a:prstGeom prst="rect">
            <a:avLst/>
          </a:prstGeom>
          <a:solidFill>
            <a:srgbClr val="ffffff"/>
          </a:solidFill>
          <a:ln w="76320">
            <a:solidFill>
              <a:srgbClr val="d4d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2.СЕНАТ И ЕГО РОЛЬ В РИМ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2371680" y="1797120"/>
            <a:ext cx="3976560" cy="64260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8 </a:t>
            </a:r>
            <a:r>
              <a:rPr b="1" lang="ru-RU" sz="1800" spc="-1" strike="noStrike" u="sng">
                <a:solidFill>
                  <a:srgbClr val="393939"/>
                </a:solidFill>
                <a:uFillTx/>
                <a:latin typeface="Tahoma"/>
              </a:rPr>
              <a:t>преторов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 избирались для того, чтобы стать судь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485640" y="2413080"/>
            <a:ext cx="1725840" cy="119124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Управля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всеми дел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ми в Сен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те 2 </a:t>
            </a:r>
            <a:r>
              <a:rPr b="1" lang="ru-RU" sz="1800" spc="-1" strike="noStrike" u="sng">
                <a:solidFill>
                  <a:srgbClr val="393939"/>
                </a:solidFill>
                <a:uFillTx/>
                <a:latin typeface="Tahoma"/>
              </a:rPr>
              <a:t>консула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6377040" y="1822320"/>
            <a:ext cx="2809800" cy="146556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4 </a:t>
            </a:r>
            <a:r>
              <a:rPr b="1" lang="ru-RU" sz="1800" spc="-1" strike="noStrike" u="sng">
                <a:solidFill>
                  <a:srgbClr val="393939"/>
                </a:solidFill>
                <a:uFillTx/>
                <a:latin typeface="Tahoma"/>
              </a:rPr>
              <a:t>эдила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 наблю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дали за поряд-ком на улицах, рынках и уст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ивали зрелищ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135400" y="4294080"/>
            <a:ext cx="3978360" cy="64260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20 </a:t>
            </a:r>
            <a:r>
              <a:rPr b="1" lang="ru-RU" sz="1800" spc="-1" strike="noStrike" u="sng">
                <a:solidFill>
                  <a:srgbClr val="393939"/>
                </a:solidFill>
                <a:uFillTx/>
                <a:latin typeface="Tahoma"/>
              </a:rPr>
              <a:t>квесторов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 след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за состоянием каз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27080" y="4113360"/>
            <a:ext cx="2968560" cy="201420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93939"/>
                </a:solidFill>
                <a:uFillTx/>
                <a:latin typeface="Tahoma"/>
              </a:rPr>
              <a:t>Цензоры</a:t>
            </a: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-руков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дили обществен-ными работами, сбором налог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заключали госу-дарственные д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гово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4044240" y="5584680"/>
            <a:ext cx="4228560" cy="91692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При черезвычайных обстоятель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ствах назначался диктатор,ср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ком на 6 месяце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539640" y="3429000"/>
            <a:ext cx="178128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2 конс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2674800" y="2106720"/>
            <a:ext cx="210816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8 прет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7095960" y="2879640"/>
            <a:ext cx="156060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4 эд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719280" y="5634000"/>
            <a:ext cx="167148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2ценз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5713560" y="4475160"/>
            <a:ext cx="227484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20 квест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4169160" y="5994360"/>
            <a:ext cx="1340640" cy="368280"/>
          </a:xfrm>
          <a:prstGeom prst="rect">
            <a:avLst/>
          </a:prstGeom>
          <a:solidFill>
            <a:srgbClr val="6ea0b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939"/>
                </a:solidFill>
                <a:latin typeface="Tahoma"/>
              </a:rPr>
              <a:t>Дикта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d4d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нат не перед кем ни отчитывался и не отвечал,       за свои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d4d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Как вы думаете, почему сенаторам были предоставлены такие пра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1160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00040" y="1643040"/>
            <a:ext cx="8104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Выборы в Росс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рвые выборы в Новогород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нифест 17 октября 1905 го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рвая госдум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происходили выборы в Росс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479px-ivan_the_terrible_cropped"/>
          <p:cNvPicPr/>
          <p:nvPr/>
        </p:nvPicPr>
        <p:blipFill>
          <a:blip r:embed="rId1"/>
          <a:stretch/>
        </p:blipFill>
        <p:spPr>
          <a:xfrm>
            <a:off x="5148360" y="333360"/>
            <a:ext cx="3489120" cy="43704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250920" y="981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ahoma"/>
              </a:rPr>
              <a:t>Земский собор 1549-1653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846400" y="4894200"/>
            <a:ext cx="26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ahoma"/>
              </a:rPr>
              <a:t>Царь Иван </a:t>
            </a:r>
            <a:r>
              <a:rPr b="1" lang="en-US" sz="2800" spc="-1" strike="noStrike">
                <a:solidFill>
                  <a:srgbClr val="006699"/>
                </a:solidFill>
                <a:latin typeface="Tahoma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9" descr="Изображение 011"/>
          <p:cNvPicPr/>
          <p:nvPr/>
        </p:nvPicPr>
        <p:blipFill>
          <a:blip r:embed="rId2"/>
          <a:srcRect l="0" t="1856" r="0" b="11865"/>
          <a:stretch/>
        </p:blipFill>
        <p:spPr>
          <a:xfrm>
            <a:off x="539640" y="2637000"/>
            <a:ext cx="4103640" cy="331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071360" y="5572080"/>
            <a:ext cx="33224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6699"/>
                </a:solidFill>
                <a:latin typeface="Times New Roman"/>
              </a:rPr>
              <a:t>Николай </a:t>
            </a:r>
            <a:r>
              <a:rPr b="0" lang="en-US" sz="3000" spc="-1" strike="noStrike">
                <a:solidFill>
                  <a:srgbClr val="006699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5" descr="Картинка 14 из 8744">
            <a:hlinkClick r:id="rId1"/>
          </p:cNvPr>
          <p:cNvPicPr/>
          <p:nvPr/>
        </p:nvPicPr>
        <p:blipFill>
          <a:blip r:embed="rId2"/>
          <a:srcRect l="5661" t="4220" r="7577" b="4220"/>
          <a:stretch/>
        </p:blipFill>
        <p:spPr>
          <a:xfrm>
            <a:off x="571680" y="428760"/>
            <a:ext cx="3565440" cy="5040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Картинка 2 из 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428760"/>
            <a:ext cx="3571920" cy="5040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8"/>
          <p:cNvSpPr/>
          <p:nvPr/>
        </p:nvSpPr>
        <p:spPr>
          <a:xfrm>
            <a:off x="5148360" y="5516640"/>
            <a:ext cx="3322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99"/>
                </a:solidFill>
                <a:latin typeface="Tahoma"/>
              </a:rPr>
              <a:t>Манифес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99"/>
                </a:solidFill>
                <a:latin typeface="Tahoma"/>
              </a:rPr>
              <a:t>17 октября 1905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6"/>
          <p:cNvSpPr/>
          <p:nvPr/>
        </p:nvSpPr>
        <p:spPr>
          <a:xfrm>
            <a:off x="0" y="414972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Tahoma"/>
                <a:ea typeface="Times New Roman"/>
              </a:rPr>
              <a:t>Государственная Дума                      1906-1917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Picture 7" descr="Изображение 012"/>
          <p:cNvPicPr/>
          <p:nvPr/>
        </p:nvPicPr>
        <p:blipFill>
          <a:blip r:embed="rId1"/>
          <a:srcRect l="1582" t="0" r="0" b="0"/>
          <a:stretch/>
        </p:blipFill>
        <p:spPr>
          <a:xfrm>
            <a:off x="250920" y="404640"/>
            <a:ext cx="4535280" cy="280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Изображение 013"/>
          <p:cNvPicPr/>
          <p:nvPr/>
        </p:nvPicPr>
        <p:blipFill>
          <a:blip r:embed="rId2"/>
          <a:stretch/>
        </p:blipFill>
        <p:spPr>
          <a:xfrm>
            <a:off x="4140360" y="3429000"/>
            <a:ext cx="4679640" cy="30243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9"/>
          <p:cNvSpPr/>
          <p:nvPr/>
        </p:nvSpPr>
        <p:spPr>
          <a:xfrm>
            <a:off x="4932360" y="1197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Tahoma"/>
                <a:ea typeface="Times New Roman"/>
              </a:rPr>
              <a:t>Таврический двор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Федеральное Собр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453564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осударственная Ду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 flipH="1">
            <a:off x="2339640" y="112536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Picture 5" descr="Изображение 014"/>
          <p:cNvPicPr/>
          <p:nvPr/>
        </p:nvPicPr>
        <p:blipFill>
          <a:blip r:embed="rId1"/>
          <a:srcRect l="0" t="0" r="0" b="11800"/>
          <a:stretch/>
        </p:blipFill>
        <p:spPr>
          <a:xfrm>
            <a:off x="250920" y="2852640"/>
            <a:ext cx="3998880" cy="3240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Изображение 015"/>
          <p:cNvPicPr/>
          <p:nvPr/>
        </p:nvPicPr>
        <p:blipFill>
          <a:blip r:embed="rId2"/>
          <a:srcRect l="0" t="0" r="0" b="13323"/>
          <a:stretch/>
        </p:blipFill>
        <p:spPr>
          <a:xfrm>
            <a:off x="4716360" y="2852640"/>
            <a:ext cx="3998880" cy="32403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22"/>
          <p:cNvSpPr/>
          <p:nvPr/>
        </p:nvSpPr>
        <p:spPr>
          <a:xfrm>
            <a:off x="5219640" y="1844640"/>
            <a:ext cx="30243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Совет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5651640" y="1125360"/>
            <a:ext cx="1152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</cp:lastModifiedBy>
  <dcterms:modified xsi:type="dcterms:W3CDTF">2017-12-18T14:36:34Z</dcterms:modified>
  <cp:revision>103</cp:revision>
  <dc:subject/>
  <dc:title>PowerPoint Presentation</dc:title>
</cp:coreProperties>
</file>