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502-11C6-4EA4-8E00-22F3355C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C58-055B-42D2-8FF2-EA6D09AF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61C-D694-43CC-9889-1FC63D60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C9A-4267-4766-90E7-EDF0D847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50E4-A0B9-4B99-B37B-66D2D290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56D5-2172-4A05-8845-008D06CF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78F7-65AF-4461-B2B9-E188CEBF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0BFF-A526-4886-91D7-3CDCCDBE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6423-DC1E-415E-B12C-C1F0304B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F12C-529C-4DA4-96F3-1F293359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19CB-E762-4A66-8C17-75F4A2F8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33BC-F343-4935-986C-F1D5D4E7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23ED-A274-4641-8A82-78C551FF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CDC5-7D38-4EB2-9518-829024FA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FF40-F4B7-459A-9A46-9F83BF3D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7446-5528-4F36-95CF-7D853E36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47BE-5190-47B2-80DC-53045581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103BB-DACA-4AB2-A3AB-A7C0E21A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F573B-6CEC-45E5-9485-242539A6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18846-96D4-4B70-A912-4840B0C7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B5D4E-9114-4ACE-A7B4-9D1B8305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B142A-2439-4D46-9115-610EA101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E862-9A02-4490-8274-9329C1A6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31483-5406-40E7-9B2A-685A825F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F96CB-1BB7-41F9-892C-D4650907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0DDF6-1037-4FAC-9545-029C356C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617D4-5EE7-4047-9DA6-FFA6B921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453BD-DC66-4971-A2E5-37C5FCD1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4EF6B-4460-457E-A1D4-98B5A04C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C574D-F6F2-48C4-8D2E-4781AA8E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839FA-989F-4780-A9FE-BA94652A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AD143-6431-4EC9-8853-DF4C59DD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49F3F-5B52-491E-AB74-066C6FF1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E78-DB74-4830-83A4-2727DE82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D85EC-5F4F-4CE3-A2DB-5CDE5C43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B817F-999F-4BD5-AE11-AACF4628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8F14E-9FBE-4A3F-B0CE-2FDDC7EE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F17C4-6593-4709-8A56-C0E00C09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330BC-B973-4A97-857C-5DE4DA06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30A51-6233-49A2-A121-FD7360D6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01E4E-0A0D-4B1C-B9EE-2D59BB12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86288-4912-4082-A61E-1D48E706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D61B8-2DED-4844-A51F-4D35D862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BCBF0-E5B2-4373-ADFB-93F4008B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3824-3C93-47A2-80D1-FBE53402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4CB2F-A4BD-4C83-BEF3-A3A68E18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3EC2B-8D1E-4F17-8702-20784BBE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D76FC-2A7A-481C-9B70-C9F9273B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769A0-DA23-458A-ACA2-23E19C6F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E7937-DEC6-4462-811A-F82E8EF5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67FBF-DAE0-4FBE-8952-AE067A66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2EF96-87A2-441C-80E7-6D8E74C1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B4266-359D-4527-9F62-92883DCA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84366-0769-4742-BA9C-3E7B8071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0C78F-415C-4AAD-BB5C-07356BEC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C1D-8B71-466C-BEEA-D0551C7B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94D78-BF01-48B6-BC22-ACD2CD6A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4ACAC-0095-4353-B08C-F945C990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5E618-4713-4B74-847F-29F6A557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D187F-9B6A-47AD-92BB-AC48BCFD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7EF9A-28D0-41A0-A86F-07391B0F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7738F-34B1-4536-B768-5DF5389C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3241F-0D7B-4D78-A653-3EFE1BF5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2882C-CB86-4AFC-913E-666A7EB8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9E786-4E57-42A9-833F-884AA032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3C4D0-8708-4E47-ADDF-9449BD07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450F-59C0-49DC-98B1-8D8FEA3A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3D520-E139-49E4-9921-703FEB8E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E6F35-79A5-4A4F-97F8-2829D1EB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56FB8-D365-4D82-86EC-6A2C8EFC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749A1-884C-4677-93EE-ED4F4844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FED2C-57FF-43F9-A59D-F0D4B236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EAE28-CF5F-4EA0-A519-5D7DF25D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ACFDE-6BB2-4ABD-8600-B6AC6A81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C2BD5-BF87-4F1D-A1D3-168FC0D9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24A09-75DE-48B6-A60A-69D1DEAB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3D8BC-41E3-4402-A173-801F7752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C44-D23F-4181-BD8D-A110F008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8AD5D-377C-41BA-B17A-B49B96E1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CA3A6-854C-460F-8C90-5E8B8CBA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B90D9-7AE2-492C-8CE8-67849670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BE57F-8BC9-4827-B9E8-93565FAE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F8174-3230-4644-BA64-C1A8DF34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F53C-1D60-4093-BB27-990B3DA9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6eaa2e"/>
              </a:gs>
              <a:gs pos="100000">
                <a:srgbClr val="bee3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fff9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6864-E78F-479F-A448-6810B5B6517C}" type="slidenum">
              <a:rPr b="0" lang="ru-RU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ffc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ffc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6eaa2e"/>
              </a:gs>
              <a:gs pos="100000">
                <a:srgbClr val="bee3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fff9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ffc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ffc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E86C-546E-46B0-BA89-1AC58FA2D515}" type="slidenum">
              <a:rPr b="0" lang="ru-RU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6eaa2e"/>
              </a:gs>
              <a:gs pos="100000">
                <a:srgbClr val="bee3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ffff99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ffc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ffc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B4F7-7642-4882-8498-AFE314D92B73}" type="slidenum">
              <a:rPr b="0" lang="ru-RU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6eaa2e"/>
              </a:gs>
              <a:gs pos="100000">
                <a:srgbClr val="bee3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fff9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ffc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ffc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F808-7A87-4582-B1ED-95B334A001DB}" type="slidenum">
              <a:rPr b="0" lang="ru-RU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6eaa2e"/>
              </a:gs>
              <a:gs pos="100000">
                <a:srgbClr val="bee3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fff9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ffc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ffc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6D26-B06C-4514-9C8C-CD60AAA338E9}" type="slidenum">
              <a:rPr b="0" lang="ru-RU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6eaa2e"/>
              </a:gs>
              <a:gs pos="100000">
                <a:srgbClr val="bee3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fff9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ffc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ffc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A1FD-678E-426A-A75F-4D6905DAE597}" type="slidenum">
              <a:rPr b="0" lang="ru-RU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6eaa2e"/>
              </a:gs>
              <a:gs pos="100000">
                <a:srgbClr val="bee3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fff9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ffc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ffc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D073-3D49-49FC-8A85-EE382CD9AA05}" type="slidenum">
              <a:rPr b="0" lang="ru-RU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2120" y="686160"/>
            <a:ext cx="8076960" cy="2514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andara"/>
              </a:rPr>
              <a:t>Экзаменационный стресс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andara"/>
              </a:rPr>
              <a:t>у старшеклассников.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andara"/>
              </a:rPr>
              <a:t>Первая помощь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6369840"/>
            <a:ext cx="8305920" cy="152280"/>
          </a:xfrm>
          <a:prstGeom prst="rect">
            <a:avLst/>
          </a:prstGeom>
          <a:gradFill rotWithShape="0">
            <a:gsLst>
              <a:gs pos="0">
                <a:srgbClr val="5bd078"/>
              </a:gs>
              <a:gs pos="100000">
                <a:srgbClr val="e5f7e9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7" name="Picture 5" descr="MCj04375630000[1]"/>
          <p:cNvPicPr/>
          <p:nvPr/>
        </p:nvPicPr>
        <p:blipFill>
          <a:blip r:embed="rId1"/>
          <a:stretch/>
        </p:blipFill>
        <p:spPr>
          <a:xfrm>
            <a:off x="2666880" y="3581280"/>
            <a:ext cx="26449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0520" y="380880"/>
            <a:ext cx="8534520" cy="6019920"/>
          </a:xfrm>
          <a:prstGeom prst="rect">
            <a:avLst/>
          </a:prstGeom>
          <a:gradFill rotWithShape="0">
            <a:gsLst>
              <a:gs pos="0">
                <a:srgbClr val="5bd078"/>
              </a:gs>
              <a:gs pos="50000">
                <a:srgbClr val="caf0d4"/>
              </a:gs>
              <a:gs pos="100000">
                <a:srgbClr val="5bd078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  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Ещё раз проследите за своим дыханием. Дышите медленно, через нос; сделав вдох, на некоторое время задержите дыхание, затем так же медленно, через нос, выдохните воздух. При каждом выдохе концентрируйте внимание на том, как расслабляются и опускаются ваши плечи. </a:t>
            </a: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  </a:t>
            </a: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 качестве первой помощи этого вполне достаточно. В день, когда вы попадаете в острую стрессовую ситуацию, не принимайте никаких решений. Попробуйте заняться каким-либо простым видом деятельности.</a:t>
            </a: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 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е повредят умеренные занятия спортом или прогулка - словом любая деятельность, требующая физической активности и сосредоточения, но, опять же, не переусердствуйте.</a:t>
            </a: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1920" y="57909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871560" y="837720"/>
            <a:ext cx="74088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арайтесь создать позитивную внутреннюю мотивацию у детей, то есть объясните, что успешная подготовка и сдача экзамена необходима в первую очередь для них самих, как подведение итога за весь период обучения, а также для дальнейшей учебы. </a:t>
            </a: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огите правильно распределить время, данное на подготовку. </a:t>
            </a: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ложите свою посильную помощь в подготовке. </a:t>
            </a: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дайте спокойную рабочую обстановку дома. </a:t>
            </a: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лите в своего ребенка уверенность в его силы. </a:t>
            </a: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омните о каких-либо прежних его успехах, похвалите его. </a:t>
            </a: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тите внимание на питание ребенка. Капуста снимает нервозность, полезны семечки подсолнечника или тыквы, лимон освежает мысли и обогащает организм витамином С, что облегчит восприятие информации. Черника снимает напряжение глаз, улучшает память, внимание, способствует кровообращению мозга, а свежие ягоды положительно сказываются на зрении. Грецкие орехи, фундук также стимулируют деятельность мозга, укрепляют нервную систему. </a:t>
            </a: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умственном переутомлении и психической усталости помогает репчатый лук, он прекрасно разжижает кровь и улучшает снабжение мозга кислородом. Тмин является катализатором гениальных идей, а креветки - отличная пища для мозга. Инжир способствует творчеству, помогает снабжать кислородом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зг. </a:t>
            </a: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4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РОДИТЕЛЯМ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регите себя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6840" y="1600200"/>
            <a:ext cx="8458200" cy="5029200"/>
          </a:xfrm>
          <a:prstGeom prst="rect">
            <a:avLst/>
          </a:prstGeom>
          <a:gradFill rotWithShape="0">
            <a:gsLst>
              <a:gs pos="0">
                <a:srgbClr val="ffff65"/>
              </a:gs>
              <a:gs pos="50000">
                <a:srgbClr val="fffff8"/>
              </a:gs>
              <a:gs pos="100000">
                <a:srgbClr val="ffff6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andara"/>
              </a:rPr>
              <a:t>Стресс</a:t>
            </a:r>
            <a:r>
              <a:rPr b="1" i="1" lang="ru-RU" sz="2800" spc="-1" strike="noStrike">
                <a:solidFill>
                  <a:srgbClr val="ff0000"/>
                </a:solidFill>
                <a:latin typeface="Candara"/>
              </a:rPr>
              <a:t> (от англ. stress — напряжение) — состояние психического напряжения, возникающее у человека под влиянием сильных воздействий. Может оказывать как положительное, так и отрицательное влияние на жизнедеятельность, вплоть до ее полной дезорганизации.</a:t>
            </a:r>
            <a:endParaRPr b="0" lang="en-US" sz="2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ndara"/>
              </a:rPr>
              <a:t>Что такое стресс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6840" y="1447560"/>
            <a:ext cx="8458200" cy="5181480"/>
          </a:xfrm>
          <a:prstGeom prst="rect">
            <a:avLst/>
          </a:prstGeom>
          <a:gradFill rotWithShape="0">
            <a:gsLst>
              <a:gs pos="0">
                <a:srgbClr val="ffff65"/>
              </a:gs>
              <a:gs pos="50000">
                <a:srgbClr val="ffffd1"/>
              </a:gs>
              <a:gs pos="100000">
                <a:srgbClr val="ffff65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Раздражительность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Беспокойство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Подозрительность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Мрачное настроение, депрессия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Суетливость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Ощущение напряжения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Истощенность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Подверженность приступам гнева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Циничный, неуместный юмор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Ощущение нервозности, боязливости, тревоги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Потеря уверенности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Уменьшение удовлетворенности жизнью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Чувство отчужденности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Отсутствие заинтересованности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Сниженная самооценка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Неудовлетворенность работой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ndara"/>
              </a:rPr>
              <a:t>              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моциональные  симптомы стресс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6840" y="456840"/>
            <a:ext cx="8381880" cy="624852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50000">
                <a:srgbClr val="e8f5db"/>
              </a:gs>
              <a:gs pos="100000">
                <a:srgbClr val="92d05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ессоустойчивость определяется совокупностью личностных качеств, позволяющих человеку переносить значительные интеллектуальные, волевые и эмоциональные нагрузки, обусловленные особенностями профессиональной деятельности, без особых вредных последствий для деятельности, окружающих и своего здоровья. 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ессоустойчивость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ndara"/>
              </a:rPr>
              <a:t>Экзаменационный стрес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8" descr="MPj04395240000[1]"/>
          <p:cNvPicPr/>
          <p:nvPr/>
        </p:nvPicPr>
        <p:blipFill>
          <a:blip r:embed="rId1"/>
          <a:stretch/>
        </p:blipFill>
        <p:spPr>
          <a:xfrm>
            <a:off x="457200" y="2517840"/>
            <a:ext cx="4038480" cy="26956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50000">
                <a:srgbClr val="ebf6df"/>
              </a:gs>
              <a:gs pos="100000">
                <a:srgbClr val="92d05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Причины: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интенсивная умственная деятельность;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нагрузка на одни и те же мышцы и органы из-за длительного сидения; 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нарушение режима сна и отдыха; 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негативные переживания</a:t>
            </a:r>
            <a:endParaRPr b="0" lang="en-US" sz="2400" spc="-1" strike="noStrike">
              <a:solidFill>
                <a:srgbClr val="ffff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ndara"/>
              </a:rPr>
              <a:t>Симптомы экзаменационного стресс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3733920" cy="5105520"/>
          </a:xfrm>
          <a:prstGeom prst="rect">
            <a:avLst/>
          </a:prstGeom>
          <a:gradFill rotWithShape="0">
            <a:gsLst>
              <a:gs pos="0">
                <a:srgbClr val="ffff65"/>
              </a:gs>
              <a:gs pos="50000">
                <a:srgbClr val="ffffe3"/>
              </a:gs>
              <a:gs pos="100000">
                <a:srgbClr val="ffff6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ndara"/>
              </a:rPr>
              <a:t>ФИЗИОЛОГИЧЕСКИЕ СИМПТОМЫ: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усиление кожной сыпи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головные боли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тошнота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«медвежья болезнь» (диарея)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мышечное напряжение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углубление и учащение дыхания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учащённый пульс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перепады артериального давления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47960" y="1600200"/>
            <a:ext cx="4343400" cy="5029200"/>
          </a:xfrm>
          <a:prstGeom prst="rect">
            <a:avLst/>
          </a:prstGeom>
          <a:gradFill rotWithShape="0">
            <a:gsLst>
              <a:gs pos="0">
                <a:srgbClr val="ffff65"/>
              </a:gs>
              <a:gs pos="50000">
                <a:srgbClr val="ffffe6"/>
              </a:gs>
              <a:gs pos="100000">
                <a:srgbClr val="ffff6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ndara"/>
              </a:rPr>
              <a:t>ЭМОЦИОНАЛЬНЫЕ СИМПТОМЫ: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чувство общего недомогания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растерянность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паника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страх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неуверенность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тревога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депрессия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подавленность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раздражительность </a:t>
            </a: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ndara"/>
              </a:rPr>
              <a:t>Симптомы экзаменационного стресс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4038480" cy="5105520"/>
          </a:xfrm>
          <a:prstGeom prst="rect">
            <a:avLst/>
          </a:prstGeom>
          <a:gradFill rotWithShape="0">
            <a:gsLst>
              <a:gs pos="0">
                <a:srgbClr val="ffff65"/>
              </a:gs>
              <a:gs pos="50000">
                <a:srgbClr val="ffffd5"/>
              </a:gs>
              <a:gs pos="100000">
                <a:srgbClr val="ffff6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ГНИТИВНЫЕ (ИНТЕЛЛЕКТУАЛЬНЫЕ) СИМПТОМЫ: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резмерная самокритика, сравнение своей подготовленности с другими в невыгодном для себя свете </a:t>
            </a: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риятные воспоминания о провалах на экзаменах в прошлом (своих или чужих)</a:t>
            </a: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ображение отрицательных последствий неудачи на экзамене</a:t>
            </a: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шмарные сновидения </a:t>
            </a: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худшение памяти </a:t>
            </a: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нижение способности </a:t>
            </a:r>
            <a:r>
              <a:rPr b="1" i="1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 концентрации внимания, рассеянность </a:t>
            </a: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724280" y="1600200"/>
            <a:ext cx="4191120" cy="5105520"/>
          </a:xfrm>
          <a:prstGeom prst="rect">
            <a:avLst/>
          </a:prstGeom>
          <a:gradFill rotWithShape="0">
            <a:gsLst>
              <a:gs pos="0">
                <a:srgbClr val="ffff65"/>
              </a:gs>
              <a:gs pos="50000">
                <a:srgbClr val="ffffe3"/>
              </a:gs>
              <a:gs pos="100000">
                <a:srgbClr val="ffff6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Candara"/>
              </a:rPr>
              <a:t>    </a:t>
            </a:r>
            <a:endParaRPr b="0" lang="en-US" sz="1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Candara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ЕДЕНЧЕСКИЕ СИМПТОМЫ:</a:t>
            </a: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емление заниматься любым другим делом, лишь бы не готовиться к экзамену </a:t>
            </a: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бегание любых напоминаний об экзаменах </a:t>
            </a: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еньшение эффективности в учёбе в экзаменационный период </a:t>
            </a: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влечение других людей в тревожные разговоры о предстоящих экзаменах </a:t>
            </a: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величение употребления кофеина  </a:t>
            </a: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худшение сна </a:t>
            </a: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худшение аппетита </a:t>
            </a: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ndara"/>
              </a:rPr>
              <a:t>ПЕРВАЯ ПОМОЩЬ В ОСТРОЙ СТРЕССОВОЙ СИТУАЦИИ</a:t>
            </a: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700"/>
              </a:spcBef>
              <a:buClr>
                <a:srgbClr val="92d05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острой стрессовой ситуации не следует принимать (пытаться принимать) никаких решений.      Исключения составляют стихийные бедствия, когда речь идёт о спасении самой жизни.</a:t>
            </a:r>
            <a:endParaRPr b="0" lang="en-US" sz="2800" spc="-1" strike="noStrike">
              <a:solidFill>
                <a:srgbClr val="ffff00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</p:txBody>
      </p:sp>
      <p:pic>
        <p:nvPicPr>
          <p:cNvPr id="355" name="Picture 7" descr="MCj02308240000[1]"/>
          <p:cNvPicPr/>
          <p:nvPr/>
        </p:nvPicPr>
        <p:blipFill>
          <a:blip r:embed="rId1"/>
          <a:stretch/>
        </p:blipFill>
        <p:spPr>
          <a:xfrm>
            <a:off x="5105520" y="2216160"/>
            <a:ext cx="312408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28600" y="456840"/>
            <a:ext cx="8763120" cy="6248520"/>
          </a:xfrm>
          <a:prstGeom prst="rect">
            <a:avLst/>
          </a:prstGeom>
          <a:gradFill rotWithShape="0">
            <a:gsLst>
              <a:gs pos="0">
                <a:srgbClr val="5bd078"/>
              </a:gs>
              <a:gs pos="50000">
                <a:srgbClr val="e8f9ec"/>
              </a:gs>
              <a:gs pos="100000">
                <a:srgbClr val="5bd078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Times New Roman"/>
              </a:rPr>
              <a:t>  </a:t>
            </a:r>
            <a:endParaRPr b="0" lang="en-US" sz="10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станьте, если это нужно, и, извинившись, выйдите из помещения. Например, у вас всегда есть возможность пойти в туалет или какое-нибудь другое место, где вы сможете побыть один.</a:t>
            </a: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оспользуйтесь любым шансом, чтобы смочить лоб, виски  и руки холодной водой.</a:t>
            </a: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  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Медленно осмотритесь по сторонам, даже в том случае, если помещение, в котором вы находитесь, хорошо вам знакомо или выглядит вполне заурядно. Переводя взгляд с одного предмета на другой, мысленно описывайте их внешний вид.</a:t>
            </a: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  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тем посмотрите в окно на небо. Сосредоточьтесь на том, что видите. Когда вы в последний раз вот так смотрели на небо?</a:t>
            </a: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  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абрав воды в стакан, медленно, сосредоточено, выпейте её. Сконцентрируйте своё внимание на ощущениях, когда вода будет течь по горлу.</a:t>
            </a: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ыпрямитесь. Поставьте ноги на ширину плеч и на выдохе наклонитесь, расслабив шею и плечи, так чтобы голова и руки свободно свисали к полу. Дышите глубже, следите за своим дыханием. Продолжайте делать это в течение 1-2 минут. Затем медленно выпрямитесь; действуйте осторожно, чтобы не закружилась голова.</a:t>
            </a: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92d05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20:30:25Z</dcterms:created>
  <dc:creator>Наталия Еременко</dc:creator>
  <dc:description/>
  <dc:language>en-US</dc:language>
  <cp:lastModifiedBy>ЦО№1699</cp:lastModifiedBy>
  <dcterms:modified xsi:type="dcterms:W3CDTF">2017-12-18T11:19:21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