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A46-26E7-4055-8ADD-C3679283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B00-7FED-44B1-B02E-1CCCEED5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758-8C3F-4033-8EE9-A40CC0F8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FD0-615C-4B29-BB51-BC7D056A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D98-1CAE-4195-A4BB-DDAAB7AD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0B1-DFFC-4CFE-8400-6E73BC22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6D8-9631-4AFD-B6FB-32D04880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E3D-83DC-421D-A656-EF3AD295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7DC-39F4-45BA-8CD0-8097EF9D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790-158C-4ABA-A214-A731BCF1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DCB-8C82-499B-BD2A-2B4ABF6F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64E-071B-45A1-9D12-79BF8F30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B005-56C3-49C1-A9DA-47E65B468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ds02.infourok.ru/uploads/ex/0821/0005ad70-8b1b2519/img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24000" y="1268280"/>
            <a:ext cx="66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Тема: «Кто или что движется быстрее?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56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entury Schoolbook"/>
              </a:rPr>
              <a:t>Цель: Научиться определять кто или что движется быстре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116000" y="115920"/>
          <a:ext cx="6912000" cy="6167520"/>
        </p:xfrm>
        <a:graphic>
          <a:graphicData uri="http://schemas.openxmlformats.org/drawingml/2006/table">
            <a:tbl>
              <a:tblPr/>
              <a:tblGrid>
                <a:gridCol w="3456000"/>
                <a:gridCol w="34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от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пар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лорогая антило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лопа Гн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с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е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16000" y="115920"/>
          <a:ext cx="6912000" cy="6553080"/>
        </p:xfrm>
        <a:graphic>
          <a:graphicData uri="http://schemas.openxmlformats.org/drawingml/2006/table">
            <a:tbl>
              <a:tblPr/>
              <a:tblGrid>
                <a:gridCol w="3456000"/>
                <a:gridCol w="34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от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ит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с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ивц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опутные черепа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нландские аку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вые мы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овые аку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гинские опоссу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е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виал (Крокодил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5T11:22:14Z</dcterms:created>
  <dc:creator>user</dc:creator>
  <dc:description/>
  <dc:language>en-US</dc:language>
  <cp:lastModifiedBy>User</cp:lastModifiedBy>
  <dcterms:modified xsi:type="dcterms:W3CDTF">2017-11-16T13:17:58Z</dcterms:modified>
  <cp:revision>4</cp:revision>
  <dc:subject/>
  <dc:title>Тема: «Кто или что движется быстрее?»</dc:title>
</cp:coreProperties>
</file>