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gif" ContentType="image/gif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6DE-46EE-4DA2-9651-469D7980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844-9327-4F21-825B-6E79CE1E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441-D5B5-46D4-B3A6-79B0E45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E3C-5AB4-4D13-99C2-F5D6E47A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14F-A89D-423F-81CA-F26E823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7CC-99C9-4EF1-B725-9E4BFDB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E68-083A-4349-9DB4-2A4ED24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C6E-73D7-4F35-BBEC-72DD9CB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CA2-B4A7-40FA-8029-D297FFD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EAA-9432-477E-B297-C19B3B4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06B-D2CB-4475-8413-D037DAB0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25A-E667-4A0C-A186-6227CE6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73AD-EF85-4437-8381-D32C7A7CA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05160" y="762120"/>
            <a:ext cx="335268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Романтизм в рассказах М.Горь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388800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1b3"/>
          <p:cNvPicPr/>
          <p:nvPr/>
        </p:nvPicPr>
        <p:blipFill>
          <a:blip r:embed="rId3"/>
          <a:stretch/>
        </p:blipFill>
        <p:spPr>
          <a:xfrm rot="340200">
            <a:off x="5257440" y="4038480"/>
            <a:ext cx="3070080" cy="1476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029200" y="62485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952880" y="5867280"/>
            <a:ext cx="403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едина Наталья Ивановна, учитель русского языка и литературы МБОУ «СОКШ №4» г.Нефтеюга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143000" y="838080"/>
            <a:ext cx="32004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егенда о Дан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 привлекательность образа Дан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чувство переживает Данко, глядя на толпу судящих его людей? (ответ подтвердите примером из 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а функция эпизода с «осторожным человеко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Danko_1.jpg"/>
          <p:cNvPicPr/>
          <p:nvPr/>
        </p:nvPicPr>
        <p:blipFill>
          <a:blip r:embed="rId2"/>
          <a:stretch/>
        </p:blipFill>
        <p:spPr>
          <a:xfrm>
            <a:off x="5105520" y="838080"/>
            <a:ext cx="3263760" cy="4440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 flipH="1" flipV="1" rot="10800000">
            <a:off x="685800" y="3454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523880" y="1676520"/>
            <a:ext cx="381024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ничего не дел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тем 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та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ть   с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л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ртвовать  соб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ая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14400" y="838080"/>
            <a:ext cx="304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029200" y="838080"/>
            <a:ext cx="33526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 ли вы с высказыванием о том, что «в жизни всегда есть место подвигу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его поним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якой ли жизни возможен подвиг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кий ли человек пользуется в жизни этим правом подви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ила ли старуха Изергиль подвиг, о котором говор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ём  близка Изергиль Ларре и Дан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38080" y="3733920"/>
            <a:ext cx="358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функция образа Изергиль в рассказ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 помощью Изергиль соотносятся между собой образы Ларры и Данко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18669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Ларра и Да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14400" y="838080"/>
            <a:ext cx="304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257800" y="1143000"/>
            <a:ext cx="2819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казать, что герои существуют изолированно от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нравственный закон определяет поступки обоих геро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1981080"/>
            <a:ext cx="37339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в характерах Ларры и Данко и в чём между ними разниц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место занимает общество во внутренних размышлениях обоих геро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219320" y="990720"/>
            <a:ext cx="6858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КВЕЙН                          «Образы Данко и Лар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по три существительных, прилагательных и глагола, которые характеризовали бы героев, отражали их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оставьте портреты Ларры и Данк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 ли они необычными личност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14400" y="838080"/>
            <a:ext cx="304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17840"/>
          <a:ext cx="7696080" cy="36874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р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р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чатление, производимое на окружаю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 горд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люд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в момент с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ьба геро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4032000" cy="548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Романтиз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правление в литературе и искусстве, проникнутое стремлением показать в ярких образах высокое назначение человека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горький"/>
          <p:cNvPicPr/>
          <p:nvPr/>
        </p:nvPicPr>
        <p:blipFill>
          <a:blip r:embed="rId2"/>
          <a:stretch/>
        </p:blipFill>
        <p:spPr>
          <a:xfrm>
            <a:off x="5943600" y="914400"/>
            <a:ext cx="158436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6477120" y="4497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181480" y="31240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 «Старуха Изерги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4113000" cy="205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собенности романтического произве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181480" y="6858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095880" y="1295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143000" y="2819520"/>
            <a:ext cx="29718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 необыкновенн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тический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нтический 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105520" y="685800"/>
            <a:ext cx="327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омантического героя с окружающей его действи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ение мира на реальный и иде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повествования ярок и эмоциона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2970360" cy="221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Какие из изученных ранее произведений можно отнести к романтическ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181480" y="6858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95880" y="1295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 rot="10178400">
            <a:off x="5102280" y="14922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" descr="Песня о соколе.jpg"/>
          <p:cNvPicPr/>
          <p:nvPr/>
        </p:nvPicPr>
        <p:blipFill>
          <a:blip r:embed="rId2"/>
          <a:stretch/>
        </p:blipFill>
        <p:spPr>
          <a:xfrm>
            <a:off x="5181480" y="1066680"/>
            <a:ext cx="3089520" cy="4407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Песня о буревестнике.jpg"/>
          <p:cNvPicPr/>
          <p:nvPr/>
        </p:nvPicPr>
        <p:blipFill>
          <a:blip r:embed="rId3"/>
          <a:stretch/>
        </p:blipFill>
        <p:spPr>
          <a:xfrm>
            <a:off x="990720" y="3124080"/>
            <a:ext cx="3333600" cy="24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181480" y="6858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5880" y="1295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 rot="10178400">
            <a:off x="5102280" y="14922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 rot="5400000">
            <a:off x="2476080" y="2324160"/>
            <a:ext cx="4724640" cy="2209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н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Горь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 rot="4911600">
            <a:off x="1432800" y="744480"/>
            <a:ext cx="1670400" cy="2625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«Песня о </a:t>
            </a:r>
            <a:r>
              <a:rPr b="0" lang="en-US" sz="2400" spc="-1" strike="noStrike">
                <a:solidFill>
                  <a:srgbClr val="000000"/>
                </a:solidFill>
                <a:latin typeface="Arno Pro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о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 flipH="1" flipV="1" rot="15777000">
            <a:off x="1193760" y="3400200"/>
            <a:ext cx="1565280" cy="2599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«Песня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Буревестн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1"/>
          <p:cNvSpPr/>
          <p:nvPr/>
        </p:nvSpPr>
        <p:spPr>
          <a:xfrm rot="6214800">
            <a:off x="6325200" y="835560"/>
            <a:ext cx="1676160" cy="2744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«Макар Чуд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2"/>
          <p:cNvSpPr/>
          <p:nvPr/>
        </p:nvSpPr>
        <p:spPr>
          <a:xfrm rot="5915400">
            <a:off x="6591240" y="3543120"/>
            <a:ext cx="1523880" cy="2362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«Стар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no Pro"/>
              </a:rPr>
              <a:t>Изерги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 rot="11404200">
            <a:off x="2971440" y="2818800"/>
            <a:ext cx="835200" cy="214200"/>
          </a:xfrm>
          <a:prstGeom prst="rightArrow">
            <a:avLst>
              <a:gd name="adj1" fmla="val 50000"/>
              <a:gd name="adj2" fmla="val 9747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 rot="20521800">
            <a:off x="5943600" y="3047760"/>
            <a:ext cx="835200" cy="214200"/>
          </a:xfrm>
          <a:prstGeom prst="rightArrow">
            <a:avLst>
              <a:gd name="adj1" fmla="val 50000"/>
              <a:gd name="adj2" fmla="val 9747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 rot="1112400">
            <a:off x="5943600" y="3733920"/>
            <a:ext cx="835200" cy="214200"/>
          </a:xfrm>
          <a:prstGeom prst="rightArrow">
            <a:avLst>
              <a:gd name="adj1" fmla="val 50000"/>
              <a:gd name="adj2" fmla="val 9747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 rot="9212400">
            <a:off x="2971440" y="3885840"/>
            <a:ext cx="835200" cy="214200"/>
          </a:xfrm>
          <a:prstGeom prst="rightArrow">
            <a:avLst>
              <a:gd name="adj1" fmla="val 50000"/>
              <a:gd name="adj2" fmla="val 9747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М.Горького «Старуха Изергиль» написан в 1894 году и впервые опубликован в 1895 году в «Самарской газет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принадлежит к раннему творчеству писател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403200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«Старуха Изергиль»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композиция литературного произведения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вязаны понятия композиция, тема, идея литературного произведения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 необычна композиция рассказа «Старуха Изергиль»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риём лежит в основе построения расс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Старуха Изергиль.jpg"/>
          <p:cNvPicPr/>
          <p:nvPr/>
        </p:nvPicPr>
        <p:blipFill>
          <a:blip r:embed="rId2"/>
          <a:stretch/>
        </p:blipFill>
        <p:spPr>
          <a:xfrm>
            <a:off x="5181480" y="1230480"/>
            <a:ext cx="306252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143000" y="609480"/>
            <a:ext cx="28954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егенда о Ларр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чего «складываетс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Лар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ли, что Ларра-сын женщины и ор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ы люди, к которым привела его м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 суть конфликта людей и Лар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Ларра.jpeg"/>
          <p:cNvPicPr/>
          <p:nvPr/>
        </p:nvPicPr>
        <p:blipFill>
          <a:blip r:embed="rId2"/>
          <a:stretch/>
        </p:blipFill>
        <p:spPr>
          <a:xfrm>
            <a:off x="5257800" y="1143000"/>
            <a:ext cx="2919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057400" y="4191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рж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н женщины и о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ть  без людей и только для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вращается в тен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&quot;Иллюстрация к рассказу М. Горького «Старуха Изергиль» В. И. Макеева. Осуждение Ларры&quot;"/>
          <p:cNvPicPr/>
          <p:nvPr/>
        </p:nvPicPr>
        <p:blipFill>
          <a:blip r:embed="rId3"/>
          <a:stretch/>
        </p:blipFill>
        <p:spPr>
          <a:xfrm>
            <a:off x="2286000" y="990720"/>
            <a:ext cx="2514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17-12-18T13:51:2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