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067-BA8E-4537-9BC7-11422112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EB9-A5A9-46A8-B729-CBACDEB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731-77A6-4198-B97A-3061B5B2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A63-2D70-4CD6-B469-D57028EC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4AC-D5BE-4D97-8468-9A6C2038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0BF-4F08-4F70-BF95-99AF5A9D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AE4-FA9A-450B-96D3-8075641E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804-91E8-488C-A647-6E33B51D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CFB-BBE4-4720-8214-A09870E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D10-219F-4FD7-B625-EC5FA32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BB1-2202-4470-BC6C-3BE5BAE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E9A-5AEB-4CA0-959B-E0C62B12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793-BD0F-4753-AF2A-61CC62094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ОВОГОДНЯЯ    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8040" y="1484280"/>
            <a:ext cx="43513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84720" y="121608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89000"/>
            <a:ext cx="475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шей стране елочка повидала всякое. В 20-ые годы празднование Рождества было запрещено, а вместе с этим и запрещено было наряжать в домах елки, как необходимый атрибут праздника. Однако в 30-е годы елку стали трактовать, уже как символ не рождественского, а новогоднего праздника. В 1935 году был организован первый новогодний детский утренник, где гостьей стала и зеленая красавица. После этого гонения на елочку со стороны властей прекратились. Празднование Нового года было узакон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961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561960"/>
            <a:ext cx="92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готовление ёл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г первы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70280" y="1700280"/>
            <a:ext cx="422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58000" y="201600"/>
            <a:ext cx="27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г втор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4147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33800" y="26028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г трет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39639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89800" y="476280"/>
            <a:ext cx="35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г четвёрты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88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6520" y="40464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г пяты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44880" y="1413000"/>
            <a:ext cx="4371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7:44:29Z</dcterms:created>
  <dc:creator>Admin</dc:creator>
  <dc:description/>
  <dc:language>en-US</dc:language>
  <cp:lastModifiedBy>Admin</cp:lastModifiedBy>
  <dcterms:modified xsi:type="dcterms:W3CDTF">2012-11-03T19:22:15Z</dcterms:modified>
  <cp:revision>5</cp:revision>
  <dc:subject/>
  <dc:title>Слайд 1</dc:title>
</cp:coreProperties>
</file>