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F6D8-8265-4096-BC69-20474723C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C82A-F302-4C08-9D61-7D6D8576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E6B1-D9D4-4D63-BC5D-505C50EFA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BBA9-5B52-4B7C-B4A6-56D96A151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A3DB-8EA3-41CF-BEE2-DF63A56B4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BEBB-3873-490B-8178-2C0E0000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97E2-0FFE-47F3-90DE-1B74A2AA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D752-1B8B-4E82-AEC1-64822210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B461-BAB3-4080-8EBE-C34BB608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5802-F55B-4BD8-9C07-19009F46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C35D-3CBB-4A19-A3BF-D142F95D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3548-D8AF-4D6F-B5CC-36291054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058A7-8EE8-4B2E-BFE9-79FFD33E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66AD-55F6-4F00-9073-C185D8B7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FE14-9767-4335-BF06-5AFAFA08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D1A9-1A4D-4AD3-B8BC-CD9A224F5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A5794-D1F2-4F48-B6E7-2D8CF41D8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6E1AB2-A60A-4866-B68B-9291F9DF5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926A33-5D42-42E3-A0A9-7F2B88C5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4BD0EB-38E6-456B-A134-BE9D5EF7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F6DA50-316F-4994-833E-E0DA646C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781578-9002-4806-BB2B-DB62BA1E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5C6B-0CCA-4584-86BA-9904D3F4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0E0337-0FD4-46E4-9B85-4C995657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2A1264-5D74-4BCF-8CE1-EBB6361A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EFD754-A5F2-4E3D-8740-504D0271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5464A7-004C-4FBF-AF5E-8625F9D2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1940E2-CDDB-4E45-8E9B-A1944577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F2609E-3965-40CA-A6DA-13138FE2F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B57E16-C4CC-4054-8B1D-22A805969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EBC8D-3335-4685-8D30-095BA5C53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9EEBB-2907-4A6F-B79E-91B4DBA9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F17CD-20A2-454E-9430-FDCB3F76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B22B-1D61-463A-93EC-62CFFAEC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6D948-7A5D-42B1-BB2D-BC06D4F1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E32FF-E690-4B84-A50E-948A051C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CFA26-DDF6-4AFE-9424-91CE05A3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8E701-DF17-40E9-ADD6-000A3543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519E9-0AC7-48D3-9780-8C19C440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413C5-851E-4443-8CCE-6F0E78E3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65892-B466-4232-8FE9-AD1A54F2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AC820-C4F8-43D4-8385-B05573C09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297D4-F120-4641-897F-C0DED3608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23C7-9B54-49AE-AE99-8814DB7F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C701-8FBD-4765-A38A-0AF3F4DE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DE19-1D97-4433-BA5B-78EC711C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24C2-962A-4138-8F70-4B7F9A4D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49BF-81E3-4423-BCE4-675765B5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AC66-52C2-4A83-8E16-3E287C491BEF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FAA1-96B4-4639-925D-F0861475688E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B521-C1C3-4793-9F01-9D5F015C86F8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28A9-8816-41FA-A4AC-3D4FE49D48BA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3640" y="14839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763280" y="4005360"/>
            <a:ext cx="4953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Выполнил  работу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Масляков Никит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обучающийся ГБПОУ СО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«Александрово - Гайский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политехнический лицей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 </a:t>
            </a: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Руководитель: С.Ж.Макзумов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преподаватель спец.дисциплин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920" y="9079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4456"/>
                </a:solidFill>
                <a:latin typeface="Trebuchet MS"/>
              </a:rPr>
              <a:t>Государственная политика занятости населения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Государственная программа «Содействие занятости населения, совершенствование социально-трудовых отношений и регулирование трудовой миграции в Саратовской области до 2020 года»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егиональные программы по снижению социальной напряженности (27 совместных программ в 60 населенных пунктах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0" descr="https://im1-tub-ru.yandex.net/i?id=07a116eba4c11932a0688d6d2213a9f4&amp;n=33&amp;h=215&amp;w=323"/>
          <p:cNvPicPr/>
          <p:nvPr/>
        </p:nvPicPr>
        <p:blipFill>
          <a:blip r:embed="rId1"/>
          <a:stretch/>
        </p:blipFill>
        <p:spPr>
          <a:xfrm rot="21042000">
            <a:off x="5076720" y="3519360"/>
            <a:ext cx="3076560" cy="2048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45" name="Picture 2" descr="http://www.tver.ru/share/news/2012/april/23/memo/15184.jpg"/>
          <p:cNvPicPr/>
          <p:nvPr/>
        </p:nvPicPr>
        <p:blipFill>
          <a:blip r:embed="rId2"/>
          <a:stretch/>
        </p:blipFill>
        <p:spPr>
          <a:xfrm rot="258000">
            <a:off x="5655960" y="1457280"/>
            <a:ext cx="3192480" cy="21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24456"/>
                </a:solidFill>
                <a:latin typeface="Trebuchet MS"/>
              </a:rPr>
              <a:t>Основные мероприятия  программ 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1844640"/>
            <a:ext cx="5554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27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рганизация временных работ безработных и подростков по благоустройству территории, социально-значимых объектов, благоустройству памятников, мемориалов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24720" indent="-227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24720" indent="-227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ременное и постоянное трудоустройство безработных в организациях район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24720" indent="-227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8" name="Picture 4" descr="https://im1-tub-ru.yandex.net/i?id=5eafc34413251e7e6b2a5dfcc398935b&amp;n=33&amp;h=215&amp;w=381"/>
          <p:cNvPicPr/>
          <p:nvPr/>
        </p:nvPicPr>
        <p:blipFill>
          <a:blip r:embed="rId3"/>
          <a:stretch/>
        </p:blipFill>
        <p:spPr>
          <a:xfrm rot="435600">
            <a:off x="6351120" y="5028840"/>
            <a:ext cx="2665440" cy="21747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49" name="AutoShape 8"/>
          <p:cNvSpPr/>
          <p:nvPr/>
        </p:nvSpPr>
        <p:spPr>
          <a:xfrm>
            <a:off x="1476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0"/>
          <p:cNvSpPr/>
          <p:nvPr/>
        </p:nvSpPr>
        <p:spPr>
          <a:xfrm>
            <a:off x="1476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2"/>
          <p:cNvSpPr/>
          <p:nvPr/>
        </p:nvSpPr>
        <p:spPr>
          <a:xfrm>
            <a:off x="1476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2" descr="https://im3-tub-ru.yandex.net/i?id=b1efe1f922a4273adbac965e8fe5dd1a&amp;n=33&amp;h=215&amp;w=385"/>
          <p:cNvPicPr/>
          <p:nvPr/>
        </p:nvPicPr>
        <p:blipFill>
          <a:blip r:embed="rId1"/>
          <a:stretch/>
        </p:blipFill>
        <p:spPr>
          <a:xfrm rot="20843400">
            <a:off x="5003640" y="5157360"/>
            <a:ext cx="2160720" cy="1700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53" name="Picture 28" descr="http://stroytop74.ru/img/friend.jpg"/>
          <p:cNvPicPr/>
          <p:nvPr/>
        </p:nvPicPr>
        <p:blipFill>
          <a:blip r:embed="rId2"/>
          <a:stretch/>
        </p:blipFill>
        <p:spPr>
          <a:xfrm rot="432000">
            <a:off x="7236000" y="5157360"/>
            <a:ext cx="1908000" cy="1700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54" name="Picture 12" descr="https://im2-tub-ru.yandex.net/i?id=09c29c6bf4a98a189757b1f7a5983c4a&amp;n=33&amp;h=215&amp;w=471"/>
          <p:cNvPicPr/>
          <p:nvPr/>
        </p:nvPicPr>
        <p:blipFill>
          <a:blip r:embed="rId3"/>
          <a:stretch/>
        </p:blipFill>
        <p:spPr>
          <a:xfrm rot="21051600">
            <a:off x="4642920" y="2997000"/>
            <a:ext cx="2305080" cy="158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55" name="Picture 36" descr="http://thumbs.dreamstime.com/z/%D1%87%D0%B5-%D0%BE%D0%B2%D0%B5%D0%BA-%D0%B8-%D0%B2%D0%BE%D0%BF%D1%80%D0%BE%D1%81-%D0%B2%D0%BA-%D1%8E%D1%87%D0%B5%D0%BD%D0%BD%D1%8B%D0%B9-%D0%BF%D1%83%D1%82%D1%8C-%D0%BA-%D0%B8%D0%BF%D0%BF%D0%B8%D1%80%D0%BE%D0%B2%D0%B0%D0%BD%D0%B8%D1%8F-34471323.jpg"/>
          <p:cNvPicPr/>
          <p:nvPr/>
        </p:nvPicPr>
        <p:blipFill>
          <a:blip r:embed="rId4"/>
          <a:srcRect l="0" t="0" r="-449" b="9718"/>
          <a:stretch/>
        </p:blipFill>
        <p:spPr>
          <a:xfrm rot="534000">
            <a:off x="6803640" y="1484280"/>
            <a:ext cx="2340000" cy="1693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3640" y="691920"/>
            <a:ext cx="89643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4456"/>
                </a:solidFill>
                <a:latin typeface="Trebuchet MS"/>
              </a:rPr>
              <a:t>«Психологическая поддержка </a:t>
            </a:r>
            <a:br>
              <a:rPr sz="3200"/>
            </a:br>
            <a:r>
              <a:rPr b="1" i="1" lang="ru-RU" sz="3200" spc="-1" strike="noStrike">
                <a:solidFill>
                  <a:srgbClr val="424456"/>
                </a:solidFill>
                <a:latin typeface="Trebuchet MS"/>
              </a:rPr>
              <a:t>безработных граждан»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0" y="1844640"/>
            <a:ext cx="56275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онсультации на первом этапе безработицы: неопределенность, высокая тревожность в связи с потерей работы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онсультации в конфликтной ситуации в период поиска работы: отказы работодателей в приеме на работу, изменения в семейных отношениях в связи с длительной безработицей и т.п.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онсультации построения и сопровождения профессиональной карьеры: анализ возможных вариантов карьеры, адаптация к новому рабочему месту, ресурсы в поиске работы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AutoShape 2"/>
          <p:cNvSpPr/>
          <p:nvPr/>
        </p:nvSpPr>
        <p:spPr>
          <a:xfrm>
            <a:off x="1476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34" descr="https://im0-tub-ru.yandex.net/i?id=5b2dac15e45bdca4982ee950ee2fbbeb&amp;n=33&amp;h=215&amp;w=301"/>
          <p:cNvPicPr/>
          <p:nvPr/>
        </p:nvPicPr>
        <p:blipFill>
          <a:blip r:embed="rId5"/>
          <a:stretch/>
        </p:blipFill>
        <p:spPr>
          <a:xfrm rot="543000">
            <a:off x="6875640" y="3357360"/>
            <a:ext cx="2268360" cy="165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8964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4456"/>
                </a:solidFill>
                <a:latin typeface="Trebuchet MS"/>
              </a:rPr>
              <a:t>По категориям безработных граждан психологическую поддержку получили: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16280"/>
            <a:ext cx="822960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женщины – 3033 человека (59,1%)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граждане в возрасте до 29 лет – 853 человек (16,6%)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граждане, относящиеся к категории инвалидов – 556 человека (10,8%)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воленные в связи с ликвидацией организации, либо сокращением штата работников организации – 1252 человек (24,4%)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свобожденные из учреждений, исполняющих наказание в виде лишения свободы – 21 человек (0,4%)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тремящиеся возобновить трудовую деятельность после длительного (более года) перерыва – 584 человек (11,3%)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граждане, относящиеся к категории детей-сирот и детей, оставшихся без попечения родителей, – 77 человек (1,5%).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24456"/>
                </a:solidFill>
                <a:latin typeface="Trebuchet MS"/>
              </a:rPr>
              <a:t>Александрово-Гайский район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3" name="Picture 21" descr="https://im0-tub-ru.yandex.net/i?id=4f2470161fa1d10392506b13c4f70150&amp;n=33&amp;h=215&amp;w=387"/>
          <p:cNvPicPr/>
          <p:nvPr/>
        </p:nvPicPr>
        <p:blipFill>
          <a:blip r:embed="rId1"/>
          <a:stretch/>
        </p:blipFill>
        <p:spPr>
          <a:xfrm>
            <a:off x="4500720" y="2637000"/>
            <a:ext cx="3686040" cy="2047680"/>
          </a:xfrm>
          <a:prstGeom prst="rect">
            <a:avLst/>
          </a:prstGeom>
          <a:ln w="0">
            <a:noFill/>
          </a:ln>
        </p:spPr>
      </p:pic>
      <p:sp>
        <p:nvSpPr>
          <p:cNvPr id="264" name="TextBox 5"/>
          <p:cNvSpPr/>
          <p:nvPr/>
        </p:nvSpPr>
        <p:spPr>
          <a:xfrm>
            <a:off x="250920" y="3141720"/>
            <a:ext cx="36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3737"/>
                </a:solidFill>
                <a:latin typeface="Arial"/>
              </a:rPr>
              <a:t>Уровень безработицы (январь 2016 года) – 1,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4" descr="&amp;Ncy;&amp;acy;&amp;zhcy;&amp;mcy;&amp;icy;&amp;tcy;&amp;iecy; &amp;ncy;&amp;acy; &amp;kcy;&amp;acy;&amp;rcy;&amp;tcy;&amp;icy;&amp;ncy;&amp;kcy;&amp;ucy; &amp;chcy;&amp;tcy;&amp;ocy;&amp;bcy;&amp;ycy; &amp;ucy;&amp;vcy;&amp;iecy;&amp;lcy;&amp;icy;&amp;chcy;&amp;icy;&amp;tcy;&amp;softcy;"/>
          <p:cNvPicPr/>
          <p:nvPr/>
        </p:nvPicPr>
        <p:blipFill>
          <a:blip r:embed="rId1"/>
          <a:stretch/>
        </p:blipFill>
        <p:spPr>
          <a:xfrm>
            <a:off x="1187280" y="1557360"/>
            <a:ext cx="6264360" cy="4106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split dir="in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2" descr="&amp;Ncy;&amp;acy;&amp;zhcy;&amp;mcy;&amp;icy;&amp;tcy;&amp;iecy; &amp;ncy;&amp;acy; &amp;kcy;&amp;acy;&amp;rcy;&amp;tcy;&amp;icy;&amp;ncy;&amp;kcy;&amp;ucy; &amp;chcy;&amp;tcy;&amp;ocy;&amp;bcy;&amp;ycy; &amp;ucy;&amp;vcy;&amp;iecy;&amp;lcy;&amp;icy;&amp;chcy;&amp;icy;&amp;tcy;&amp;softcy;"/>
          <p:cNvPicPr/>
          <p:nvPr/>
        </p:nvPicPr>
        <p:blipFill>
          <a:blip r:embed="rId1"/>
          <a:stretch/>
        </p:blipFill>
        <p:spPr>
          <a:xfrm>
            <a:off x="1403280" y="1557360"/>
            <a:ext cx="6337440" cy="38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split dir="in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&amp;Ncy;&amp;acy;&amp;zhcy;&amp;mcy;&amp;icy;&amp;tcy;&amp;iecy; &amp;ncy;&amp;acy; &amp;kcy;&amp;acy;&amp;rcy;&amp;tcy;&amp;icy;&amp;ncy;&amp;kcy;&amp;ucy; &amp;chcy;&amp;tcy;&amp;ocy;&amp;bcy;&amp;ycy; &amp;ucy;&amp;vcy;&amp;iecy;&amp;lcy;&amp;icy;&amp;chcy;&amp;icy;&amp;tcy;&amp;softcy;"/>
          <p:cNvPicPr/>
          <p:nvPr/>
        </p:nvPicPr>
        <p:blipFill>
          <a:blip r:embed="rId1"/>
          <a:stretch/>
        </p:blipFill>
        <p:spPr>
          <a:xfrm>
            <a:off x="1476360" y="1700280"/>
            <a:ext cx="5956200" cy="3457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split dir="in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4456"/>
                </a:solidFill>
                <a:latin typeface="Trebuchet MS"/>
              </a:rPr>
              <a:t>Временное трудоустройство несовершеннолетних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643280" y="1628640"/>
            <a:ext cx="4392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благоустройство территорий предприятий и микрорайонов города;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выполнение подсобных строительных работ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работа в соответствии с профессиональной подготовкой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помощь в библиотеках и детских дошкольных учреждениях;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уход за престарелыми и т.д.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0" name="Picture 26" descr="http://s54.radikal.ru/i143/1306/b6/3d950e652684.jpg"/>
          <p:cNvPicPr/>
          <p:nvPr/>
        </p:nvPicPr>
        <p:blipFill>
          <a:blip r:embed="rId1"/>
          <a:stretch/>
        </p:blipFill>
        <p:spPr>
          <a:xfrm>
            <a:off x="2268360" y="2852640"/>
            <a:ext cx="2519640" cy="1584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2" descr="https://im2-tub-ru.yandex.net/i?id=36580d9deec30e4d7eef634ac00e6cd2&amp;n=33&amp;h=215&amp;w=321"/>
          <p:cNvPicPr/>
          <p:nvPr/>
        </p:nvPicPr>
        <p:blipFill>
          <a:blip r:embed="rId2"/>
          <a:stretch/>
        </p:blipFill>
        <p:spPr>
          <a:xfrm>
            <a:off x="0" y="4221000"/>
            <a:ext cx="2560680" cy="14828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4" descr="http://kbr.news-r.ru.images.1c-bitrix-cdn.ru/upload/iblock/243/243e3fa738d4498faa82577de99fdfc6.jpg?1446882253341395"/>
          <p:cNvPicPr/>
          <p:nvPr/>
        </p:nvPicPr>
        <p:blipFill>
          <a:blip r:embed="rId3"/>
          <a:stretch/>
        </p:blipFill>
        <p:spPr>
          <a:xfrm>
            <a:off x="49320" y="1544760"/>
            <a:ext cx="2663640" cy="14968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4" descr="http://uslide.ru/images/25/31318/960/img20.jpg"/>
          <p:cNvPicPr/>
          <p:nvPr/>
        </p:nvPicPr>
        <p:blipFill>
          <a:blip r:embed="rId4"/>
          <a:stretch/>
        </p:blipFill>
        <p:spPr>
          <a:xfrm>
            <a:off x="2340000" y="5354640"/>
            <a:ext cx="2448000" cy="15033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http://ufarabota.org/images/new/180119_d41d8cd9.jpg"/>
          <p:cNvPicPr/>
          <p:nvPr/>
        </p:nvPicPr>
        <p:blipFill>
          <a:blip r:embed="rId1"/>
          <a:stretch/>
        </p:blipFill>
        <p:spPr>
          <a:xfrm>
            <a:off x="4572000" y="4292640"/>
            <a:ext cx="2232000" cy="151128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24456"/>
                </a:solidFill>
                <a:latin typeface="Trebuchet MS"/>
              </a:rPr>
              <a:t>Центром занятости населения Александрово-Гайского района предусмотрено оказание следующих видов:</a:t>
            </a:r>
            <a:br>
              <a:rPr sz="2800"/>
            </a:b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50920" y="1844640"/>
            <a:ext cx="4968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сихологическая поддержка граждан при потере работы;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знакомление с технологией поиска работы;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пределение по вопросам перемены профессии;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ыбор  подходящей профессии на основе профдиагностического тестирования;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знакомление с содержанием выбранной профессии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знакомление с возможностями обучения по выбранной профессии;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пределение пригодности к выбранной профессии;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олучение информации о том, какие профессии пользуются спросом на рынке труда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7" name="Picture 4" descr="https://im1-tub-ru.yandex.net/i?id=4eb32ef079b64c4d113d3bb075791646&amp;n=33&amp;h=215&amp;w=398"/>
          <p:cNvPicPr/>
          <p:nvPr/>
        </p:nvPicPr>
        <p:blipFill>
          <a:blip r:embed="rId2"/>
          <a:stretch/>
        </p:blipFill>
        <p:spPr>
          <a:xfrm>
            <a:off x="6211800" y="5273640"/>
            <a:ext cx="2932200" cy="15843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http://dniprograd.org/system/App/Post/images/000/031/608/very_large/23639_big.jpg"/>
          <p:cNvPicPr/>
          <p:nvPr/>
        </p:nvPicPr>
        <p:blipFill>
          <a:blip r:embed="rId3"/>
          <a:stretch/>
        </p:blipFill>
        <p:spPr>
          <a:xfrm>
            <a:off x="6696000" y="3213000"/>
            <a:ext cx="2448000" cy="14814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6" descr="http://www.bagnet.org/storage/11/20/03/15/729_486_560d544781d12.jpg"/>
          <p:cNvPicPr/>
          <p:nvPr/>
        </p:nvPicPr>
        <p:blipFill>
          <a:blip r:embed="rId4"/>
          <a:stretch/>
        </p:blipFill>
        <p:spPr>
          <a:xfrm>
            <a:off x="6048360" y="1268280"/>
            <a:ext cx="3095640" cy="18734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http://cs314931.vk.me/v314931192/4c6d/CGu-Y59KDSQ.jpg"/>
          <p:cNvPicPr/>
          <p:nvPr/>
        </p:nvPicPr>
        <p:blipFill>
          <a:blip r:embed="rId1"/>
          <a:stretch/>
        </p:blipFill>
        <p:spPr>
          <a:xfrm rot="288600">
            <a:off x="6040080" y="3710160"/>
            <a:ext cx="2971800" cy="2468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217" name="Picture 6" descr="http://magnitka74.ru/uploads/posts/2011-08/1312540388_trudovaya-knizhka.jpg"/>
          <p:cNvPicPr/>
          <p:nvPr/>
        </p:nvPicPr>
        <p:blipFill>
          <a:blip r:embed="rId2"/>
          <a:stretch/>
        </p:blipFill>
        <p:spPr>
          <a:xfrm>
            <a:off x="2916360" y="3573360"/>
            <a:ext cx="2879640" cy="2543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218" name="Picture 8" descr="http://orm-nn.ru/upload/1106-sayt-seks-znakomstv-v-orenburge-bez-registratsii.jpg"/>
          <p:cNvPicPr/>
          <p:nvPr/>
        </p:nvPicPr>
        <p:blipFill>
          <a:blip r:embed="rId3"/>
          <a:stretch/>
        </p:blipFill>
        <p:spPr>
          <a:xfrm rot="21293400">
            <a:off x="109440" y="3683160"/>
            <a:ext cx="2592360" cy="2592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219" name="Picture 12" descr="http://newdaynews.ru/pict/arts1/r11/dop1/14/08/4.jpg"/>
          <p:cNvPicPr/>
          <p:nvPr/>
        </p:nvPicPr>
        <p:blipFill>
          <a:blip r:embed="rId4"/>
          <a:stretch/>
        </p:blipFill>
        <p:spPr>
          <a:xfrm rot="21339600">
            <a:off x="82080" y="517320"/>
            <a:ext cx="3071880" cy="2303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220" name="Picture 8" descr="http://www.moymalish.com/upls/img/news/cb666-deputaty_predlagayut_uvelichit_otpuska_roditelyam.jpg"/>
          <p:cNvPicPr/>
          <p:nvPr/>
        </p:nvPicPr>
        <p:blipFill>
          <a:blip r:embed="rId5"/>
          <a:stretch/>
        </p:blipFill>
        <p:spPr>
          <a:xfrm rot="508200">
            <a:off x="6188040" y="743040"/>
            <a:ext cx="2808360" cy="2209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221" name="Picture 6" descr="https://im1-tub-ru.yandex.net/i?id=c8aba9d491c83c75c39bb523d65116ef&amp;n=33&amp;h=215&amp;w=332"/>
          <p:cNvPicPr/>
          <p:nvPr/>
        </p:nvPicPr>
        <p:blipFill>
          <a:blip r:embed="rId6"/>
          <a:stretch/>
        </p:blipFill>
        <p:spPr>
          <a:xfrm>
            <a:off x="3276720" y="476280"/>
            <a:ext cx="2879640" cy="2289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"/>
          <p:cNvGraphicFramePr/>
          <p:nvPr/>
        </p:nvGraphicFramePr>
        <p:xfrm>
          <a:off x="457200" y="2349360"/>
          <a:ext cx="8229600" cy="2521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ереобучение,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Личное дело,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</p:spTree>
  </p:cSld>
  <p:transition>
    <p:split dir="in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8229600" cy="15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4456"/>
                </a:solidFill>
                <a:latin typeface="Trebuchet MS"/>
              </a:rPr>
              <a:t>Численность граждан, получающих пособие по безработице в Александрово-Гайском районе</a:t>
            </a:r>
            <a:br>
              <a:rPr sz="3200"/>
            </a:b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2" name="Picture 37" descr="&amp;Zcy;&amp;acy;&amp;kcy;&amp;rcy;&amp;ycy;&amp;tcy;&amp;softcy; &amp;ocy;&amp;kcy;&amp;ncy;&amp;ocy;"/>
          <p:cNvPicPr/>
          <p:nvPr/>
        </p:nvPicPr>
        <p:blipFill>
          <a:blip r:embed="rId1"/>
          <a:stretch/>
        </p:blipFill>
        <p:spPr>
          <a:xfrm>
            <a:off x="1258920" y="2852640"/>
            <a:ext cx="6416640" cy="2751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split dir="in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8" descr="&amp;Ncy;&amp;acy;&amp;zhcy;&amp;mcy;&amp;icy;&amp;tcy;&amp;iecy; &amp;ncy;&amp;acy; &amp;kcy;&amp;acy;&amp;rcy;&amp;tcy;&amp;icy;&amp;ncy;&amp;kcy;&amp;ucy; &amp;chcy;&amp;tcy;&amp;ocy;&amp;bcy;&amp;ycy; &amp;ucy;&amp;vcy;&amp;iecy;&amp;lcy;&amp;icy;&amp;chcy;&amp;icy;&amp;tcy;&amp;softcy;"/>
          <p:cNvPicPr/>
          <p:nvPr/>
        </p:nvPicPr>
        <p:blipFill>
          <a:blip r:embed="rId1"/>
          <a:stretch/>
        </p:blipFill>
        <p:spPr>
          <a:xfrm>
            <a:off x="1476360" y="1773360"/>
            <a:ext cx="6091200" cy="324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split dir="in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https://im0-tub-ru.yandex.net/i?id=04dfb33dddd2aa2dfcf92e7acf93e3ad&amp;n=33&amp;h=215&amp;w=410"/>
          <p:cNvPicPr/>
          <p:nvPr/>
        </p:nvPicPr>
        <p:blipFill>
          <a:blip r:embed="rId1"/>
          <a:stretch/>
        </p:blipFill>
        <p:spPr>
          <a:xfrm>
            <a:off x="6084720" y="5013360"/>
            <a:ext cx="2794320" cy="18446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4456"/>
                </a:solidFill>
                <a:latin typeface="Trebuchet MS"/>
              </a:rPr>
              <a:t>Заключение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95280" y="1052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отношении России еще не отменены санкции, что отражается на экономике страны и развитии ряда отраслей. С другой стороны, уже в 2016 году намечены направления по созданию новых рабочих мест путем открытия отечественных заводов и производств. Однако это кропотливый процесс, требующий времени. В связи с чем, правительство страны делает прогноз о повышении уровня безработицы до уровня 6,4%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этом фоне значительная роль должна уделяться государственной политике занятости населения, активному развитию имеющихся социальных программ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передний план борьбы с безработицей должны выходить местные власти, которые лучше информированы о ситуации на региональном рынке труда и обладают определенными материальными и финансовыми ресурсами для разработки и реализации комплексной системы мер содействия занятост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7" name="Picture 2" descr="http://static.kremlin.ru/media/events/photos/big/41d36e0b928504043f30.jpeg"/>
          <p:cNvPicPr/>
          <p:nvPr/>
        </p:nvPicPr>
        <p:blipFill>
          <a:blip r:embed="rId2"/>
          <a:stretch/>
        </p:blipFill>
        <p:spPr>
          <a:xfrm>
            <a:off x="684360" y="5300640"/>
            <a:ext cx="2808000" cy="1557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50920" y="249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424456"/>
                </a:solidFill>
                <a:latin typeface="Trebuchet MS"/>
              </a:rPr>
              <a:t>Спасибо за внимание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87138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исследования – изучение проблемы безработицы в Саратовской области и селе Александров-Гай.  </a:t>
            </a:r>
            <a:br>
              <a:rPr sz="2800"/>
            </a:b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зучить теоретические аспекты безработицы: причины, последствия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анализировать данные, отражающие проблему безработицы в Саратовской области и Александрово-Гайском районе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ссмотреть государственную политику занятости населения, проводимую на территории Александрово-Гайского район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4456"/>
                </a:solidFill>
                <a:latin typeface="Trebuchet MS"/>
              </a:rPr>
              <a:t>График спроса и предложения рабочей силы на рынке труда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Рисунок 2" descr="http://pandia.ru/text/77/203/images/image001_179.jpg"/>
          <p:cNvPicPr/>
          <p:nvPr/>
        </p:nvPicPr>
        <p:blipFill>
          <a:blip r:embed="rId1"/>
          <a:stretch/>
        </p:blipFill>
        <p:spPr>
          <a:xfrm>
            <a:off x="2050920" y="1773360"/>
            <a:ext cx="4343400" cy="35528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2627280" y="5478480"/>
            <a:ext cx="3240000" cy="137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число рабочей си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s –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предложения рабочей си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d –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спроса на рабочую сил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 –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аботная пл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–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вес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144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24456"/>
                </a:solidFill>
                <a:latin typeface="Trebuchet MS"/>
              </a:rPr>
              <a:t>Уровень безработицы - отношение численности безработных к общей численности рабочей силы, выраженное в процентах</a:t>
            </a: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.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9" name="Picture 8" descr="https://im2-tub-ru.yandex.net/i?id=12c5dc6f8fac87a82ab826d45102851a&amp;n=33&amp;h=215&amp;w=384"/>
          <p:cNvPicPr/>
          <p:nvPr/>
        </p:nvPicPr>
        <p:blipFill>
          <a:blip r:embed="rId1"/>
          <a:stretch/>
        </p:blipFill>
        <p:spPr>
          <a:xfrm>
            <a:off x="5286240" y="3573360"/>
            <a:ext cx="3857760" cy="215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30" name="TextBox 4"/>
          <p:cNvSpPr/>
          <p:nvPr/>
        </p:nvSpPr>
        <p:spPr>
          <a:xfrm>
            <a:off x="0" y="3500280"/>
            <a:ext cx="532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rebuchet MS"/>
              </a:rPr>
              <a:t>2015 год (октябрь) – 5,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rebuchet MS"/>
              </a:rPr>
              <a:t>2015 год (ноябрь-декабрь) – 5,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rebuchet MS"/>
              </a:rPr>
              <a:t>2016 год (январь) – 5,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4456"/>
                </a:solidFill>
                <a:latin typeface="Trebuchet MS"/>
              </a:rPr>
              <a:t>Уровень безработицы в Саратовской области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Январь 2015 года – 0,9%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ай 2015 года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1,1 %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Январь 2015 года – 4,4%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ай 2015 года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5,2 %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Правая фигурная скобка 3"/>
          <p:cNvSpPr/>
          <p:nvPr/>
        </p:nvSpPr>
        <p:spPr>
          <a:xfrm>
            <a:off x="4932360" y="2421000"/>
            <a:ext cx="431640" cy="647640"/>
          </a:xfrm>
          <a:custGeom>
            <a:avLst/>
            <a:gdLst>
              <a:gd name="textAreaLeft" fmla="*/ 0 w 431640"/>
              <a:gd name="textAreaRight" fmla="*/ 155880 w 431640"/>
              <a:gd name="textAreaTop" fmla="*/ 11160 h 647640"/>
              <a:gd name="textAreaBottom" fmla="*/ 6364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00"/>
                  <a:pt x="10800" y="1200"/>
                </a:cubicBezTo>
                <a:lnTo>
                  <a:pt x="10800" y="9600"/>
                </a:lnTo>
                <a:cubicBezTo>
                  <a:pt x="10800" y="10200"/>
                  <a:pt x="16200" y="10800"/>
                  <a:pt x="21600" y="10800"/>
                </a:cubicBezTo>
                <a:cubicBezTo>
                  <a:pt x="16200" y="10800"/>
                  <a:pt x="10800" y="11400"/>
                  <a:pt x="10800" y="12000"/>
                </a:cubicBezTo>
                <a:lnTo>
                  <a:pt x="10800" y="20400"/>
                </a:lnTo>
                <a:cubicBezTo>
                  <a:pt x="10800" y="210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4"/>
          <p:cNvSpPr/>
          <p:nvPr/>
        </p:nvSpPr>
        <p:spPr>
          <a:xfrm>
            <a:off x="5508720" y="2205000"/>
            <a:ext cx="28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ровень регистрируемой безрабо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авая фигурная скобка 5"/>
          <p:cNvSpPr/>
          <p:nvPr/>
        </p:nvSpPr>
        <p:spPr>
          <a:xfrm>
            <a:off x="4932360" y="3573360"/>
            <a:ext cx="503280" cy="719280"/>
          </a:xfrm>
          <a:custGeom>
            <a:avLst/>
            <a:gdLst>
              <a:gd name="textAreaLeft" fmla="*/ 0 w 503280"/>
              <a:gd name="textAreaRight" fmla="*/ 181800 w 503280"/>
              <a:gd name="textAreaTop" fmla="*/ 12960 h 719280"/>
              <a:gd name="textAreaBottom" fmla="*/ 70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30"/>
                  <a:pt x="10800" y="1260"/>
                </a:cubicBezTo>
                <a:lnTo>
                  <a:pt x="10800" y="9540"/>
                </a:lnTo>
                <a:cubicBezTo>
                  <a:pt x="10800" y="10170"/>
                  <a:pt x="16200" y="10800"/>
                  <a:pt x="21600" y="10800"/>
                </a:cubicBezTo>
                <a:cubicBezTo>
                  <a:pt x="16200" y="10800"/>
                  <a:pt x="10800" y="11430"/>
                  <a:pt x="10800" y="12060"/>
                </a:cubicBezTo>
                <a:lnTo>
                  <a:pt x="10800" y="20340"/>
                </a:lnTo>
                <a:cubicBezTo>
                  <a:pt x="10800" y="2097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6"/>
          <p:cNvSpPr/>
          <p:nvPr/>
        </p:nvSpPr>
        <p:spPr>
          <a:xfrm>
            <a:off x="5651640" y="364500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ровень общей безрабо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457200" y="2249640"/>
          <a:ext cx="8362800" cy="2403360"/>
        </p:xfrm>
        <a:graphic>
          <a:graphicData uri="http://schemas.openxmlformats.org/drawingml/2006/table">
            <a:tbl>
              <a:tblPr/>
              <a:tblGrid>
                <a:gridCol w="2787480"/>
                <a:gridCol w="2787840"/>
                <a:gridCol w="2787480"/>
              </a:tblGrid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Катего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прос на рабочую силу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редложение рабочей силы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ТР/ служащ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бочие професс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1" i="1" lang="ru-RU" sz="2000" spc="-1" strike="noStrike">
                <a:solidFill>
                  <a:srgbClr val="424456"/>
                </a:solidFill>
                <a:latin typeface="Trebuchet MS"/>
              </a:rPr>
              <a:t>«Критические» зоны рынка труда</a:t>
            </a:r>
            <a:br>
              <a:rPr sz="2000"/>
            </a:br>
            <a:r>
              <a:rPr b="1" i="1" lang="ru-RU" sz="2000" spc="-1" strike="noStrike">
                <a:solidFill>
                  <a:srgbClr val="424456"/>
                </a:solidFill>
                <a:latin typeface="Trebuchet MS"/>
              </a:rPr>
              <a:t>в муниципальных районах Саратовской области в 2015 году</a:t>
            </a:r>
            <a:br>
              <a:rPr sz="2000"/>
            </a:b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908000" y="1052640"/>
          <a:ext cx="5688360" cy="5903640"/>
        </p:xfrm>
        <a:graphic>
          <a:graphicData uri="http://schemas.openxmlformats.org/drawingml/2006/table">
            <a:tbl>
              <a:tblPr/>
              <a:tblGrid>
                <a:gridCol w="2845080"/>
                <a:gridCol w="2843280"/>
              </a:tblGrid>
              <a:tr h="31572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униципальны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итическая зо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432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. Гайски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 Луков Корд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396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кадак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Семенов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432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алаков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.Голованов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3960">
                <a:tc rowSpan="3"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алашов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.Октябрь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 Львов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. Соцземледель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396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алтай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 Большие Озер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4320">
                <a:tc rowSpan="2"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ль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 Покровк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Нижняя Чернавк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4320">
                <a:tc rowSpan="5"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скресен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яниково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укатовка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резняки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во-Алексеевка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 Кошел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3960">
                <a:tc rowSpan="2"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ргачев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.Первомай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 Камыше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396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уховниц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 Дмитриев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4320">
                <a:tc rowSpan="2"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ршов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Антонов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Сокорная Балк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432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вантеев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Бартенев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3960">
                <a:tc rowSpan="4"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линин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 Н.Ивановк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 Ш.Уступ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 Монастырско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 Орловк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4320">
                <a:tc rowSpan="4"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асноармей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 Золото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 Садово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 Ст. Топовк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 Н. Банновк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432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аснокут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 Усатов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396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аснопартизан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.Михайлов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2268360" y="576360"/>
          <a:ext cx="5113440" cy="6253200"/>
        </p:xfrm>
        <a:graphic>
          <a:graphicData uri="http://schemas.openxmlformats.org/drawingml/2006/table">
            <a:tbl>
              <a:tblPr/>
              <a:tblGrid>
                <a:gridCol w="2556000"/>
                <a:gridCol w="2557440"/>
              </a:tblGrid>
              <a:tr h="175320">
                <a:tc rowSpan="6"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рксов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 Подлесно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 Калининск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 Кировско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. Коло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 Орловско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5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 Липовк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53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вобурас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 Кутьи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53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воузен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. Алгай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53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люб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Калинин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5320">
                <a:tc rowSpan="3"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итер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 Миронов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 Моршан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. Новоречен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53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угачев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 Давыдов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 rowSpan="2"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венски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 Луговск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 Кривоя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5320">
                <a:tc rowSpan="2"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манов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 Большой Кара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Подгорн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5320">
                <a:tc rowSpan="4"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вет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Любимо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Розов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Мечетн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Новокривов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5320">
                <a:tc rowSpan="2"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тищев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Вязов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.Садов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53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урков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Перевеси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5320">
                <a:tc rowSpan="9"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едоров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Еруслан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Долин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Михайловк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Федоровк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Первомайско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Спартак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.Солнечны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Мунин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Плес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6-03-11T06:15:16Z</dcterms:modified>
  <cp:revision>41</cp:revision>
  <dc:subject/>
  <dc:title>Слайд 1</dc:title>
</cp:coreProperties>
</file>