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3D4F-5BE6-49A3-9E12-BC3300666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9D7C-0288-4D12-8664-A55C4E9DB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4912-E228-4296-B614-0306F85F3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A4C2-971C-4B79-8801-AEDEBA520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63467-75B2-4B32-BC62-E3B123A66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05D24-1DF0-40E3-BC30-DB5267265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D6157-6138-4EA1-86C9-1C3B17408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ACF29-D8F2-4D96-A358-4DF9494D7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6FD14-61A7-4417-B4F8-E793F4C6B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FADCF-74A6-4A80-973A-E433B31A9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5ABA2-877F-4FA4-B879-13FE850C5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B73C-5291-45BE-AB14-6D947B6A1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CF000-8976-41E5-A38B-955F19E3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FE049-64B0-4AF7-816F-27C7A880E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06527-2212-4FD9-AFEE-B575C633D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C8378-4EDC-4F2F-8142-EC3C22E1F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1A81A-E536-4BF5-B62F-B62D721CE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2140-CBCE-4888-B017-F49DC54D4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476E-BC3A-4D14-B5C1-79CB28D89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524A-EB2C-45CF-9EC0-88D50204E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D682-CBE3-4A46-BD65-F0827304E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0F50-EC31-4C0F-99E9-94BEA8775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270E-445E-4EC7-B95B-0D12B58F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8B3B-483E-4B5F-8AC0-55D3ECC87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c6600">
              <a:alpha val="1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cc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70BBA-ABB2-48D6-9558-FB2D2B5D7C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c6600">
              <a:alpha val="1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cc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97B99-F1BB-4D7A-9473-CD8BE9A97F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9"/>
          <p:cNvSpPr/>
          <p:nvPr/>
        </p:nvSpPr>
        <p:spPr>
          <a:xfrm>
            <a:off x="1649520" y="3575160"/>
            <a:ext cx="6913440" cy="59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http://player.myshared.ru/4/126305/slides/slide_1.jpg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14680" y="713880"/>
            <a:ext cx="2714760" cy="535788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ицей был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ткрыт 19 октября 1811 года. Учебное заведение располагалось 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о флигеле императорского дворца в Царском Сел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C:\Documents and Settings\Администратор\Мои документы\Мои рисунки\Флтгель.jpg"/>
          <p:cNvPicPr/>
          <p:nvPr/>
        </p:nvPicPr>
        <p:blipFill>
          <a:blip r:embed="rId1"/>
          <a:stretch/>
        </p:blipFill>
        <p:spPr>
          <a:xfrm>
            <a:off x="357120" y="428760"/>
            <a:ext cx="5381640" cy="5929200"/>
          </a:xfrm>
          <a:prstGeom prst="rect">
            <a:avLst/>
          </a:prstGeom>
          <a:ln w="9360">
            <a:solidFill>
              <a:srgbClr val="fdead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C:\Documents and Settings\Администратор\Мои документы\Мои рисунки\200px-Engelgart_E_A.jpg"/>
          <p:cNvPicPr/>
          <p:nvPr/>
        </p:nvPicPr>
        <p:blipFill>
          <a:blip r:embed="rId1"/>
          <a:stretch/>
        </p:blipFill>
        <p:spPr>
          <a:xfrm>
            <a:off x="5072040" y="285840"/>
            <a:ext cx="3794040" cy="5000400"/>
          </a:xfrm>
          <a:prstGeom prst="rect">
            <a:avLst/>
          </a:prstGeom>
          <a:ln w="9360">
            <a:solidFill>
              <a:srgbClr val="fdeada"/>
            </a:solidFill>
            <a:miter/>
          </a:ln>
        </p:spPr>
      </p:pic>
      <p:pic>
        <p:nvPicPr>
          <p:cNvPr id="87" name="Picture 3" descr="C:\Documents and Settings\Администратор\Мои документы\420px-Малиновский_В.Ф.,_первый_директор_Лицея.JPEG"/>
          <p:cNvPicPr/>
          <p:nvPr/>
        </p:nvPicPr>
        <p:blipFill>
          <a:blip r:embed="rId2"/>
          <a:stretch/>
        </p:blipFill>
        <p:spPr>
          <a:xfrm>
            <a:off x="468360" y="1989000"/>
            <a:ext cx="3643200" cy="4722840"/>
          </a:xfrm>
          <a:prstGeom prst="rect">
            <a:avLst/>
          </a:prstGeom>
          <a:ln w="9360">
            <a:solidFill>
              <a:srgbClr val="fdeada"/>
            </a:solidFill>
            <a:miter/>
          </a:ln>
        </p:spPr>
      </p:pic>
      <p:sp>
        <p:nvSpPr>
          <p:cNvPr id="88" name="TextBox 6"/>
          <p:cNvSpPr/>
          <p:nvPr/>
        </p:nvSpPr>
        <p:spPr>
          <a:xfrm>
            <a:off x="214200" y="571680"/>
            <a:ext cx="464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  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Малинов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асилий Фёдорович, пер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    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директор Лицея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4786200" y="5500800"/>
            <a:ext cx="41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Энгельгардт Е.А директор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      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Лицея с 1814 года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C:\Documents and Settings\Администратор\Мои документы\Мои рисунки\16-летние_лицеисты_Пушкин_и_Пущин_(1968).jpg"/>
          <p:cNvPicPr/>
          <p:nvPr/>
        </p:nvPicPr>
        <p:blipFill>
          <a:blip r:embed="rId1"/>
          <a:stretch/>
        </p:blipFill>
        <p:spPr>
          <a:xfrm>
            <a:off x="285840" y="214200"/>
            <a:ext cx="3271680" cy="4835520"/>
          </a:xfrm>
          <a:prstGeom prst="rect">
            <a:avLst/>
          </a:prstGeom>
          <a:ln w="9360">
            <a:solidFill>
              <a:srgbClr val="fdeada"/>
            </a:solidFill>
            <a:miter/>
          </a:ln>
        </p:spPr>
      </p:pic>
      <p:pic>
        <p:nvPicPr>
          <p:cNvPr id="91" name="Picture 3" descr="C:\Documents and Settings\Администратор\Мои документы\Мои рисунки\Лицеисты_Пушкин_и_Дельвиг_в_14-летнем_возрасте_(1968).jpg"/>
          <p:cNvPicPr/>
          <p:nvPr/>
        </p:nvPicPr>
        <p:blipFill>
          <a:blip r:embed="rId2"/>
          <a:stretch/>
        </p:blipFill>
        <p:spPr>
          <a:xfrm>
            <a:off x="2357280" y="2571840"/>
            <a:ext cx="2500560" cy="3956040"/>
          </a:xfrm>
          <a:prstGeom prst="rect">
            <a:avLst/>
          </a:prstGeom>
          <a:ln w="9360">
            <a:solidFill>
              <a:srgbClr val="fdeada"/>
            </a:solidFill>
            <a:miter/>
          </a:ln>
        </p:spPr>
      </p:pic>
      <p:pic>
        <p:nvPicPr>
          <p:cNvPr id="92" name="Picture 4" descr="C:\Documents and Settings\Администратор\Мои документы\Мои рисунки\Лицеисты-вольнодумцы_Кюхельбекер,_Пущин,_Пушкин,_Дельвиг_1969.jpg"/>
          <p:cNvPicPr/>
          <p:nvPr/>
        </p:nvPicPr>
        <p:blipFill>
          <a:blip r:embed="rId3"/>
          <a:stretch/>
        </p:blipFill>
        <p:spPr>
          <a:xfrm>
            <a:off x="5643720" y="357120"/>
            <a:ext cx="3085920" cy="6261120"/>
          </a:xfrm>
          <a:prstGeom prst="rect">
            <a:avLst/>
          </a:prstGeom>
          <a:ln w="9360">
            <a:solidFill>
              <a:srgbClr val="fdeada"/>
            </a:solidFill>
            <a:miter/>
          </a:ln>
        </p:spPr>
      </p:pic>
      <p:sp>
        <p:nvSpPr>
          <p:cNvPr id="93" name="TextBox 4"/>
          <p:cNvSpPr/>
          <p:nvPr/>
        </p:nvSpPr>
        <p:spPr>
          <a:xfrm>
            <a:off x="285840" y="459576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ушкин и Дельви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2365560" y="6215040"/>
            <a:ext cx="247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ушкин и Кюхельбек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6002640" y="4786200"/>
            <a:ext cx="148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юхельбек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ущ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ушк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льви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3214800" y="285840"/>
            <a:ext cx="291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       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Лицейск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        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друзь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Пушк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C:\Documents and Settings\Администратор\Мои документы\Мои рисунки\комната.jpg"/>
          <p:cNvPicPr/>
          <p:nvPr/>
        </p:nvPicPr>
        <p:blipFill>
          <a:blip r:embed="rId1"/>
          <a:stretch/>
        </p:blipFill>
        <p:spPr>
          <a:xfrm>
            <a:off x="4643280" y="357120"/>
            <a:ext cx="4118040" cy="6195960"/>
          </a:xfrm>
          <a:prstGeom prst="rect">
            <a:avLst/>
          </a:prstGeom>
          <a:ln w="9360">
            <a:solidFill>
              <a:srgbClr val="fdeada"/>
            </a:solidFill>
            <a:miter/>
          </a:ln>
        </p:spPr>
      </p:pic>
      <p:sp>
        <p:nvSpPr>
          <p:cNvPr id="98" name="TextBox 3"/>
          <p:cNvSpPr/>
          <p:nvPr/>
        </p:nvSpPr>
        <p:spPr>
          <a:xfrm>
            <a:off x="214200" y="1428840"/>
            <a:ext cx="42865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«В каждой комнат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железная кровать, комод, конторка, зеркало, стул, стол для  умывания…  На конторке  чернильница и подсвечник со  щипцам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             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Из воспомин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             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Ивана Пущ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C:\Documents and Settings\Администратор\Мои документы\Мои рисунки\LCJHACAUI7MNUCAESIWGTCAV3R5KDCAJ3GIYFCA1WBNQ2CAZ8ABZ8CA5OPW3ZCAZXKMCQCAV09SOSCAXTKO2VCAB2BUADCAQMHSKLCAEYGOV9CA13CFBXCAOP808FCA90XKWICABKQNQPCACSR8K3.jpg"/>
          <p:cNvPicPr/>
          <p:nvPr/>
        </p:nvPicPr>
        <p:blipFill>
          <a:blip r:embed="rId1"/>
          <a:stretch/>
        </p:blipFill>
        <p:spPr>
          <a:xfrm>
            <a:off x="5286240" y="0"/>
            <a:ext cx="3429000" cy="2554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C:\Documents and Settings\Администратор\Мои документы\Мои рисунки\H25O9CAN0UDSTCAHDDCZHCAQAUPDZCAUIOAUSCAYNW5R3CAXG7LM4CA6UNKXBCAHSPJE4CAJ4SDJKCAOFXMB4CAJJS834CASGP32HCAKEC7FACAXEYEW3CAME3I9XCA9H2CNWCAD0SK3PCAECD2N3.jpg"/>
          <p:cNvPicPr/>
          <p:nvPr/>
        </p:nvPicPr>
        <p:blipFill>
          <a:blip r:embed="rId2"/>
          <a:stretch/>
        </p:blipFill>
        <p:spPr>
          <a:xfrm>
            <a:off x="214200" y="214200"/>
            <a:ext cx="4246560" cy="3357720"/>
          </a:xfrm>
          <a:prstGeom prst="rect">
            <a:avLst/>
          </a:prstGeom>
          <a:ln w="9360">
            <a:solidFill>
              <a:srgbClr val="fdeada"/>
            </a:solidFill>
            <a:miter/>
          </a:ln>
        </p:spPr>
      </p:pic>
      <p:pic>
        <p:nvPicPr>
          <p:cNvPr id="101" name="Picture 4" descr="C:\Documents and Settings\Администратор\Мои документы\Мои рисунки\читальный зал Лицея.jpg"/>
          <p:cNvPicPr/>
          <p:nvPr/>
        </p:nvPicPr>
        <p:blipFill>
          <a:blip r:embed="rId3"/>
          <a:stretch/>
        </p:blipFill>
        <p:spPr>
          <a:xfrm>
            <a:off x="214200" y="3444840"/>
            <a:ext cx="4805640" cy="3413160"/>
          </a:xfrm>
          <a:prstGeom prst="rect">
            <a:avLst/>
          </a:prstGeom>
          <a:ln w="9360">
            <a:solidFill>
              <a:srgbClr val="fdeada"/>
            </a:solidFill>
            <a:miter/>
          </a:ln>
        </p:spPr>
      </p:pic>
      <p:sp>
        <p:nvSpPr>
          <p:cNvPr id="102" name="TextBox 5"/>
          <p:cNvSpPr/>
          <p:nvPr/>
        </p:nvSpPr>
        <p:spPr>
          <a:xfrm>
            <a:off x="5857920" y="135720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Комнаты  лицеис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6"/>
          <p:cNvSpPr/>
          <p:nvPr/>
        </p:nvSpPr>
        <p:spPr>
          <a:xfrm>
            <a:off x="1227960" y="6072120"/>
            <a:ext cx="21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Читальный з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8"/>
          <p:cNvSpPr/>
          <p:nvPr/>
        </p:nvSpPr>
        <p:spPr>
          <a:xfrm>
            <a:off x="714240" y="2714760"/>
            <a:ext cx="38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Рабочее место в кла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C:\Documents and Settings\Администратор\Мои документы\137909.jpg"/>
          <p:cNvPicPr/>
          <p:nvPr/>
        </p:nvPicPr>
        <p:blipFill>
          <a:blip r:embed="rId4"/>
          <a:stretch/>
        </p:blipFill>
        <p:spPr>
          <a:xfrm>
            <a:off x="5572080" y="2635200"/>
            <a:ext cx="2817720" cy="4222800"/>
          </a:xfrm>
          <a:prstGeom prst="rect">
            <a:avLst/>
          </a:prstGeom>
          <a:ln w="9360">
            <a:solidFill>
              <a:srgbClr val="fdeada"/>
            </a:solidFill>
            <a:miter/>
          </a:ln>
        </p:spPr>
      </p:pic>
      <p:sp>
        <p:nvSpPr>
          <p:cNvPr id="106" name="TextBox 12"/>
          <p:cNvSpPr/>
          <p:nvPr/>
        </p:nvSpPr>
        <p:spPr>
          <a:xfrm>
            <a:off x="6572160" y="3143160"/>
            <a:ext cx="13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уховная и нравственная атмосфера Лицея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solidFill>
            <a:srgbClr val="cc6600">
              <a:alpha val="1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99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cc99"/>
                </a:solidFill>
                <a:latin typeface="Calibri"/>
              </a:rPr>
              <a:t>патриотизм;</a:t>
            </a: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99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cc99"/>
                </a:solidFill>
                <a:latin typeface="Calibri"/>
              </a:rPr>
              <a:t>чувство национальной гордости;</a:t>
            </a: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99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cc99"/>
                </a:solidFill>
                <a:latin typeface="Calibri"/>
              </a:rPr>
              <a:t>благородство, честность;</a:t>
            </a: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99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cc99"/>
                </a:solidFill>
                <a:latin typeface="Calibri"/>
              </a:rPr>
              <a:t>высокое понятие чести;</a:t>
            </a: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99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cc99"/>
                </a:solidFill>
                <a:latin typeface="Calibri"/>
              </a:rPr>
              <a:t>вольнолюбие;</a:t>
            </a: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99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cc99"/>
                </a:solidFill>
                <a:latin typeface="Calibri"/>
              </a:rPr>
              <a:t>верность, преданность;</a:t>
            </a: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99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cc99"/>
                </a:solidFill>
                <a:latin typeface="Calibri"/>
              </a:rPr>
              <a:t>исполнение гражданского долга;</a:t>
            </a: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99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cc99"/>
                </a:solidFill>
                <a:latin typeface="Calibri"/>
              </a:rPr>
              <a:t>чувство собственного достоинства;</a:t>
            </a: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99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cc99"/>
                </a:solidFill>
                <a:latin typeface="Calibri"/>
              </a:rPr>
              <a:t>добрый дух соперничества.</a:t>
            </a: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10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1000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8796600" cy="5715000"/>
          </a:xfrm>
          <a:prstGeom prst="rect">
            <a:avLst/>
          </a:prstGeom>
          <a:ln w="9360">
            <a:solidFill>
              <a:srgbClr val="fdeada"/>
            </a:solidFill>
            <a:miter/>
          </a:ln>
        </p:spPr>
      </p:pic>
      <p:sp>
        <p:nvSpPr>
          <p:cNvPr id="110" name="TextBox 5"/>
          <p:cNvSpPr/>
          <p:nvPr/>
        </p:nvSpPr>
        <p:spPr>
          <a:xfrm>
            <a:off x="285840" y="6072120"/>
            <a:ext cx="787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              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Чтение Пушкиным  стихотворения «Воспоминания в Царском Сел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            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на публичном экзамене в  1815 г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C:\Documents and Settings\Администратор\Рабочий стол\Пушкин\tzarsky_licei29july11-02[1].jpg"/>
          <p:cNvPicPr/>
          <p:nvPr/>
        </p:nvPicPr>
        <p:blipFill>
          <a:blip r:embed="rId1"/>
          <a:stretch/>
        </p:blipFill>
        <p:spPr>
          <a:xfrm>
            <a:off x="1500120" y="714240"/>
            <a:ext cx="6350040" cy="4762800"/>
          </a:xfrm>
          <a:prstGeom prst="rect">
            <a:avLst/>
          </a:prstGeom>
          <a:ln w="9360">
            <a:solidFill>
              <a:srgbClr val="fdeada"/>
            </a:solidFill>
            <a:miter/>
          </a:ln>
        </p:spPr>
      </p:pic>
      <p:sp>
        <p:nvSpPr>
          <p:cNvPr id="112" name="TextBox 4"/>
          <p:cNvSpPr/>
          <p:nvPr/>
        </p:nvSpPr>
        <p:spPr>
          <a:xfrm>
            <a:off x="1785600" y="6000840"/>
            <a:ext cx="63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Памятник А.С.Пушкину в Царском Се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0T19:19:35Z</dcterms:created>
  <dc:creator>XTreme</dc:creator>
  <dc:description/>
  <cp:keywords/>
  <dc:language>en-US</dc:language>
  <cp:lastModifiedBy>Лазакат</cp:lastModifiedBy>
  <dcterms:modified xsi:type="dcterms:W3CDTF">2017-11-14T16:50:00Z</dcterms:modified>
  <cp:revision>35</cp:revision>
  <dc:subject/>
  <dc:title>Лицейские годы в жизни А.С.Пушкин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9087019991</vt:lpwstr>
  </property>
</Properties>
</file>