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112-4026-4B48-AEFA-61D5EDEEB7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E03E-C0A8-40FB-83EB-86B68E507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B32-3DD2-4800-901C-182856B20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43D-34C0-4A69-8693-A3D8E28E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029-A3CB-4DD4-88F7-3FE86F1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4E9-472C-440C-90B7-E6B2A6FD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546-7570-4109-BEC9-1690472D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553-10B4-4B43-97A6-B54CDE7E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6D5-AE2B-495D-897C-8154F97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D06-4185-4833-B743-DA84F6A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D6A-6E59-45B0-AD46-6186F2A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D10-1073-47F2-AE2F-35B099A4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4E1-4D8C-48D0-8CD2-C290BD2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EAF-1E16-49CE-A775-FCD7EC1A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E9B-9A68-4D99-A43F-CDEBA18C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E32-424C-4F18-951F-97C674E85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S005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Словари русского язы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292360" y="4220640"/>
            <a:ext cx="3546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 и пров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                                                                                        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ва Л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3200" y="609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187280" y="549360"/>
            <a:ext cx="6270840" cy="9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рфограф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2209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85800" y="251460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495680" y="1371600"/>
            <a:ext cx="396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казывает норму написания слов какого-либо языка в соответствии с системой правил, определяющих единообразие способов передачи речи на письм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1106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1981080"/>
            <a:ext cx="290052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7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вообразовательны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495680" y="228600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гает находить части слова и точно определять границы между ни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mm477_21_08_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676520"/>
            <a:ext cx="24098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75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варь антоним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24280" y="19810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гает подобрать антонимы, объясняет значение каждого из н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getpic_lar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рфоэп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114800" y="21337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казывает нормативное литературное произношение слов какого-либо язы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608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828800"/>
            <a:ext cx="261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варь синоним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114800" y="213372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гает подобрать синонимы, дает толкование слов-синонимов, отмечает их стилистические особен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images12">
            <a:hlinkClick r:id="rId1" action="ppaction://hlinksldjump"/>
          </p:cNvPr>
          <p:cNvPicPr/>
          <p:nvPr/>
        </p:nvPicPr>
        <p:blipFill>
          <a:blip r:embed="rId2"/>
          <a:srcRect l="16629" t="0" r="0" b="0"/>
          <a:stretch/>
        </p:blipFill>
        <p:spPr>
          <a:xfrm>
            <a:off x="609480" y="1905120"/>
            <a:ext cx="29275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зеолог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053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ъясняет значения фразеологизмов, рассказывает об их происхождении, приводит фразеологические синонимы и антони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ФРАЗА">
            <a:hlinkClick r:id="rId1" action="ppaction://hlinksldjump"/>
          </p:cNvPr>
          <p:cNvPicPr/>
          <p:nvPr/>
        </p:nvPicPr>
        <p:blipFill>
          <a:blip r:embed="rId2"/>
          <a:srcRect l="28715" t="0" r="26938" b="0"/>
          <a:stretch/>
        </p:blipFill>
        <p:spPr>
          <a:xfrm>
            <a:off x="609480" y="1828800"/>
            <a:ext cx="259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тимолог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419720" y="274320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сказывает о происхождении сл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images8"/>
          <p:cNvPicPr/>
          <p:nvPr/>
        </p:nvPicPr>
        <p:blipFill>
          <a:blip r:embed="rId1"/>
          <a:stretch/>
        </p:blipFill>
        <p:spPr>
          <a:xfrm>
            <a:off x="762120" y="1752480"/>
            <a:ext cx="27082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ловарь иноязычных с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0" y="22860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ет объяснение иноязычных слов; указывает, из какого языка заимствовано слово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иностранный словарь"/>
          <p:cNvPicPr/>
          <p:nvPr/>
        </p:nvPicPr>
        <p:blipFill>
          <a:blip r:embed="rId1"/>
          <a:srcRect l="21624" t="0" r="35814" b="0"/>
          <a:stretch/>
        </p:blipFill>
        <p:spPr>
          <a:xfrm>
            <a:off x="838080" y="1752480"/>
            <a:ext cx="297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а работы со словарём.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Прочитай слово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Определи на какую букву оно начинаетс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Найди в оглавлении на какой странице эта букв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Помни! Слова расположены в алфавитном поряд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оставьте правильно ударения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700360" y="1197000"/>
            <a:ext cx="16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офе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356000" y="119700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оф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626920" y="184464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онит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285440" y="184464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он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556360" y="234936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кла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4285440" y="2349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2483280" y="29242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ово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4283640" y="2924280"/>
            <a:ext cx="15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ов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1690560" y="3500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нцовщиц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284000" y="3500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нц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щ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2196000" y="40766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артал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995640" y="40766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арт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1762200" y="465300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остить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066200" y="465300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ост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1618920" y="53006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инария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995280" y="5300640"/>
            <a:ext cx="20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ин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38080" y="9144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ловарь –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286000"/>
            <a:ext cx="8153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вся вселенная в алфавитном порядке! Если хорошенько подумать, словарь – это книга книг. Он включает в себя все другие книги, нужно лишь извлечь их из нег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толь Фра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475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Шутка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ромов 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й дядя выяснял лет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сё же выяснить не мог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говорить вернее- творог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ожет, правильней – творог!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как-то он в молочной лав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увидел на прилавк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о, как роза, расцв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ил купить он полки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тотчас, на прилавок гляд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ять задумался мой дяд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Ведь, вероятно он не до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йдёт в ватрушку и  в пиро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 спросить: «Почём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ожет правильнее-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932360" y="1773360"/>
            <a:ext cx="4014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в это время  у прила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шум, и очередь, и давк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дядя дольше всех сто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ам с собою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Н-да.. Я к произношенью ст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допускаю оговорок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как  же всё-таки – тво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ожет правильнее –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у эту смог ре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й дядя, лишь дойдя до кассы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ав: «Прошу вас получ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полкило творожной масс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ссирша мало разбиралас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естоименьях, падеж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ак сказала: «Не осталос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распродата уже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80808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Найди антонимы к слов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410560" y="206064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верху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140360" y="206064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978560" y="2781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дрость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4211640" y="278136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916280" y="3429000"/>
            <a:ext cx="19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ягкий 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002840" y="34290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ёст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979640" y="407664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жество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4355280" y="40766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055240" y="4653000"/>
            <a:ext cx="19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4071600" y="4653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Найди синонимы к слов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8623080"/>
            <a:ext cx="77724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01840" y="17733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ичать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775680" y="1773360"/>
            <a:ext cx="39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нять крик, заор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86840" y="242100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жит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789720" y="242100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чи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546560" y="3141720"/>
            <a:ext cx="22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арство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850920" y="314172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адоб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701000" y="386064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ябнуть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078800" y="386064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мёрзн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403280" y="4508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льно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708720" y="450864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ес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185840" y="522936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ушиться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3995280" y="522936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ир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Одним из средств образной </a:t>
            </a:r>
            <a:br>
              <a:rPr sz="3200"/>
            </a:b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и выразительной литературной речи являются крылатые сло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83880" y="213372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Найдите значение фразеологизм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124000" y="3213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799"/>
              </a:spcBef>
              <a:buClr>
                <a:srgbClr val="2e0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бить бакл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119680" y="4005360"/>
            <a:ext cx="31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2e0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засучив рук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754640" y="4797360"/>
            <a:ext cx="33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e0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069e"/>
                </a:solidFill>
                <a:latin typeface="Times New Roman"/>
              </a:rPr>
              <a:t>рук не поклад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азгадай шифров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– ПО – И - ДРУ - СЛО – ШИ - МОЩ- ЗЬЯ- ВА –НИ –РИ –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ШИ ДРУЗЬЯ И ПОМОЩНИКИ - СЛОВ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вал 4"/>
          <p:cNvSpPr/>
          <p:nvPr/>
        </p:nvSpPr>
        <p:spPr>
          <a:xfrm>
            <a:off x="2428920" y="2786040"/>
            <a:ext cx="3929040" cy="10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2571840" y="29289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ибо за работ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СЛОВАРЬ"/>
          <p:cNvPicPr/>
          <p:nvPr/>
        </p:nvPicPr>
        <p:blipFill>
          <a:blip r:embed="rId1"/>
          <a:srcRect l="30492" t="0" r="32260" b="8527"/>
          <a:stretch/>
        </p:blipFill>
        <p:spPr>
          <a:xfrm rot="4061400">
            <a:off x="7218720" y="2721600"/>
            <a:ext cx="1171440" cy="172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ОП-СЛОВАРЬ"/>
          <p:cNvPicPr/>
          <p:nvPr/>
        </p:nvPicPr>
        <p:blipFill>
          <a:blip r:embed="rId2"/>
          <a:srcRect l="26938" t="0" r="32260" b="0"/>
          <a:stretch/>
        </p:blipFill>
        <p:spPr>
          <a:xfrm rot="17246400">
            <a:off x="689040" y="2242440"/>
            <a:ext cx="1153800" cy="1693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иностранный словарь"/>
          <p:cNvPicPr/>
          <p:nvPr/>
        </p:nvPicPr>
        <p:blipFill>
          <a:blip r:embed="rId3"/>
          <a:srcRect l="21624" t="0" r="35814" b="0"/>
          <a:stretch/>
        </p:blipFill>
        <p:spPr>
          <a:xfrm rot="1867200">
            <a:off x="1842840" y="3938760"/>
            <a:ext cx="1422360" cy="2000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s8"/>
          <p:cNvPicPr/>
          <p:nvPr/>
        </p:nvPicPr>
        <p:blipFill>
          <a:blip r:embed="rId4"/>
          <a:stretch/>
        </p:blipFill>
        <p:spPr>
          <a:xfrm rot="19273200">
            <a:off x="1128240" y="1283760"/>
            <a:ext cx="1047960" cy="169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ФРАЗА"/>
          <p:cNvPicPr/>
          <p:nvPr/>
        </p:nvPicPr>
        <p:blipFill>
          <a:blip r:embed="rId5"/>
          <a:srcRect l="28715" t="0" r="26938" b="0"/>
          <a:stretch/>
        </p:blipFill>
        <p:spPr>
          <a:xfrm rot="2892000">
            <a:off x="6629040" y="1581480"/>
            <a:ext cx="1241280" cy="1857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mages12"/>
          <p:cNvPicPr/>
          <p:nvPr/>
        </p:nvPicPr>
        <p:blipFill>
          <a:blip r:embed="rId6"/>
          <a:srcRect l="16629" t="0" r="0" b="0"/>
          <a:stretch/>
        </p:blipFill>
        <p:spPr>
          <a:xfrm rot="1722000">
            <a:off x="5587560" y="860040"/>
            <a:ext cx="1314360" cy="159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getpic_large"/>
          <p:cNvPicPr/>
          <p:nvPr/>
        </p:nvPicPr>
        <p:blipFill>
          <a:blip r:embed="rId7"/>
          <a:stretch/>
        </p:blipFill>
        <p:spPr>
          <a:xfrm rot="421800">
            <a:off x="4448160" y="850680"/>
            <a:ext cx="1147680" cy="1544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m477_21_08_01"/>
          <p:cNvPicPr/>
          <p:nvPr/>
        </p:nvPicPr>
        <p:blipFill>
          <a:blip r:embed="rId8"/>
          <a:stretch/>
        </p:blipFill>
        <p:spPr>
          <a:xfrm rot="20356800">
            <a:off x="2199960" y="771120"/>
            <a:ext cx="1042920" cy="1722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10605"/>
          <p:cNvPicPr/>
          <p:nvPr/>
        </p:nvPicPr>
        <p:blipFill>
          <a:blip r:embed="rId9"/>
          <a:stretch/>
        </p:blipFill>
        <p:spPr>
          <a:xfrm rot="20111400">
            <a:off x="5616720" y="3997080"/>
            <a:ext cx="14173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3643200" y="3929040"/>
            <a:ext cx="1801440" cy="2520720"/>
            <a:chOff x="3643200" y="3929040"/>
            <a:chExt cx="1801440" cy="2520720"/>
          </a:xfrm>
        </p:grpSpPr>
        <p:pic>
          <p:nvPicPr>
            <p:cNvPr id="171" name="Picture 6" descr="getimage2"/>
            <p:cNvPicPr/>
            <p:nvPr/>
          </p:nvPicPr>
          <p:blipFill>
            <a:blip r:embed="rId10"/>
            <a:stretch/>
          </p:blipFill>
          <p:spPr>
            <a:xfrm>
              <a:off x="4571280" y="4878720"/>
              <a:ext cx="873360" cy="157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img4"/>
            <p:cNvPicPr/>
            <p:nvPr/>
          </p:nvPicPr>
          <p:blipFill>
            <a:blip r:embed="rId11"/>
            <a:stretch/>
          </p:blipFill>
          <p:spPr>
            <a:xfrm>
              <a:off x="3875040" y="3929040"/>
              <a:ext cx="9525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82097"/>
            <p:cNvPicPr/>
            <p:nvPr/>
          </p:nvPicPr>
          <p:blipFill>
            <a:blip r:embed="rId12"/>
            <a:stretch/>
          </p:blipFill>
          <p:spPr>
            <a:xfrm>
              <a:off x="3643200" y="4831200"/>
              <a:ext cx="938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4" descr="6084"/>
          <p:cNvPicPr/>
          <p:nvPr/>
        </p:nvPicPr>
        <p:blipFill>
          <a:blip r:embed="rId13"/>
          <a:stretch/>
        </p:blipFill>
        <p:spPr>
          <a:xfrm rot="21230400">
            <a:off x="3240000" y="487080"/>
            <a:ext cx="11826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Лексикограф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85800" y="2514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греч.) - это ученый, который занимается составлением словаре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наменитые лексикограф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13">
            <a:hlinkClick r:id="rId1" action="ppaction://hlinksldjump"/>
          </p:cNvPr>
          <p:cNvPicPr/>
          <p:nvPr/>
        </p:nvPicPr>
        <p:blipFill>
          <a:blip r:embed="rId2"/>
          <a:srcRect l="8738" t="0" r="0" b="17279"/>
          <a:stretch/>
        </p:blipFill>
        <p:spPr>
          <a:xfrm>
            <a:off x="3124080" y="2743200"/>
            <a:ext cx="217332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ages1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45120" y="3200400"/>
            <a:ext cx="2000160" cy="270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s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3276720"/>
            <a:ext cx="1890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s1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1371600"/>
            <a:ext cx="3243240" cy="438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8209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2740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572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ладимир Иванович Да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митрий Николаевич Уша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13">
            <a:hlinkClick r:id="rId1" action="ppaction://hlinksldjump"/>
          </p:cNvPr>
          <p:cNvPicPr/>
          <p:nvPr/>
        </p:nvPicPr>
        <p:blipFill>
          <a:blip r:embed="rId2"/>
          <a:srcRect l="10446" t="0" r="7649" b="0"/>
          <a:stretch/>
        </p:blipFill>
        <p:spPr>
          <a:xfrm>
            <a:off x="1547640" y="1628640"/>
            <a:ext cx="3384720" cy="405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00606011024-22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57940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ергей Иванович Оже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images1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52480" y="1447920"/>
            <a:ext cx="3127320" cy="415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getimage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26575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11280" y="549360"/>
            <a:ext cx="8001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Толковы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Орфограф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Словообразовательны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Словарь антони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Словарь синони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Орфоэп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Фразеолог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Этимолог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Словарь иноязычн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">
            <a:hlinkClick r:id="rId10" action="ppaction://hlinksldjump"/>
          </p:cNvPr>
          <p:cNvSpPr/>
          <p:nvPr/>
        </p:nvSpPr>
        <p:spPr>
          <a:xfrm>
            <a:off x="7812000" y="6308640"/>
            <a:ext cx="505080" cy="549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492">
                <a:moveTo>
                  <a:pt x="0" y="0"/>
                </a:moveTo>
                <a:lnTo>
                  <a:pt x="21600" y="0"/>
                </a:lnTo>
                <a:lnTo>
                  <a:pt x="21600" y="23492"/>
                </a:lnTo>
                <a:lnTo>
                  <a:pt x="0" y="23492"/>
                </a:lnTo>
                <a:close/>
              </a:path>
              <a:path fill="lightenLess" w="21600" h="234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2">
                <a:moveTo>
                  <a:pt x="21600" y="0"/>
                </a:moveTo>
                <a:lnTo>
                  <a:pt x="21600" y="23492"/>
                </a:lnTo>
                <a:lnTo>
                  <a:pt x="20200" y="22092"/>
                </a:lnTo>
                <a:lnTo>
                  <a:pt x="20200" y="1400"/>
                </a:lnTo>
                <a:close/>
              </a:path>
              <a:path fill="darkenLess" w="21600" h="23492">
                <a:moveTo>
                  <a:pt x="21600" y="23492"/>
                </a:moveTo>
                <a:lnTo>
                  <a:pt x="0" y="23492"/>
                </a:lnTo>
                <a:lnTo>
                  <a:pt x="1400" y="22092"/>
                </a:lnTo>
                <a:lnTo>
                  <a:pt x="20200" y="22092"/>
                </a:lnTo>
                <a:close/>
              </a:path>
              <a:path fill="lighten" w="21600" h="23492">
                <a:moveTo>
                  <a:pt x="0" y="234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2"/>
                </a:lnTo>
                <a:close/>
              </a:path>
              <a:path fill="darken" w="21600" h="23492">
                <a:moveTo>
                  <a:pt x="7301" y="11746"/>
                </a:moveTo>
                <a:lnTo>
                  <a:pt x="17806" y="4740"/>
                </a:lnTo>
                <a:lnTo>
                  <a:pt x="17806" y="18753"/>
                </a:lnTo>
                <a:close/>
              </a:path>
              <a:path fill="darken" w="21600" h="23492">
                <a:moveTo>
                  <a:pt x="3794" y="4740"/>
                </a:moveTo>
                <a:lnTo>
                  <a:pt x="5456" y="4740"/>
                </a:lnTo>
                <a:lnTo>
                  <a:pt x="5456" y="18753"/>
                </a:lnTo>
                <a:lnTo>
                  <a:pt x="3794" y="1875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олковы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419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ъясняет значения слов какого-либо языка, содержит их грамматическую и стилистическую характеристику, примеры употребления в ре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609480" y="1905120"/>
            <a:ext cx="3549600" cy="4044960"/>
            <a:chOff x="609480" y="1905120"/>
            <a:chExt cx="3549600" cy="4044960"/>
          </a:xfrm>
        </p:grpSpPr>
        <p:pic>
          <p:nvPicPr>
            <p:cNvPr id="76" name="Picture 6" descr="getimage2"/>
            <p:cNvPicPr/>
            <p:nvPr/>
          </p:nvPicPr>
          <p:blipFill>
            <a:blip r:embed="rId1"/>
            <a:stretch/>
          </p:blipFill>
          <p:spPr>
            <a:xfrm>
              <a:off x="2438280" y="3429000"/>
              <a:ext cx="172080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img4"/>
            <p:cNvPicPr/>
            <p:nvPr/>
          </p:nvPicPr>
          <p:blipFill>
            <a:blip r:embed="rId2"/>
            <a:stretch/>
          </p:blipFill>
          <p:spPr>
            <a:xfrm>
              <a:off x="1066680" y="1905120"/>
              <a:ext cx="187668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82097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3352680"/>
              <a:ext cx="184968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18:23Z</dcterms:created>
  <dc:creator>Библиотекарь</dc:creator>
  <dc:description/>
  <dc:language>en-US</dc:language>
  <cp:lastModifiedBy>serg</cp:lastModifiedBy>
  <dcterms:modified xsi:type="dcterms:W3CDTF">2017-12-18T03:30:03Z</dcterms:modified>
  <cp:revision>92</cp:revision>
  <dc:subject/>
  <dc:title>Словари русского языка</dc:title>
</cp:coreProperties>
</file>