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F867-6720-4884-BBB6-A8DC5DD73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76F5-FBDC-4D6B-B588-ED0194C76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D085FE-D840-4F08-A8EB-A3E15A3EF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7F68FB-94E4-4F24-A377-3F41A46A2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AC6D8C-28EF-4CA7-B4EB-DBABCB5F3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AFFD3C-3D40-43C2-AEEB-11231117B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B4A731-B3A5-4CDA-9001-34B4C54F1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DDF22A-4CCF-4F31-9308-F50383C6F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BAAE7D-B461-4384-8533-1698AFFFB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D39D28-09EE-4149-9018-B537719A6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678582-DAA3-4698-8A33-704728359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9442-CF89-44A2-91C5-92EF31448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3E71-D21D-40A2-B642-BF1EC33FC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78C30-8C9F-4D3B-9D6F-370CB2F2C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428E4-F307-4F0D-B057-AA4EC64BC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A6B96-BC86-4D57-B0CF-45B05A380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55105-2060-41E2-B277-35B297D5B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E549D-7D35-494D-BADC-665AE8BEC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12E23-AEEF-4D89-B435-E77CB66C2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B1B30-6B93-4F91-913E-9C2243986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DB7B-4938-4DFC-89F8-A2CA74169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F85A5-A280-4B8D-8F18-99049D1E8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886E1-5A9F-4566-9431-DFADA8931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81916-E77D-4694-8079-2506D4409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8C27A-A699-4B11-B37B-A84848FE5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0F4FB-8370-49EB-AB6B-292DFF748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05A79A-1B44-496B-A47C-CC10D24EC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1B82CB-1BCA-41DE-827D-2953DDABE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6CE820-41FE-48A1-8EC3-7F0ECC47B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027AF8-AF6A-4CC5-A1CC-3A0A1A2CF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6F0EEA-FF30-4B0A-85B5-3532E311B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248B-B183-40D7-A432-45C062D6A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9C8819-A969-469E-AD3A-980AE13FC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AE3660-1C9E-4562-A59A-819480E39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F9558A-98F0-45E4-AB59-B0D5A29BD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FCC348-9DE2-4A44-9A7C-A13833F3E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549AE5-152C-4B90-B479-1D5586F25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00D96A-7B20-48B3-810F-610DB1753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500566-369A-4BA3-B0D2-69ADFDD37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1EEB4B-F9B5-4E15-9DE1-E4F0B4BD3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8E2676-25FB-487D-B90D-213CE9C6B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F0B07C-86A3-4B27-B684-EC119FB12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2E06-BE46-4A5D-B09B-DC8C745B6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DF1E3F-A9DF-4C9B-8307-982C254F2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76F5C8-BF5C-458C-BDC8-7F84FAE2D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8FB3DE-8F9F-465B-863D-130B11C91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3DF353-E604-4648-8F61-228D27F5D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D419E5-EEDB-40CA-8AA5-38C3A50C6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2CB5A4-E566-476E-8C39-983980976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6B5DF7-9865-4672-AB27-7BE1F0D31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22C8C2-DB09-41B0-BFE9-4483EE266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B8BA73-31BE-4649-BFB3-4887E478C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BA6825-189A-42A4-9DEC-B817CCFD1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F7F3-087E-4831-A953-F0E4E3B92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4D23B2-8CBF-4C54-9ECA-C859FEECB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8D3314-E23B-4CA2-BCA3-325A9136C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B542ED-7CD0-4F7C-9E58-CFB25555C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AE9B32-1FC4-4454-BEA6-E02F79A52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A23E8B-4931-49DA-91F1-778F77BEC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8095CD-DFAF-4F46-9E41-8A677E8E3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34FF46-ED99-482B-BC18-BCBBC5000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C60B40-B7AC-4A98-8AB2-9BA101C86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C53D8B-385C-4082-98AF-3FA0A2341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F62F13-1376-47D3-91F0-CB0FF4EF7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6607-280C-426B-B801-329F3C083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403BD8-21C5-4602-939C-4D24EC239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FEF8D2-D471-4262-90D5-FD6119877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D7AD5D-04EC-4C3C-8A43-2AF63124E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51BF6C-6441-44B9-93A8-1F8A4E6A4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D80484-E4D2-4BC0-8F8C-2A0220508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3E3A01-63A4-4A4C-A782-FD87C9B02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EFB33E-130D-4446-B81A-A066067A8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6A6878-EA4F-4AAE-BEC0-E746F8C96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B39004-CEF8-4B66-BFF3-46FFF888E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7BA03F-9448-41B7-90FF-D2F0C4699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FDBC-02C1-4AD2-8D9F-A1DA36D91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697BB8-C75C-4ACA-A8FE-1D06072FB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61BDF7-6CFD-4E52-A362-35A2AE75D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02A70C-C060-46E3-987C-BBA8588BF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DF2924-C5A1-4D0D-892B-570DB1491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36924F-3515-485B-9F16-4A02BBCFC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CC48BD-7D13-4A8C-BD1D-8460275A6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AE4436-0073-4470-B3DE-E2CBF06FF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443E90-3D71-4DD0-912E-43681B1AF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452B40-05B0-43E4-B5F5-04368033B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2A0320-4065-4390-BC8E-B4759D408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3417-CC4B-4AC4-9351-B34B14191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ACD058-3232-4A55-BA71-C7D473422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20AD87-CA72-49BE-A049-9302768D8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34E078-8AAC-46F0-82E7-2A8A57702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A1D8FC-0E7D-4660-95D3-5908076A5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00AB15-320A-445C-BB8D-B7ED5B953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AD4428-BC58-4CE5-BD3B-5A003F911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F54842-2423-4F57-B2A1-2D202B43E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3ECE75-4BDE-42F5-A824-D2BFCE392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21E166-4CED-4443-A043-8D64F1A29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DB82A5-3051-4D18-9642-7DE9BE2FD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30B1-EBDC-46D2-96E1-8F5A85AA1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3883E9-F490-4050-98AB-F56F38556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B57E35-F1A8-42CB-89A5-D40219A6C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AD7C0E-19D3-495F-876C-B4135555B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1FB48F-7D9F-4ED9-BB7B-276687CE0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DAF4E5-558F-4847-BA2A-29A6F1230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8B2621-0355-4458-A395-BA8CEDFF5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90C40C-5314-4F2B-943B-822FC470D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FBE445-11BD-4727-850E-B1461237C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B392AE-B703-4F32-9555-9BF4F5FC1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F1C6C8-56A6-41C2-8A73-930E7C24B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3B5A7-6750-4E82-A0FD-1B1321C9D46F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CBE3B-FAE3-4D5C-BD97-61EBFE848557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CD4DF-CCAC-40E8-999C-71328FDBEAE5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7E717-299B-4A27-9929-5A265B2BAC54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E584D-9AC5-45FF-BC6A-18CB267C7696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F27B9-8B46-41EF-8BF4-CFEC06A6BDC0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84ECE-7AE2-432B-AF67-61F46BFB2E3A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FFC7F-7164-4B70-825B-4D178047FBA1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D993C-4A74-4AD7-99D5-85FD1877DF6F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Заголовок 1" descr=""/>
          <p:cNvPicPr/>
          <p:nvPr/>
        </p:nvPicPr>
        <p:blipFill>
          <a:blip r:embed="rId1"/>
          <a:stretch/>
        </p:blipFill>
        <p:spPr>
          <a:xfrm>
            <a:off x="298440" y="1036800"/>
            <a:ext cx="8717040" cy="201132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394920" y="378936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43329"/>
                </a:solidFill>
                <a:latin typeface="Times New Roman"/>
                <a:ea typeface="Times New Roman"/>
              </a:rPr>
              <a:t>Эпиграф:  Ӕмбӕлтты  фарнӕй хох дӕр нӕры,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43329"/>
                </a:solidFill>
                <a:latin typeface="Times New Roman"/>
                <a:ea typeface="Times New Roman"/>
              </a:rPr>
              <a:t>                  </a:t>
            </a:r>
            <a:r>
              <a:rPr b="1" lang="ru-RU" sz="2400" spc="-1" strike="noStrike">
                <a:solidFill>
                  <a:srgbClr val="443329"/>
                </a:solidFill>
                <a:latin typeface="Times New Roman"/>
                <a:ea typeface="Times New Roman"/>
              </a:rPr>
              <a:t>Ӕмбӕлтты  фарсмӕ амонд цӕры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43329"/>
                </a:solidFill>
                <a:latin typeface="Times New Roman"/>
                <a:ea typeface="Times New Roman"/>
              </a:rPr>
              <a:t>                                                       </a:t>
            </a:r>
            <a:r>
              <a:rPr b="1" lang="ru-RU" sz="2400" spc="-1" strike="noStrike">
                <a:solidFill>
                  <a:srgbClr val="443329"/>
                </a:solidFill>
                <a:latin typeface="Times New Roman"/>
                <a:ea typeface="Times New Roman"/>
              </a:rPr>
              <a:t>Чеджемты  Ӕхсар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1" name="В.ДЕДЕГКАЕВ - АМБАЛЫ ЗАРАГ. 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98458" fill="hold"/>
                                        <p:tgtEl>
                                          <p:spTgt spid="4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TextBox 1"/>
          <p:cNvSpPr/>
          <p:nvPr/>
        </p:nvSpPr>
        <p:spPr>
          <a:xfrm>
            <a:off x="611280" y="333360"/>
            <a:ext cx="8208720" cy="75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цы дзырдтӕн ныффыссут сӕ антонимт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ӕгъдауджын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дджын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ӕстуарзон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ыгъдӕгзӕрдӕ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ондджын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ӕларзӕрдӕ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ӕнӕхин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ъӕбатыр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ӕфсармджын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TextBox 2"/>
          <p:cNvSpPr/>
          <p:nvPr/>
        </p:nvSpPr>
        <p:spPr>
          <a:xfrm>
            <a:off x="611280" y="333360"/>
            <a:ext cx="8208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кстыл  бакуыс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Ӕрдз адӕймаджы цы бирӕ хорз миниуджытӕй фӕхайджын кодта, уыдонӕн  сӕ тӕккӕ рӕсугъ…ӕр у ӕмбалдзинад. Ӕмбалдзинад адӕймаджы уды хорз миниуджытӕй кӕнгӕ ӕмӕ аразгӕ у. Ӕрдхорд у цӕугӕ мӕсыг  иуӕй – иу хатт ӕфсымӕрӕй зынаргъдӕр. Ирон лӕг  тарст цӕмӕй ӕмбалы фыдӕх ма райса. Фынгыл иу нӕ хуыздӕр гаджидау  уыд ӕмгары цӕрӕнбо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Текст аив бакӕсу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Бамбарын кӕнут цухгонд орфограммӕтӕ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 Сӕвӕрын ӕрхӕцӕн нысӕнттӕ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TextBox 1"/>
          <p:cNvSpPr/>
          <p:nvPr/>
        </p:nvSpPr>
        <p:spPr>
          <a:xfrm>
            <a:off x="611280" y="333360"/>
            <a:ext cx="8208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ъл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ыд  ӕмбарын ӕмалдзина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Ӕцӕг ӕмбал равзарын зонын хъӕу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Ӕмбалдзинад хъахъхъӕн цӕстыгагуыйа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TextBox 1"/>
          <p:cNvSpPr/>
          <p:nvPr/>
        </p:nvSpPr>
        <p:spPr>
          <a:xfrm>
            <a:off x="611280" y="333360"/>
            <a:ext cx="820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Box 2"/>
          <p:cNvSpPr/>
          <p:nvPr/>
        </p:nvSpPr>
        <p:spPr>
          <a:xfrm>
            <a:off x="611280" y="333360"/>
            <a:ext cx="8208720" cy="66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Ӕмбӕлтты фарнӕй хох дӕр нӕры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ыдоны фарсмӕ амонд цӕры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чи дӕр  уӕ хорз ӕмбалӕн бӕззӕд,                                      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рз ӕмбалӕй хайджын уӕд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6T15:08:52Z</dcterms:created>
  <dc:creator>наргиса</dc:creator>
  <dc:description/>
  <dc:language>en-US</dc:language>
  <cp:lastModifiedBy>первый</cp:lastModifiedBy>
  <dcterms:modified xsi:type="dcterms:W3CDTF">2014-02-03T08:16:41Z</dcterms:modified>
  <cp:revision>7</cp:revision>
  <dc:subject/>
  <dc:title>Сочиненимӕ  цӕттӕгӕнӕн урок: «ӕмбалы  хорзӕх  уӕ алкӕй дӕр уӕд»</dc:title>
</cp:coreProperties>
</file>